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A958-69C6-4CD0-B473-26A47A0A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D17B-D4A3-4AB3-B45B-984AE2AB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5933-4217-4C73-AE5D-597746C6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32FE-79CD-444A-8844-D7AC11F5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3CA9-568F-43C3-A41E-22030FF2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A109-2DE4-4E35-8336-56424ACE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F0A5-CF59-4189-BD9C-D7D7AF51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ED2B-7537-4FC3-860C-0F26E9DB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71A1-4739-4B27-BCD9-CDEF0C8E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27F0-4860-471F-A39A-ED6141C1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87E6-61AD-4B0B-B2D4-1B33E03C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A36D-3804-4611-9342-7CB675EA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0EB7-B1B6-467A-B364-CCF388B8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3313-353F-463C-AF18-B694876F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0969-314D-4A3B-997D-C6ECDFF6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1DE6-4A6B-4278-9F85-841F2DCF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A862-DE7D-4E4A-8E20-05261CD0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AC44-140C-4DEF-A0FA-CA74FA61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B2F-553A-421A-BA98-082DE911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BBBD-E717-4BE5-9545-B83ED92E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2E97-1F15-497F-A284-EEDF1FA2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6937-0A77-41E9-BAC9-675279F6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4FDB-5A90-488A-8D01-BB23C754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65F1-5A48-44FE-8E69-B2769101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Unicode MS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24F3-1B26-4A7F-9D74-87D4C6C172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Unicode MS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CD6B-0A0D-4698-A53C-A104B42B9D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583240" cy="63374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2276280"/>
            <a:ext cx="7605720" cy="200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ff"/>
                </a:solidFill>
                <a:latin typeface="Arial Unicode MS"/>
              </a:rPr>
              <a:t>Антивирусные </a:t>
            </a:r>
            <a:br>
              <a:rPr sz="6600"/>
            </a:br>
            <a:r>
              <a:rPr b="1" lang="en-US" sz="6600" spc="-1" strike="noStrike">
                <a:solidFill>
                  <a:srgbClr val="00ffff"/>
                </a:solidFill>
                <a:latin typeface="Arial Unicode MS"/>
              </a:rPr>
              <a:t>программы</a:t>
            </a:r>
            <a:endParaRPr b="1" lang="en-US" sz="6600" spc="-1" strike="noStrike">
              <a:solidFill>
                <a:srgbClr val="00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Unicode MS"/>
              </a:rPr>
              <a:t>DrWeb </a:t>
            </a: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Антивирусные программы семейства Dr.Web выполняют поиск и удаление известных программе вирусов из памяти и с дисков компьютера, а так же осуществляют эвристический анализ файлов и системных областей дисков компьютера. Эвристический анализ позволяет с высокой степенью вероятности обнаруживать новые, ранее неизвестные компьютерные вирусы. 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Unicode MS"/>
              </a:rPr>
              <a:t>DrWeb </a:t>
            </a: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40872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Unicode MS"/>
              </a:rPr>
              <a:t>ADinf32</a:t>
            </a: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Unicode MS"/>
              </a:rPr>
              <a:t>Ревизор диска ADinf32 - современное средство для защиты от вирусов и для контроля целостности и сохранности информации на вашем диске. Эта антивирусная программа фиксирует любые изменения в файловой системе компьютера и обладает удобным пользовательским интерфейсом. Программа ADinf  на протяжении многих лет заслуженно являются самыми популярными в России ревизорами файловых систем и успешно используются на сотнях тысяч персональных компьютеров.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Unicode MS"/>
              </a:rPr>
              <a:t>Оставаясь одним из самых надежных средств обнаружения и удаления компьютерных вирусов, программа ADinf уже давно многими используется как повседневное средство контроля за состоянием информации на дисках компьютера. Найти потерявшийся файл, проанализировать результаты сбоя компьютера, убедиться в сохранности баз данных и документов, найти, куда вдруг пропало все свободное место на диске, обнаружить и обезвредить компьютерный вирус,– все это позволяет делать ADinf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Unicode MS"/>
              </a:rPr>
              <a:t>ADinf32 </a:t>
            </a: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4880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Unicode MS"/>
              </a:rPr>
              <a:t>Avast</a:t>
            </a: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80661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Unicode MS"/>
              </a:rPr>
              <a:t>Norton Antivirus</a:t>
            </a: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Norton Antivirus</a:t>
            </a: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 является «самым-самым» сразу по целому ряду позиций. Самый красивый, самый логично устроенный. Обладатель самой большой базы данных вирусов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Norton Antiviras</a:t>
            </a: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 — программа на редкость «въедливая», из-под ее контроля не уйдет ни один запущенный на компьютере процесс. После установки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Norton Antivirus</a:t>
            </a: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 (например, в составе комплекта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Norton System Works</a:t>
            </a: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) о ней можно вообще забыть —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NAV</a:t>
            </a: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 сама проконтролирует все, что нужно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Unicode MS"/>
              </a:rPr>
              <a:t>Антивирус Касперского</a:t>
            </a: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218440" cy="547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В состав Kaspersky AntiVirus Personal Pro входят: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Kaspersky AntiVirus Сканер, 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Kaspersky AntiVirus Монитор,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Kaspersky AntiVirus Центр управления. 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AVP Сканер имеет удобный пользовательский интерфейс, большое количество настроек, выбираемых пользователем, а также одну из самых больших в мире антивирусных баз, что гарантирует надежную защиту от огромного числа самых разнообразных вирусов: полиморфных или самошифрующихся вирусов; стелс-вирусов или вирусов-невидимок; макро вирусов, заражающих документы Word и таблицы Excel.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AVP Сканер проверяет на наличие вирусов оперативную память, файлы, включая архивные и упакованные, системные сектора, содержащие Master Boot Record, загрузочный сектор (Boot-сектор) и таблицу разбиения диска (Partition Table).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AVP Монитор – резидентный модуль, находящийся постоянно в оперативной памяти компьютера и отслеживающий все файловые операции в системе. Позволяет обнаружить и удалить вирус до момента реального заражения системы в целом. 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AVP Центр управления обеспечивает удобный пользовательский интерфейс, создание, сохранение и загрузку большого количества различных настроек, механизм проверки целостности антивирусной системы, мощную систему помощи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Unicode MS"/>
              </a:rPr>
              <a:t>Антивирус Касперского</a:t>
            </a:r>
            <a:endParaRPr b="1" lang="en-US" sz="4400" spc="-1" strike="noStrike">
              <a:solidFill>
                <a:srgbClr val="00ffff"/>
              </a:solidFill>
              <a:latin typeface="Arial Unicode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15447" t="14218" r="15321" b="19119"/>
          <a:stretch/>
        </p:blipFill>
        <p:spPr>
          <a:xfrm>
            <a:off x="1476360" y="1628640"/>
            <a:ext cx="669924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0:13:57Z</dcterms:created>
  <dc:creator>Гаврыш</dc:creator>
  <dc:description/>
  <dc:language>en-US</dc:language>
  <cp:lastModifiedBy>Гаврыш</cp:lastModifiedBy>
  <dcterms:modified xsi:type="dcterms:W3CDTF">2006-05-09T10:51:21Z</dcterms:modified>
  <cp:revision>11</cp:revision>
  <dc:subject/>
  <dc:title>Антивирусные программы</dc:title>
</cp:coreProperties>
</file>