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7.jpeg" ContentType="image/jpeg"/>
  <Override PartName="/ppt/media/image6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2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CE0E-B8E1-4B6D-9003-A2A3BC3F56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CDB5-0930-4E91-B82D-2807021A85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8A36-CE60-4A62-A529-476F608C34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62AF-87CB-466E-BE1F-DBF1706835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0011-1051-4A2A-A31D-9F32A6B23F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525C-9C28-4078-954B-57D9C3A1DD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18DE-8F54-4F4E-AD4F-F5EBD1362B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077A-E399-407D-BDAE-10266F7CCB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999C-28F1-4DB0-97AC-959FA6C484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12EC-48A4-4715-A82C-0A121D32E7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B99E-3CDA-405E-AABE-7C2E8287E3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D4B8-A6B8-4F31-937A-9F2646F35E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FCA3-602D-48C0-9302-B9A830A263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AC4E-9F08-4C1C-97FC-28DF15F2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B1B5-10FE-4761-A647-C020BACD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7E27-C662-49AB-A341-8CA6036F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034E-C25D-4405-B00D-D5E390AD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8E13-F0D6-4E68-B294-22DAE4C0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014B-AAAA-4EB0-B442-4C0803AA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A287-9A7A-45B3-8E59-4DE71852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AAAB-12FA-4AFB-8884-6F3B0DB0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C5E9-5C90-49BD-88E1-18AA36D4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1F1D-4A07-4043-98BD-0D441DF9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F8C2-060B-4389-9383-1ED95CC8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294-15C4-4FE2-A290-4E00D92E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E382-B12C-4CB8-A69E-E9FB2CDA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F59E-5326-4AE5-8F76-07AEA2CA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42C5-AA1D-4E72-9BAD-B954698C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DCCB-4366-4446-815D-182ADD09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BE2E-9B2E-448C-B46B-F8B42C4D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90A42-979B-4E6F-8E00-D5E01811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B8546-4F44-4EF4-B880-F6075300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43E46-C968-4E68-BBD4-05F474BB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053D0-94D6-4447-A15F-C6EDE377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9A8C6-E217-4668-BC50-4A55FDDE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7A38-EEC0-4BC2-935D-4B3346F4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47B63-B41E-4AFC-B827-5E63E849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992BC-0A1E-45AD-8611-54137A4E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7231B-C9B8-437D-8F1E-2F90AB2E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22522-A4F7-49E6-AE37-FD4F4D4B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5AAF9-09CE-446C-9E47-D8213C55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BC8ED-2EF0-4092-B88A-F6515275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FB814-95E7-4301-9EB8-6153FF1F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D0AAA-A35E-45AB-82A2-0CDD821B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06A66-5110-4231-AAD0-C4C3BB74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670C3-F928-41DE-9222-EC8E216D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DCA4-8EB3-4D9F-BF27-C593DECF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48701-AB6D-4601-9CCD-F5B41560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7344C-CBB4-46A4-B05C-B735F334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B6925-7BB9-4326-A0BA-9558871B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48851-7FEC-4946-B317-800E7AEE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ED703-A763-4A23-975D-9E04D25F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FA68C-8537-4D0E-AB99-7FD2E5BF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16679-0D2F-4797-908C-D50FB56B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92B96-96C3-4879-BB84-46D5A8FA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87E5A-FF47-46C0-9199-A779FC99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52B73-8E67-4E8B-9EE5-EBE9F34C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78FE-9CE7-46AF-9E5D-198FB2A5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EB639-2062-45FC-8A99-9EA85C26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41549-E242-4FEA-A5E7-32DE6DDE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D8DC6-387D-4470-9BDD-0E7AFE28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C952B-51B2-40F7-BCDD-B11053D2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92BE9-8641-418D-B5A6-D58AC936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01904-0546-468F-9DE9-07D0B70B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0B870-6776-4BCE-B0F8-DE0883DF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9E866-5F55-4372-A1C3-AC0CB7DA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93C92-B17D-4B63-910B-100363FA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49C24-3C29-4C33-89FE-FFDDD098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52E4-9BA8-4917-ABFA-50759F71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C1559-3882-47F5-8D80-300F399C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13E03-737F-43FF-A26E-78FE0DEF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5A4CE-0689-459F-8D2D-362A99E1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AE380-37EA-4D1D-AFF3-0BC05547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DA8ED-78A6-4A73-B003-298A794D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EB649-7C2D-42DB-B3B8-45769D64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E96F3-5016-4D92-A0F0-D7A8BD24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8AAD0-94A2-4333-8CC1-2C79BF46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BA822-6390-459A-A503-0DE89635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A3EAE-E628-4583-842D-D1D4AFE8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2403-F6D0-4354-81DD-76E5FD16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2FC39-63FB-435D-B735-5FA54FC8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66CD6-A352-4D74-B310-0BCD8485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5F8C2-9651-4222-B4F6-5ED626BB1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B7E06-33CE-489E-B016-C6D132AD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22BF6-71EF-4DD6-A311-D37CAF58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AC7C8-A129-4532-8000-C3D44DD1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518D4-386B-4308-B1E0-F8578B76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CC890-455B-4B0F-BC4A-A0F750AD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15B3E-E6A5-485F-9DEC-C609CCC2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68098-E3AA-43D7-B410-A4B7E8F2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8C18-8533-4CBE-8FEB-01EA88E0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685EF-E2DE-4FFF-BC78-AD2C75D8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22184-258A-4462-A366-8A806BDD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5F741-9954-440F-9DDB-03DDDE05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39174-CAD5-4A08-B728-084F5BF02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A7791-9D49-4237-BDC5-F837A454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9CBD-73AA-4554-A266-D0933D94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FFBE-2678-4222-B70E-F2BC7EC68BA8}" type="datetime">
              <a:rPr b="0" lang="en-US" sz="1200" spc="-1" strike="noStrike">
                <a:solidFill>
                  <a:srgbClr val="b5a788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5A9F-5D02-4B02-9456-0DBDB8C1AEDA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E821-7D15-4F35-94C1-98ACC56BCD6C}" type="datetime">
              <a:rPr b="0" lang="en-US" sz="1200" spc="-1" strike="noStrike">
                <a:solidFill>
                  <a:srgbClr val="b5a788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BE1C-DA8F-42B1-82BF-4861ACBEED89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D368-44CD-4058-B254-50250492AB60}" type="datetime">
              <a:rPr b="0" lang="en-US" sz="1200" spc="-1" strike="noStrike">
                <a:solidFill>
                  <a:srgbClr val="b5a788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6E98-1181-4CF3-BF62-78195169A36C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CD64-DF62-43DA-B75A-4A95BAB49DFB}" type="datetime">
              <a:rPr b="0" lang="en-US" sz="1200" spc="-1" strike="noStrike">
                <a:solidFill>
                  <a:srgbClr val="b5a788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845B-86F0-4FCD-BBB8-C2723BAA0796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9AC0-B091-4F89-89FC-C45D120DA9BA}" type="datetime">
              <a:rPr b="0" lang="en-US" sz="1200" spc="-1" strike="noStrike">
                <a:solidFill>
                  <a:srgbClr val="b5a788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5EFE-5E09-4278-9402-389CF3DB4904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D8A8-0639-4011-945D-F38F22CBA90C}" type="datetime">
              <a:rPr b="0" lang="en-US" sz="1200" spc="-1" strike="noStrike">
                <a:solidFill>
                  <a:srgbClr val="b5a788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A1D5-71F9-4F88-8E22-93D8D7DA8BF3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FFC5-9DF2-458A-A062-3AC61F57B1BF}" type="datetime">
              <a:rPr b="0" lang="en-US" sz="1200" spc="-1" strike="noStrike">
                <a:solidFill>
                  <a:srgbClr val="b5a788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57D1-DD25-4390-B7F3-7CC6E3BD5116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Прямоугольник 3" descr=""/>
          <p:cNvPicPr/>
          <p:nvPr/>
        </p:nvPicPr>
        <p:blipFill>
          <a:blip r:embed="rId2"/>
          <a:stretch/>
        </p:blipFill>
        <p:spPr>
          <a:xfrm>
            <a:off x="781200" y="963720"/>
            <a:ext cx="7162560" cy="25351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C:\Users\School101\Desktop\вирусы\i.jpeg"/>
          <p:cNvPicPr/>
          <p:nvPr/>
        </p:nvPicPr>
        <p:blipFill>
          <a:blip r:embed="rId3"/>
          <a:stretch/>
        </p:blipFill>
        <p:spPr>
          <a:xfrm>
            <a:off x="1000080" y="4168800"/>
            <a:ext cx="2184480" cy="26892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Users\School101\Desktop\вирусы\222.jpeg"/>
          <p:cNvPicPr/>
          <p:nvPr/>
        </p:nvPicPr>
        <p:blipFill>
          <a:blip r:embed="rId4"/>
          <a:stretch/>
        </p:blipFill>
        <p:spPr>
          <a:xfrm>
            <a:off x="7572240" y="142920"/>
            <a:ext cx="136368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2357280" y="0"/>
            <a:ext cx="6786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Шпионские программ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Шпионская программа (Spyware) - это программный продукт, установленный или проникший на компьютер без согласия его владельца,  с целью получения практически полного доступа к компьютеру, сбора и отслеживания личной или конфиденциальной информации.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Эти программы, как правило, проникают на компьютер при помощи сетевых червей, троянских программ или под видом рекламы 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дной из разновидностей шпионских программ являются :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Фишинг (Phishing)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это почтовая рассылка имеющая своей целью получение конфиденциальной финансовой информации. Такое письмо, как правило, содержит ссылку на сайт, являющейся точной копией интернет-банка или другого финансового учреждения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Фарминг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то замаскированная форма фишинга, заключающаяся в том, что при попытке зайти на официальный сайт интернет банка или коммерческой организации,  пользователь автоматически перенаправляется на ложный сайт, который очень трудно отличить от официального сайт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сновной целью злоумышленников, использующих Фарминг, является завладение личной финансовой информацией пользователя.  Отличие заключается только в том, что вместо электронной почты мошенники используют более изощренные методы направления пользователя на фальшивый сайт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9" name="Picture 2" descr="C:\Users\School101\Desktop\вирусы\sla.jpg"/>
          <p:cNvPicPr/>
          <p:nvPr/>
        </p:nvPicPr>
        <p:blipFill>
          <a:blip r:embed="rId2"/>
          <a:stretch/>
        </p:blipFill>
        <p:spPr>
          <a:xfrm>
            <a:off x="0" y="2357280"/>
            <a:ext cx="2217600" cy="18576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C:\Users\School101\Desktop\вирусы\333.jpeg"/>
          <p:cNvPicPr/>
          <p:nvPr/>
        </p:nvPicPr>
        <p:blipFill>
          <a:blip r:embed="rId3"/>
          <a:stretch/>
        </p:blipFill>
        <p:spPr>
          <a:xfrm>
            <a:off x="571680" y="285840"/>
            <a:ext cx="1589040" cy="1479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C:\Users\School101\Desktop\вирусы\555.jpeg"/>
          <p:cNvPicPr/>
          <p:nvPr/>
        </p:nvPicPr>
        <p:blipFill>
          <a:blip r:embed="rId4"/>
          <a:stretch/>
        </p:blipFill>
        <p:spPr>
          <a:xfrm>
            <a:off x="642960" y="4643280"/>
            <a:ext cx="159372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572314"/>
                </a:solidFill>
                <a:uFillTx/>
                <a:latin typeface="Corbel"/>
              </a:rPr>
              <a:t>Хакерские утилиты и прочие вредоносные программы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1214280"/>
            <a:ext cx="70009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К данной категории относятся: 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утилиты автоматизации создания вирусов, червей и троянских программ (конструкторы)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граммные библиотеки, разработанные для создания вредоносного ПО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хакерские утилиты скрытия кода зараженных файлов от антивирусной проверки (шифровальщики файлов)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«злые шутки», затрудняющие работу с компьютером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граммы, сообщающие пользователю заведомо ложную информацию о своих действиях в системе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чие программы, тем или иным способом намеренно наносящие прямой или косвенный ущерб данному или удалённым компьютерам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2" descr="C:\Users\School101\Desktop\вирусы\computer_virus.gif"/>
          <p:cNvPicPr/>
          <p:nvPr/>
        </p:nvPicPr>
        <p:blipFill>
          <a:blip r:embed="rId2"/>
          <a:stretch/>
        </p:blipFill>
        <p:spPr>
          <a:xfrm>
            <a:off x="6978600" y="3357720"/>
            <a:ext cx="2165400" cy="25714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C:\Users\School101\Desktop\вирусы\4.jpeg"/>
          <p:cNvPicPr/>
          <p:nvPr/>
        </p:nvPicPr>
        <p:blipFill>
          <a:blip r:embed="rId3"/>
          <a:stretch/>
        </p:blipFill>
        <p:spPr>
          <a:xfrm>
            <a:off x="7358040" y="1500120"/>
            <a:ext cx="15001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7497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572314"/>
                </a:solidFill>
                <a:uFillTx/>
                <a:latin typeface="Corbel"/>
              </a:rPr>
              <a:t>Каналы распространения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00080" y="642960"/>
            <a:ext cx="8143920" cy="68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rbel"/>
              </a:rPr>
              <a:t>Дискеты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Самый распространённый канал заражения в 1980-90 годы. Сейчас практически отсутствует из-за появления более распространённых и эффективных каналов и отсутствия флоппи-дисководов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rbel"/>
              </a:rPr>
              <a:t>Флеш-накопители (флешки)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В настоящее время USB-флешки заменяют дискеты и повторяют их судьбу — большое количество вирусов распространяется через съёмные накопители, включая цифровые фотоаппараты, цифровые видеокамеры, цифровые плееры (MP3-плееры), сотовые телефоны. Использование этого канала преимущественно обусловлено возможностью создания на накопителе специального файла </a:t>
            </a: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Corbel"/>
              </a:rPr>
              <a:t>autorun.inf, </a:t>
            </a: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в котором можно указать программу, запускаемую Проводником Windows при открытии такого накопителя. Флешки — основной источник заражения для компьютеров, не подключённых к сети Интернет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rbel"/>
              </a:rPr>
              <a:t>Электронная почта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Сейчас один из основных каналов распространения вирусов. Обычно вирусы в письмах электронной почты маскируются под безобидные вложения: картинки, документы, музыку, ссылки на сайты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rbel"/>
              </a:rPr>
              <a:t>Системы обмена мгновенными сообщениями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Так же распространена рассылка ссылок на якобы фото, музыку либо программы, в действительности являющиеся вирусами, по ICQ и через другие программы мгновенного обмена сообщениям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rbel"/>
              </a:rPr>
              <a:t>Веб-страницы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Возможно также заражение через страницы Интернет ввиду наличия на страницах всемирной паутины различного «активного» содержимого: скриптов, ActiveX-компоненты, Java-апплетов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rbel"/>
              </a:rPr>
              <a:t>Интернет и локальные сети (черви)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Черви — вид вирусов, которые проникают на компьютер-жертву без участия пользователя. Черви используют так называемые «дыры» (уязвимости) в программном обеспечении операционных систем, чтобы проникнуть на компьютер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8" name="Picture 3" descr="C:\Program Files\Microsoft Office\CLIPART\PUB60COR\PH02746G.GIF"/>
          <p:cNvPicPr/>
          <p:nvPr/>
        </p:nvPicPr>
        <p:blipFill>
          <a:blip r:embed="rId2"/>
          <a:stretch/>
        </p:blipFill>
        <p:spPr>
          <a:xfrm>
            <a:off x="0" y="714240"/>
            <a:ext cx="1460520" cy="976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C:\Users\School101\Desktop\вирусы\55.jpeg"/>
          <p:cNvPicPr/>
          <p:nvPr/>
        </p:nvPicPr>
        <p:blipFill>
          <a:blip r:embed="rId3"/>
          <a:stretch/>
        </p:blipFill>
        <p:spPr>
          <a:xfrm>
            <a:off x="214200" y="3071880"/>
            <a:ext cx="928800" cy="838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F:\1.jpeg"/>
          <p:cNvPicPr/>
          <p:nvPr/>
        </p:nvPicPr>
        <p:blipFill>
          <a:blip r:embed="rId4"/>
          <a:stretch/>
        </p:blipFill>
        <p:spPr>
          <a:xfrm>
            <a:off x="285840" y="5500800"/>
            <a:ext cx="776160" cy="826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F:\2.jpeg"/>
          <p:cNvPicPr/>
          <p:nvPr/>
        </p:nvPicPr>
        <p:blipFill>
          <a:blip r:embed="rId5"/>
          <a:stretch/>
        </p:blipFill>
        <p:spPr>
          <a:xfrm>
            <a:off x="214200" y="4071960"/>
            <a:ext cx="908280" cy="907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F:\3.jpeg"/>
          <p:cNvPicPr/>
          <p:nvPr/>
        </p:nvPicPr>
        <p:blipFill>
          <a:blip r:embed="rId6"/>
          <a:stretch/>
        </p:blipFill>
        <p:spPr>
          <a:xfrm>
            <a:off x="0" y="1928880"/>
            <a:ext cx="119556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28440" y="1447560"/>
            <a:ext cx="442908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Под </a:t>
            </a:r>
            <a:r>
              <a:rPr b="1" i="1" lang="en-US" sz="3000" spc="-1" strike="noStrike">
                <a:solidFill>
                  <a:srgbClr val="000000"/>
                </a:solidFill>
                <a:latin typeface="Corbel"/>
              </a:rPr>
              <a:t>компьютерным вирусом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принято понимать программы или элементы программ, несанкционированно проникшие в компьютер с целью нанесения вреда, отличительной особенностью которых является способность самотиражирования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Прямоугольник 4" descr=""/>
          <p:cNvPicPr/>
          <p:nvPr/>
        </p:nvPicPr>
        <p:blipFill>
          <a:blip r:embed="rId2"/>
          <a:stretch/>
        </p:blipFill>
        <p:spPr>
          <a:xfrm>
            <a:off x="2620800" y="-390600"/>
            <a:ext cx="4975560" cy="20541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C:\Users\School101\Desktop\вирусы\66.jpeg"/>
          <p:cNvPicPr/>
          <p:nvPr/>
        </p:nvPicPr>
        <p:blipFill>
          <a:blip r:embed="rId3"/>
          <a:stretch/>
        </p:blipFill>
        <p:spPr>
          <a:xfrm>
            <a:off x="6000840" y="2071800"/>
            <a:ext cx="27144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72314"/>
                </a:solidFill>
                <a:latin typeface="Corbel"/>
              </a:rPr>
              <a:t>Все вирусы можно объединить в следующие основные группы: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00080" y="1447560"/>
            <a:ext cx="793440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Загрузочные вирусы (boot – вирусы)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— инфицируют загрузочные секторы жестких дисков и дискет, помещая в нем команды запуска на исполнение самого вируса, который находится где-то в другом месте компьютер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Файловые вирусы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— заражают исполняемые файлы (с расширением .com, .exe, .sys), путем дописывания своей основной части («тела») в конец заражаемой программы, «головы» - в его начало. Вирус, находящийся в памяти, заражает все любой запущенный после этого исполняемый фай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Загрузочно-файловые вирусы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способны поражать как код загрузочных секторов, так и код файл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Сетевые вирусы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Picture 2" descr="C:\Program Files\Microsoft Office\CLIPART\PUB60COR\PH02746G.GIF"/>
          <p:cNvPicPr/>
          <p:nvPr/>
        </p:nvPicPr>
        <p:blipFill>
          <a:blip r:embed="rId2"/>
          <a:stretch/>
        </p:blipFill>
        <p:spPr>
          <a:xfrm>
            <a:off x="6907320" y="5362560"/>
            <a:ext cx="22366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857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8898c3"/>
                </a:solidFill>
                <a:latin typeface="Corbel"/>
              </a:rPr>
              <a:t>Загрузочные вирусы (boot – вирусы</a:t>
            </a:r>
            <a:r>
              <a:rPr b="1" i="1" lang="ru-RU" sz="4000" spc="-1" strike="noStrike">
                <a:solidFill>
                  <a:srgbClr val="8898c3"/>
                </a:solidFill>
                <a:latin typeface="Corbel"/>
              </a:rPr>
              <a:t>)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24000" y="785520"/>
            <a:ext cx="62150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Corbel"/>
              </a:rPr>
              <a:t>Макро-вирусы.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Заражает файлы документов, например текстовые документы. После загрузки заражённого документа постоянно находится в оперативной памяти до закрытия документ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rbel"/>
              </a:rPr>
              <a:t>«Червь».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это программа, которая тиражируется на жестком диске, в памяти компьютера и распространяется по сет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Особенностью червей, отличающих их от других вирусов, является то, что они не несут в себе ни какой вредоносной нагрузки, кроме саморазмножения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целью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которого является замусоривание памяти, и как следствие, затормаживание работы операционной системы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Picture 2" descr="C:\Users\School101\Desktop\вирусы\44.jpeg"/>
          <p:cNvPicPr/>
          <p:nvPr/>
        </p:nvPicPr>
        <p:blipFill>
          <a:blip r:embed="rId2"/>
          <a:stretch/>
        </p:blipFill>
        <p:spPr>
          <a:xfrm>
            <a:off x="7215120" y="4143240"/>
            <a:ext cx="1782720" cy="1333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C:\Users\School101\Desktop\вирусы\9.jpeg"/>
          <p:cNvPicPr/>
          <p:nvPr/>
        </p:nvPicPr>
        <p:blipFill>
          <a:blip r:embed="rId3"/>
          <a:stretch/>
        </p:blipFill>
        <p:spPr>
          <a:xfrm>
            <a:off x="7000920" y="1643040"/>
            <a:ext cx="17906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57120" y="928800"/>
            <a:ext cx="87868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К данной категории относятся программы, распространяющие свои копии по локальным и/или глобальным сетям с целью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rbel"/>
              </a:rPr>
              <a:t>проникновения на удаленные компьютеры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rbel"/>
              </a:rPr>
              <a:t>запуска своей копии на удаленном компьютере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rbel"/>
              </a:rPr>
              <a:t>дальнейшего распространения на другие компьютеры в сет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Для своего распространения сетевые черви используют разнообразные компьютерные и мобильные сети: электронную почту, системы обмена мгновенными сообщениями, сети обмена данными между мобильными устройствами (телефонами, карманными компьютерами) и т. д.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Прямоугольник 3" descr=""/>
          <p:cNvPicPr/>
          <p:nvPr/>
        </p:nvPicPr>
        <p:blipFill>
          <a:blip r:embed="rId2"/>
          <a:stretch/>
        </p:blipFill>
        <p:spPr>
          <a:xfrm>
            <a:off x="1438200" y="-195120"/>
            <a:ext cx="6108840" cy="1811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C:\Users\School101\Desktop\вирусы\003.jpg"/>
          <p:cNvPicPr/>
          <p:nvPr/>
        </p:nvPicPr>
        <p:blipFill>
          <a:blip r:embed="rId3"/>
          <a:stretch/>
        </p:blipFill>
        <p:spPr>
          <a:xfrm>
            <a:off x="6286680" y="3981600"/>
            <a:ext cx="2857320" cy="2876400"/>
          </a:xfrm>
          <a:prstGeom prst="rect">
            <a:avLst/>
          </a:prstGeom>
          <a:ln w="0">
            <a:noFill/>
          </a:ln>
        </p:spPr>
      </p:pic>
      <p:sp>
        <p:nvSpPr>
          <p:cNvPr id="341" name="TextBox 5"/>
          <p:cNvSpPr/>
          <p:nvPr/>
        </p:nvSpPr>
        <p:spPr>
          <a:xfrm>
            <a:off x="357120" y="3786120"/>
            <a:ext cx="571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ольшинство известных червей распространяется в виде файлов: вложение в электронное письмо, ссылка на зараженный файл на каком-либо веб- или FTP-ресурсе в ICQ-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которые черви (так называемые «бесфайловые» или «пакетные» черви) распространяются в виде сетевых пакетов, проникают непосредственно в память компьютера и активизируют свой код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В дополнение к этой классификации отметим еще несколько отличительных особенностей, характеризующих некоторые файлово  -загрузочные вирусы.</a:t>
            </a:r>
            <a:br>
              <a:rPr sz="24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856880" y="928800"/>
            <a:ext cx="72867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олиморфизм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Большинство вирусов, созданных в прежние годы, при саморазмножении никак не изменяются, так что «потомки» являются абсолютно точной копией «прародителя», что и позволяет легко их обнаруживать по характерной для каждого последовательности байтов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Стелс» - технология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Этот термин появился по аналогии с названием технологии разработки американского бомбардировщика, невидимого на экране радара. Стелс-вирус, находясь в памяти компьютера, перехватывает почти все векторы прерываний . В результате при попытке контроля длины зараженного файла ДОС выдает старую, «правильную» длину вместо истинной, а при просмотре коды вируса исключаются им из рассмотрения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Логические бомбы».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Такая программа добавляется к какой-либо полезной программе и «дремлет» в ней до определенного часа. Когда же показания системного счетчика времени данного компьютера станут равными установленному программистом значению часов, минут и секунд (или превысят их), производится какое-либо разрушающее действие, например, форматирование винчестера. Это один из распространенных вариантов мести обиженных программистов своему руководству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рограммы-вандал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Самый простой способ напакостить всем и вся. Пишется программа-разрушитель (например, все тот же форматировщик винчестера), ей дается название, такое же, как у другой, полезной программы, и она размещается в качестве «обновленной версии». Ничего не подозревающий пользователь обрадовано «скачивает» ее на свой компьютер и запускает, а в результате - лишается всей информации на жестком диске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3" descr="F:\c6a9757012955e883d2ad9f8b8e300ed.jpg"/>
          <p:cNvPicPr/>
          <p:nvPr/>
        </p:nvPicPr>
        <p:blipFill>
          <a:blip r:embed="rId2"/>
          <a:stretch/>
        </p:blipFill>
        <p:spPr>
          <a:xfrm>
            <a:off x="0" y="1928880"/>
            <a:ext cx="1776240" cy="17762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C:\Users\School101\Desktop\вирусы\11.jpeg"/>
          <p:cNvPicPr/>
          <p:nvPr/>
        </p:nvPicPr>
        <p:blipFill>
          <a:blip r:embed="rId3"/>
          <a:stretch/>
        </p:blipFill>
        <p:spPr>
          <a:xfrm>
            <a:off x="324000" y="3573360"/>
            <a:ext cx="1396800" cy="11304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F:\i.jpeg"/>
          <p:cNvPicPr/>
          <p:nvPr/>
        </p:nvPicPr>
        <p:blipFill>
          <a:blip r:embed="rId4"/>
          <a:stretch/>
        </p:blipFill>
        <p:spPr>
          <a:xfrm>
            <a:off x="258840" y="5159520"/>
            <a:ext cx="167004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28560" y="0"/>
            <a:ext cx="43513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898c3"/>
                </a:solidFill>
                <a:latin typeface="Corbel"/>
              </a:rPr>
              <a:t>Сетевые вирусы.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928440" y="928800"/>
            <a:ext cx="55004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Логические бомбы» - скрипты и апплет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И хотя основные функции доступа к содержимому вашего диска здесь отключены, некоторые мелкие неприятности это может доставить. Кстати, в последнее время создатели некоторых сайтов (как правило, из разряда «только для взрослых») освоили любопытный вариант скриптов (на базе JavaScript), способных при открытии такой Web-страницы не только «прописать» адрес данного сайта в качестве «домашнего» (естественно, не спрашивая у посетителя разрешения), но и внести его непосредственно в системный реестр Windows в качестве «базового»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Троянские кони».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Это модули, присоединяемые к каким-либо нормальным программам, распространяемым по сети, или «забрасываемые» в ваш компьютер несанкционированным способом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Цель «троянского коня» - воровать ценную информацию (пароли доступа, номера кредитных карточек и т. п.) и передавать ее тому, кто этого «коня» запустил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очтовые вирус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Чаще всего заражение начинается с получения неизвестно от кого письма, содержащего исполняемую программу-«зародыш» . Когда ничего не подозревающий пользователь запустит такую программу на исполнение, содержащийся в ней вирус «прописывается» в системе и, обращаясь к содержимому адресной книги, начинает тайком от вас рассылать всем абонентам свои копии-зародыши в качестве вложений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3" descr="C:\Users\School101\Desktop\вирусы\8.jpeg"/>
          <p:cNvPicPr/>
          <p:nvPr/>
        </p:nvPicPr>
        <p:blipFill>
          <a:blip r:embed="rId2"/>
          <a:stretch/>
        </p:blipFill>
        <p:spPr>
          <a:xfrm>
            <a:off x="7531200" y="2928960"/>
            <a:ext cx="1612800" cy="1784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C:\Users\School101\Desktop\вирусы\283527_3.jpg"/>
          <p:cNvPicPr/>
          <p:nvPr/>
        </p:nvPicPr>
        <p:blipFill>
          <a:blip r:embed="rId3"/>
          <a:stretch/>
        </p:blipFill>
        <p:spPr>
          <a:xfrm>
            <a:off x="6694560" y="1143000"/>
            <a:ext cx="2449440" cy="16635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C:\Users\School101\Desktop\вирусы\10203.gif"/>
          <p:cNvPicPr/>
          <p:nvPr/>
        </p:nvPicPr>
        <p:blipFill>
          <a:blip r:embed="rId4"/>
          <a:stretch/>
        </p:blipFill>
        <p:spPr>
          <a:xfrm>
            <a:off x="6500880" y="4708440"/>
            <a:ext cx="166032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572314"/>
                </a:solidFill>
                <a:uFillTx/>
                <a:latin typeface="Corbel"/>
              </a:rPr>
              <a:t>Вирусы делятся также на резидентные и нерезидентны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первые при получении управления загружаются в память и могут действовать, в отличие от нерезидентных, не только во время работы зараженного файл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4980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Дополнительные типы вирус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28800" y="928800"/>
            <a:ext cx="60004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898c3"/>
                </a:solidFill>
                <a:uFillTx/>
                <a:latin typeface="Corbel"/>
              </a:rPr>
              <a:t>Зомби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Зомби (Zombie) - это программа-вирус, которая после проникновения в компьютер, подключенный к сети Интернет управляется извне и используется злоумышленниками для организации атак на другие компьютеры. Зараженные таким образом компьютеры-зомби могут объединяться в сети, через которые рассылается огромное количество нежелательных сообщений электронной почты, а также распространяются вирусы и другие вредоносные программы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2" descr="C:\Users\School101\Desktop\вирусы\33.jpeg"/>
          <p:cNvPicPr/>
          <p:nvPr/>
        </p:nvPicPr>
        <p:blipFill>
          <a:blip r:embed="rId2"/>
          <a:stretch/>
        </p:blipFill>
        <p:spPr>
          <a:xfrm>
            <a:off x="7072200" y="1143000"/>
            <a:ext cx="1214640" cy="17352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C:\Users\School101\Desktop\вирусы\imgload.gif"/>
          <p:cNvPicPr/>
          <p:nvPr/>
        </p:nvPicPr>
        <p:blipFill>
          <a:blip r:embed="rId3"/>
          <a:stretch/>
        </p:blipFill>
        <p:spPr>
          <a:xfrm>
            <a:off x="6858000" y="3429000"/>
            <a:ext cx="20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6:17:49Z</dcterms:created>
  <dc:creator>School101</dc:creator>
  <dc:description/>
  <dc:language>en-US</dc:language>
  <cp:lastModifiedBy>FuckYouBill</cp:lastModifiedBy>
  <dcterms:modified xsi:type="dcterms:W3CDTF">2010-04-02T20:46:29Z</dcterms:modified>
  <cp:revision>22</cp:revision>
  <dc:subject/>
  <dc:title>Слайд 1</dc:title>
</cp:coreProperties>
</file>