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E8B-93C6-40B2-BADF-0C4DE5A1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03A-BCEC-4161-A810-A5F8D97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C08-5C90-4318-82E6-FE38B92F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A85-C4C2-45BD-9469-0C13C80F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8DB-FA44-4757-B09E-5784B2F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D98-A678-4E40-A5C1-84FE17AF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A74-0EA9-47D5-8CDB-11C65457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F7E-F598-4788-976F-7EDAFB0A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C96-EF5F-435C-96C1-69AD93FB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861-35B6-407E-B18D-344BE64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926-4E8B-4ADE-A662-E153DE4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021-740F-4A84-9D23-88A0B07A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47B4-79E5-4D49-8691-0D03A3D9E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838080" y="762120"/>
            <a:ext cx="32101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llo my friends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am Jasmine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" name="WordArt 10"/>
          <p:cNvGrpSpPr/>
          <p:nvPr/>
        </p:nvGrpSpPr>
        <p:grpSpPr>
          <a:xfrm>
            <a:off x="530280" y="4260960"/>
            <a:ext cx="4535280" cy="1585800"/>
            <a:chOff x="530280" y="4260960"/>
            <a:chExt cx="4535280" cy="1585800"/>
          </a:xfrm>
        </p:grpSpPr>
        <p:pic>
          <p:nvPicPr>
            <p:cNvPr id="43" name="WordArt 10" descr=""/>
            <p:cNvPicPr/>
            <p:nvPr/>
          </p:nvPicPr>
          <p:blipFill>
            <a:blip r:embed="rId2"/>
            <a:stretch/>
          </p:blipFill>
          <p:spPr>
            <a:xfrm>
              <a:off x="530280" y="4260960"/>
              <a:ext cx="453528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33520" y="4267080"/>
              <a:ext cx="4524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й друг Аладди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дарил мне алмаз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ных цветов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йцу (3)"/>
          <p:cNvPicPr/>
          <p:nvPr/>
        </p:nvPicPr>
        <p:blipFill>
          <a:blip r:embed="rId1"/>
          <a:stretch/>
        </p:blipFill>
        <p:spPr>
          <a:xfrm>
            <a:off x="0" y="0"/>
            <a:ext cx="914400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Копия (2) 1-4 класс (70)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1-4 класс (71)"/>
          <p:cNvPicPr/>
          <p:nvPr/>
        </p:nvPicPr>
        <p:blipFill>
          <a:blip r:embed="rId1"/>
          <a:stretch/>
        </p:blipFill>
        <p:spPr>
          <a:xfrm>
            <a:off x="609480" y="0"/>
            <a:ext cx="78487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1234190338_alladin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Копия (3) 1-4 класс (70)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lladin_jasmin_k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4648320" y="1219320"/>
            <a:ext cx="37335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by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1244462203_alladi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WordArt 10"/>
          <p:cNvGrpSpPr/>
          <p:nvPr/>
        </p:nvGrpSpPr>
        <p:grpSpPr>
          <a:xfrm>
            <a:off x="603360" y="378000"/>
            <a:ext cx="2682720" cy="469800"/>
            <a:chOff x="603360" y="378000"/>
            <a:chExt cx="2682720" cy="469800"/>
          </a:xfrm>
        </p:grpSpPr>
        <p:pic>
          <p:nvPicPr>
            <p:cNvPr id="48" name="WordArt 10" descr=""/>
            <p:cNvPicPr/>
            <p:nvPr/>
          </p:nvPicPr>
          <p:blipFill>
            <a:blip r:embed="rId2"/>
            <a:stretch/>
          </p:blipFill>
          <p:spPr>
            <a:xfrm>
              <a:off x="603360" y="378000"/>
              <a:ext cx="2682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09480" y="380880"/>
              <a:ext cx="2667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e they are!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WordArt 11"/>
          <p:cNvGrpSpPr/>
          <p:nvPr/>
        </p:nvGrpSpPr>
        <p:grpSpPr>
          <a:xfrm>
            <a:off x="3346560" y="378000"/>
            <a:ext cx="3541680" cy="450720"/>
            <a:chOff x="3346560" y="378000"/>
            <a:chExt cx="3541680" cy="450720"/>
          </a:xfrm>
        </p:grpSpPr>
        <p:pic>
          <p:nvPicPr>
            <p:cNvPr id="51" name="WordArt 11" descr=""/>
            <p:cNvPicPr/>
            <p:nvPr/>
          </p:nvPicPr>
          <p:blipFill>
            <a:blip r:embed="rId3"/>
            <a:stretch/>
          </p:blipFill>
          <p:spPr>
            <a:xfrm>
              <a:off x="3346560" y="378000"/>
              <a:ext cx="35416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352680" y="380880"/>
              <a:ext cx="3529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at colors are they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Копия 1-4 класс (6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2743200" y="15228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мотри и запиши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а всех ламп Аладдина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Копия 1-4 класс (7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2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-4 класс (49)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228600" y="1295280"/>
            <a:ext cx="3505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моги Абу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ть 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оволомку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Копия Новый рисунок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Новый рисун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йцу 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304920" y="228600"/>
            <a:ext cx="8001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ги клоуну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скрасить игрушк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йцу (5)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533520" y="152280"/>
            <a:ext cx="758196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теперь реши кроссворд от Джина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ра</cp:lastModifiedBy>
  <dcterms:modified xsi:type="dcterms:W3CDTF">2011-04-02T11:09:3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