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BD31C-30AF-4889-917A-F1DA5B31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49E7A-C3A1-45C0-B453-2834893C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E7885-5AED-425B-B919-E4A70CC1B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B1284-524D-41F2-893B-B809F1095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E37E-FB53-478D-9B38-89C8B321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007A-0321-4A5B-A834-599B1AFE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4A73-E2E1-4283-9A12-5BDC4E60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0A70-5B92-4F1B-8A9A-E29CBE7C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5517-6BB6-4464-B31D-64532CA6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6657-C66F-4897-A839-7A5FF833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0FD2-E6A0-4795-AA40-7E2B9F6C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66285-B580-46C1-9F16-6CB07DBD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A9A2-BBC3-421F-946C-52FA6220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B8F3-9E5A-4093-A24C-59E4ADFD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20FE-747D-40E2-8A9D-F21A1E05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B520-0B6D-4FCD-8C6B-56731DAA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A00B-A6B5-4DEB-BE0C-F12D9F96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BDC87-416B-4FFB-AEE2-A4303639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58BB4-F7E1-4B24-82BC-B48EE55D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F85B6-A5BC-4F14-B1DB-E8AFC734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E0072-DE24-458E-B14D-E0645FD4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3FDD6-E770-4043-A223-43D16D99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326C1-F4A2-4C9F-9C70-AB93FFED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38D28-B014-4390-AF65-82C5B456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81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28ED-F262-4699-9D7B-88A2187955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ed818e"/>
                  </a:gs>
                  <a:gs pos="100000">
                    <a:srgbClr val="d8758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3939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ed818e"/>
                  </a:gs>
                  <a:gs pos="100000">
                    <a:srgbClr val="d8758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3939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c26a74"/>
                  </a:gs>
                  <a:gs pos="100000">
                    <a:srgbClr val="ed818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3939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ed81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3939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d0717d"/>
                  </a:gs>
                  <a:gs pos="100000">
                    <a:srgbClr val="ed818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3939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c96d78"/>
                </a:gs>
                <a:gs pos="100000">
                  <a:srgbClr val="ed81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939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aefbb"/>
                </a:gs>
                <a:gs pos="100000">
                  <a:srgbClr val="ed81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939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939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939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939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939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939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393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939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393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939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81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ed818e"/>
                  </a:gs>
                  <a:gs pos="100000">
                    <a:srgbClr val="d8758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3939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ed818e"/>
                  </a:gs>
                  <a:gs pos="100000">
                    <a:srgbClr val="d8758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3939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c26a74"/>
                  </a:gs>
                  <a:gs pos="100000">
                    <a:srgbClr val="ed818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3939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ed81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3939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d0717d"/>
                  </a:gs>
                  <a:gs pos="100000">
                    <a:srgbClr val="ed818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3939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c96d78"/>
                </a:gs>
                <a:gs pos="100000">
                  <a:srgbClr val="ed81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939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aefbb"/>
                </a:gs>
                <a:gs pos="100000">
                  <a:srgbClr val="ed81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939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939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939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939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939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939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393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939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393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939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393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C7E9-D182-4B91-B30B-461900486B1A}" type="slidenum">
              <a:rPr b="0" lang="ru-RU" sz="1200" spc="-1" strike="noStrike">
                <a:solidFill>
                  <a:srgbClr val="ff393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66"/>
                </a:solidFill>
                <a:latin typeface="Garamond"/>
              </a:rPr>
              <a:t>Проверка домашнего задания</a:t>
            </a:r>
            <a:endParaRPr b="1" lang="en-US" sz="60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939"/>
                </a:solidFill>
                <a:latin typeface="Garamond"/>
              </a:rPr>
              <a:t>«Товар и деньги»</a:t>
            </a:r>
            <a:endParaRPr b="0" lang="en-US" sz="4800" spc="-1" strike="noStrike">
              <a:solidFill>
                <a:srgbClr val="ff393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заимосвязь цены, спроса и предложения.</a:t>
            </a:r>
            <a:endParaRPr b="1" lang="en-US" sz="40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0b00"/>
                </a:solidFill>
                <a:latin typeface="Garamond"/>
                <a:ea typeface="Times New Roman"/>
              </a:rPr>
              <a:t>Цены растут</a:t>
            </a:r>
            <a:endParaRPr b="0" lang="en-US" sz="24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75"/>
                </a:solidFill>
                <a:latin typeface="Garamond"/>
                <a:ea typeface="Times New Roman"/>
              </a:rPr>
              <a:t>                                                                      </a:t>
            </a:r>
            <a:r>
              <a:rPr b="1" lang="ru-RU" sz="2400" spc="-1" strike="noStrike">
                <a:solidFill>
                  <a:srgbClr val="2c0b00"/>
                </a:solidFill>
                <a:latin typeface="Garamond"/>
                <a:ea typeface="Times New Roman"/>
              </a:rPr>
              <a:t>предложение</a:t>
            </a:r>
            <a:endParaRPr b="0" lang="en-US" sz="24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0b00"/>
                </a:solidFill>
                <a:latin typeface="Garamond"/>
                <a:ea typeface="Times New Roman"/>
              </a:rPr>
              <a:t>                                                                     </a:t>
            </a:r>
            <a:r>
              <a:rPr b="1" lang="ru-RU" sz="2400" spc="-1" strike="noStrike">
                <a:solidFill>
                  <a:srgbClr val="2c0b00"/>
                </a:solidFill>
                <a:latin typeface="Garamond"/>
                <a:ea typeface="Times New Roman"/>
              </a:rPr>
              <a:t>увеличивается</a:t>
            </a:r>
            <a:endParaRPr b="0" lang="en-US" sz="24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75"/>
                </a:solidFill>
                <a:latin typeface="Garamond"/>
                <a:ea typeface="Times New Roman"/>
              </a:rPr>
              <a:t>                                                                          </a:t>
            </a:r>
            <a:r>
              <a:rPr b="1" lang="ru-RU" sz="2400" spc="-1" strike="noStrike">
                <a:solidFill>
                  <a:srgbClr val="2c0b00"/>
                </a:solidFill>
                <a:latin typeface="Garamond"/>
                <a:ea typeface="Times New Roman"/>
              </a:rPr>
              <a:t>спрос падает</a:t>
            </a:r>
            <a:endParaRPr b="0" lang="en-US" sz="24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75"/>
                </a:solidFill>
                <a:latin typeface="Garamond"/>
                <a:ea typeface="Times New Roman"/>
              </a:rPr>
              <a:t>                                  </a:t>
            </a:r>
            <a:r>
              <a:rPr b="1" lang="ru-RU" sz="2400" spc="-1" strike="noStrike">
                <a:solidFill>
                  <a:srgbClr val="2c0b00"/>
                </a:solidFill>
                <a:latin typeface="Garamond"/>
                <a:ea typeface="Times New Roman"/>
              </a:rPr>
              <a:t>время идет</a:t>
            </a:r>
            <a:endParaRPr b="0" lang="en-US" sz="2400" spc="-1" strike="noStrike">
              <a:solidFill>
                <a:srgbClr val="ff3939"/>
              </a:solidFill>
              <a:latin typeface="Garamond"/>
            </a:endParaRPr>
          </a:p>
        </p:txBody>
      </p:sp>
      <p:cxnSp>
        <p:nvCxnSpPr>
          <p:cNvPr id="122" name="Прямая со стрелкой 5"/>
          <p:cNvCxnSpPr/>
          <p:nvPr/>
        </p:nvCxnSpPr>
        <p:spPr>
          <a:xfrm flipV="1">
            <a:off x="2711880" y="1785240"/>
            <a:ext cx="2520" cy="335988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23" name="Прямая со стрелкой 7"/>
          <p:cNvCxnSpPr/>
          <p:nvPr/>
        </p:nvCxnSpPr>
        <p:spPr>
          <a:xfrm>
            <a:off x="2714400" y="5143680"/>
            <a:ext cx="3501000" cy="216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24" name="Прямая со стрелкой 9"/>
          <p:cNvCxnSpPr/>
          <p:nvPr/>
        </p:nvCxnSpPr>
        <p:spPr>
          <a:xfrm flipV="1">
            <a:off x="2999880" y="2285640"/>
            <a:ext cx="2715480" cy="264384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25" name="Прямая со стрелкой 11"/>
          <p:cNvCxnSpPr/>
          <p:nvPr/>
        </p:nvCxnSpPr>
        <p:spPr>
          <a:xfrm>
            <a:off x="2928960" y="1928880"/>
            <a:ext cx="2929680" cy="292968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Garamond"/>
              </a:rPr>
              <a:t>Закон спроса и предложения</a:t>
            </a: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939"/>
                </a:solidFill>
                <a:latin typeface="Garamond"/>
              </a:rPr>
              <a:t>Когда растет спрос, то растет и предложение</a:t>
            </a:r>
            <a:endParaRPr b="0" lang="en-US" sz="40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939"/>
                </a:solidFill>
                <a:latin typeface="Garamond"/>
              </a:rPr>
              <a:t>Когда растет предложение, не обязательно вырастет спрос</a:t>
            </a:r>
            <a:endParaRPr b="0" lang="en-US" sz="4000" spc="-1" strike="noStrike">
              <a:solidFill>
                <a:srgbClr val="ff393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Garamond"/>
              </a:rPr>
              <a:t>Факторы, влияющие на спрос</a:t>
            </a: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4286160" y="2143080"/>
            <a:ext cx="714600" cy="3500640"/>
          </a:xfrm>
          <a:prstGeom prst="rect">
            <a:avLst/>
          </a:prstGeom>
          <a:solidFill>
            <a:srgbClr val="ff9966"/>
          </a:solidFill>
          <a:ln w="25560">
            <a:solidFill>
              <a:srgbClr val="bc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Garamond"/>
              </a:rPr>
              <a:t>С</a:t>
            </a:r>
            <a:endParaRPr b="0" lang="en-US" sz="1800" spc="-1" strike="noStrike">
              <a:solidFill>
                <a:srgbClr val="ff3939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Garamond"/>
              </a:rPr>
              <a:t>П</a:t>
            </a:r>
            <a:endParaRPr b="0" lang="en-US" sz="1800" spc="-1" strike="noStrike">
              <a:solidFill>
                <a:srgbClr val="ff3939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Garamond"/>
              </a:rPr>
              <a:t>Р</a:t>
            </a:r>
            <a:endParaRPr b="0" lang="en-US" sz="1800" spc="-1" strike="noStrike">
              <a:solidFill>
                <a:srgbClr val="ff3939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Garamond"/>
              </a:rPr>
              <a:t>О</a:t>
            </a:r>
            <a:endParaRPr b="0" lang="en-US" sz="1800" spc="-1" strike="noStrike">
              <a:solidFill>
                <a:srgbClr val="ff3939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Garamond"/>
              </a:rPr>
              <a:t>С</a:t>
            </a:r>
            <a:endParaRPr b="0" lang="en-US" sz="18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131" name="Скругленный прямоугольник 7"/>
          <p:cNvSpPr/>
          <p:nvPr/>
        </p:nvSpPr>
        <p:spPr>
          <a:xfrm>
            <a:off x="5857920" y="1928880"/>
            <a:ext cx="2428920" cy="8571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bc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Garamond"/>
              </a:rPr>
              <a:t>ЦЕНА НА СОПРЯЖЕННЫЕ ТОВАРЫ</a:t>
            </a:r>
            <a:endParaRPr b="0" lang="en-US" sz="18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132" name="Скругленный прямоугольник 8"/>
          <p:cNvSpPr/>
          <p:nvPr/>
        </p:nvSpPr>
        <p:spPr>
          <a:xfrm>
            <a:off x="5929200" y="342900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bc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Garamond"/>
              </a:rPr>
              <a:t>ПОТРЕБИТЕЛЬСКИЕ ОЖИДАНИЯ  ОТНОСИТЕЛЬНО БУДУЩИХ ЦЕН И ДОХОДОВ</a:t>
            </a:r>
            <a:endParaRPr b="0" lang="en-US" sz="12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133" name="Скругленный прямоугольник 9"/>
          <p:cNvSpPr/>
          <p:nvPr/>
        </p:nvSpPr>
        <p:spPr>
          <a:xfrm>
            <a:off x="5857920" y="4714920"/>
            <a:ext cx="2500200" cy="10713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bc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Garamond"/>
              </a:rPr>
              <a:t>ПРОЧИЕ ФАКТОРЫ (ВРЕМЯ ГОДА И ДР.)</a:t>
            </a:r>
            <a:endParaRPr b="0" lang="en-US" sz="18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134" name="Скругленный прямоугольник 10"/>
          <p:cNvSpPr/>
          <p:nvPr/>
        </p:nvSpPr>
        <p:spPr>
          <a:xfrm>
            <a:off x="857160" y="1857240"/>
            <a:ext cx="2643120" cy="100044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bc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Garamond"/>
              </a:rPr>
              <a:t>ЧИСЛО ПОТРЕБИТЕЛЕЙ НА РЫНКЕ</a:t>
            </a:r>
            <a:endParaRPr b="0" lang="en-US" sz="18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135" name="Скругленный прямоугольник 11"/>
          <p:cNvSpPr/>
          <p:nvPr/>
        </p:nvSpPr>
        <p:spPr>
          <a:xfrm>
            <a:off x="928800" y="3429000"/>
            <a:ext cx="2571480" cy="92880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bc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Garamond"/>
              </a:rPr>
              <a:t>ВКУСЫ И ПРЕДПОЧТЕНИЯ ПОТРЕБИТЕЛЕЙ</a:t>
            </a:r>
            <a:endParaRPr b="0" lang="en-US" sz="18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136" name="Скругленный прямоугольник 12"/>
          <p:cNvSpPr/>
          <p:nvPr/>
        </p:nvSpPr>
        <p:spPr>
          <a:xfrm>
            <a:off x="1000080" y="4786200"/>
            <a:ext cx="2571840" cy="100008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bc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Garamond"/>
              </a:rPr>
              <a:t>ДЕНЕЖНЫЕ ДОХОДЫ</a:t>
            </a:r>
            <a:endParaRPr b="0" lang="en-US" sz="18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137" name="Стрелка вправо 13"/>
          <p:cNvSpPr/>
          <p:nvPr/>
        </p:nvSpPr>
        <p:spPr>
          <a:xfrm>
            <a:off x="3643200" y="2214720"/>
            <a:ext cx="57168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ff9966"/>
          </a:solidFill>
          <a:ln w="25560">
            <a:solidFill>
              <a:srgbClr val="bc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138" name="Стрелка вправо 15"/>
          <p:cNvSpPr/>
          <p:nvPr/>
        </p:nvSpPr>
        <p:spPr>
          <a:xfrm>
            <a:off x="3643200" y="3786120"/>
            <a:ext cx="5716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9966"/>
          </a:solidFill>
          <a:ln w="25560">
            <a:solidFill>
              <a:srgbClr val="bc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139" name="Стрелка вправо 16"/>
          <p:cNvSpPr/>
          <p:nvPr/>
        </p:nvSpPr>
        <p:spPr>
          <a:xfrm>
            <a:off x="3643200" y="5072040"/>
            <a:ext cx="64296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9966"/>
          </a:solidFill>
          <a:ln w="25560">
            <a:solidFill>
              <a:srgbClr val="bc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140" name="Стрелка влево 19"/>
          <p:cNvSpPr/>
          <p:nvPr/>
        </p:nvSpPr>
        <p:spPr>
          <a:xfrm>
            <a:off x="5214960" y="2143080"/>
            <a:ext cx="500040" cy="28584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ff9966"/>
          </a:solidFill>
          <a:ln w="25560">
            <a:solidFill>
              <a:srgbClr val="bc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141" name="Стрелка влево 20"/>
          <p:cNvSpPr/>
          <p:nvPr/>
        </p:nvSpPr>
        <p:spPr>
          <a:xfrm>
            <a:off x="5143680" y="378612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ff9966"/>
          </a:solidFill>
          <a:ln w="25560">
            <a:solidFill>
              <a:srgbClr val="bc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939"/>
              </a:solidFill>
              <a:latin typeface="Garamond"/>
            </a:endParaRPr>
          </a:p>
        </p:txBody>
      </p:sp>
      <p:sp>
        <p:nvSpPr>
          <p:cNvPr id="142" name="Стрелка влево 21"/>
          <p:cNvSpPr/>
          <p:nvPr/>
        </p:nvSpPr>
        <p:spPr>
          <a:xfrm>
            <a:off x="5143680" y="507204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ff9966"/>
          </a:solidFill>
          <a:ln w="25560">
            <a:solidFill>
              <a:srgbClr val="bc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93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Garamond"/>
              </a:rPr>
              <a:t>Закрепление </a:t>
            </a: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202208"/>
                </a:solidFill>
                <a:uFillTx/>
                <a:latin typeface="Garamond"/>
              </a:rPr>
              <a:t>1. Спрос на товар – это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А. количество проданных товаров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Б. желание и возможность потребителя приобрести товар или услугу потребность покупателей в каком-либо товаре желание человека приобрести товар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208"/>
                </a:solidFill>
                <a:latin typeface="Garamond"/>
              </a:rPr>
              <a:t>2.  Изменение объема спроса на товар произойдет в случае, если:</a:t>
            </a:r>
            <a:br>
              <a:rPr sz="3200"/>
            </a:br>
            <a:endParaRPr b="1" lang="en-US" sz="3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А. изменятся цены на другие товары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Б. изменится технология производства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В. изменится качество товара изменится цена на товар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208"/>
                </a:solidFill>
                <a:latin typeface="Garamond"/>
              </a:rPr>
              <a:t>3. Какие из перечисленных товаров являются товарами-заменителями?</a:t>
            </a:r>
            <a:br>
              <a:rPr sz="3200"/>
            </a:br>
            <a:endParaRPr b="1" lang="en-US" sz="3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А. кроссовки и футболки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Б. учебники и тетради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В. спички и зажигалки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Г. кухонные комбайны и стиральные машины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208"/>
                </a:solidFill>
                <a:latin typeface="Garamond"/>
              </a:rPr>
              <a:t>4.. Если повысится цена на натуральные соки, как изменится спрос на газированные напитки?</a:t>
            </a:r>
            <a:br>
              <a:rPr sz="2800"/>
            </a:br>
            <a:endParaRPr b="1" lang="en-US" sz="28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А. спрос сократится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Б. спрос не изменится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В. увеличится объем спроса на газированные напитки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Г. увеличится спрос на газированные напитки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208"/>
                </a:solidFill>
                <a:latin typeface="Garamond"/>
              </a:rPr>
              <a:t>5. В каком случае произойдет увеличение спроса на программное обеспечение для компьютеров?</a:t>
            </a:r>
            <a:br>
              <a:rPr sz="2800"/>
            </a:br>
            <a:endParaRPr b="1" lang="en-US" sz="28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А. правительство введет налог для производителей компьютеров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Б. повысятся цены на процессоры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В. снизятся цены на компьютеры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Garamond"/>
              </a:rPr>
              <a:t>Домашнее задание</a:t>
            </a: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aramond"/>
              </a:rPr>
              <a:t>Параграф – 11, вопросы и задания после параграфа.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aramond"/>
              </a:rPr>
              <a:t>Творческое задание: найдите материал из различных источников о прошедших мировых экономических кризисах. Отметьте, какую роль в них играли спрос и предложение.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  <p:pic>
        <p:nvPicPr>
          <p:cNvPr id="155" name="Picture 4" descr="D:\Изображение\Рисунки\62.gif"/>
          <p:cNvPicPr/>
          <p:nvPr/>
        </p:nvPicPr>
        <p:blipFill>
          <a:blip r:embed="rId1"/>
          <a:stretch/>
        </p:blipFill>
        <p:spPr>
          <a:xfrm>
            <a:off x="6786720" y="5357880"/>
            <a:ext cx="191916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Garamond"/>
              </a:rPr>
              <a:t>Спасибо за урок! До новых встреч!</a:t>
            </a: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Garamond"/>
              </a:rPr>
              <a:t>1. Что такое товар? Какими свойства он обладает? </a:t>
            </a: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Земля, хлеб, дерево, корова, тетрадь, кастрюля, дверь, музыка, душа, честь, закон.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Пылесос, компьютер, книга, каша, зубная щетка, президент, власть, фирма, уважение, кирпич.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Garamond"/>
              </a:rPr>
              <a:t>2. Функции денег. История денег. </a:t>
            </a:r>
            <a:br>
              <a:rPr sz="4400"/>
            </a:b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деньги как средство обращения;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деньги как мера стоимости;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деньги как средство накопления.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Деньги как средство платежа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Мировые деньги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Garamond"/>
              </a:rPr>
              <a:t>Курс мировых валют</a:t>
            </a: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Курс доллара за последние два месяца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Курс евро за последние два месяца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Прогнзоы на 2010 год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чему происходит рост цен?</a:t>
            </a:r>
            <a:endParaRPr b="1" lang="en-US" sz="4000" spc="-1" strike="noStrike">
              <a:solidFill>
                <a:srgbClr val="ffff66"/>
              </a:solidFill>
              <a:latin typeface="Garamond"/>
            </a:endParaRPr>
          </a:p>
        </p:txBody>
      </p:sp>
      <p:pic>
        <p:nvPicPr>
          <p:cNvPr id="109" name="Диаграмма 5" descr=""/>
          <p:cNvPicPr/>
          <p:nvPr/>
        </p:nvPicPr>
        <p:blipFill>
          <a:blip r:embed="rId1"/>
          <a:stretch/>
        </p:blipFill>
        <p:spPr>
          <a:xfrm>
            <a:off x="1206360" y="1420920"/>
            <a:ext cx="73044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202208"/>
                </a:solidFill>
                <a:uFillTx/>
                <a:latin typeface="Times New Roman"/>
                <a:ea typeface="Times New Roman"/>
              </a:rPr>
              <a:t>Тема: Спрос и предложение</a:t>
            </a: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02208"/>
                </a:solidFill>
                <a:latin typeface="Times New Roman"/>
                <a:ea typeface="Times New Roman"/>
              </a:rPr>
              <a:t>1.</a:t>
            </a:r>
            <a:r>
              <a:rPr b="0" lang="ru-RU" sz="4400" spc="-1" strike="noStrike">
                <a:solidFill>
                  <a:srgbClr val="202208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202208"/>
                </a:solidFill>
                <a:latin typeface="Times New Roman"/>
                <a:ea typeface="Times New Roman"/>
              </a:rPr>
              <a:t>Что такое спрос в условиях рыночной экономики?</a:t>
            </a:r>
            <a:endParaRPr b="0" lang="en-US" sz="4400" spc="-1" strike="noStrike">
              <a:solidFill>
                <a:srgbClr val="ff3939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02208"/>
                </a:solidFill>
                <a:latin typeface="Times New Roman"/>
                <a:ea typeface="Times New Roman"/>
              </a:rPr>
              <a:t>2. Предложение как экономическая категория.</a:t>
            </a:r>
            <a:endParaRPr b="0" lang="en-US" sz="4400" spc="-1" strike="noStrike">
              <a:solidFill>
                <a:srgbClr val="ff3939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02208"/>
                </a:solidFill>
                <a:latin typeface="Times New Roman"/>
                <a:ea typeface="Times New Roman"/>
              </a:rPr>
              <a:t>3. Закон спроса и предложения. Искусство компромисса.</a:t>
            </a:r>
            <a:endParaRPr b="0" lang="en-US" sz="4400" spc="-1" strike="noStrike">
              <a:solidFill>
                <a:srgbClr val="ff3939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93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Спрос</a:t>
            </a:r>
            <a:r>
              <a:rPr b="0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6000" spc="-1" strike="noStrike">
                <a:solidFill>
                  <a:srgbClr val="202208"/>
                </a:solidFill>
                <a:latin typeface="Times New Roman"/>
                <a:ea typeface="Times New Roman"/>
              </a:rPr>
              <a:t>– это потребность, желание покупателя приобрести определенный товар.</a:t>
            </a:r>
            <a:endParaRPr b="0" lang="en-US" sz="6000" spc="-1" strike="noStrike">
              <a:solidFill>
                <a:srgbClr val="ff3939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393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7030a0"/>
                </a:solidFill>
                <a:uFillTx/>
                <a:latin typeface="Garamond"/>
              </a:rPr>
              <a:t>Предложение -</a:t>
            </a:r>
            <a:endParaRPr b="1" lang="en-US" sz="44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02208"/>
                </a:solidFill>
                <a:latin typeface="Garamond"/>
              </a:rPr>
              <a:t>Желание, намерение продавца (производителя) предложить к продаже свои товары</a:t>
            </a:r>
            <a:endParaRPr b="0" lang="en-US" sz="5400" spc="-1" strike="noStrike">
              <a:solidFill>
                <a:srgbClr val="ff393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14200" y="571320"/>
            <a:ext cx="85154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ad3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0b00"/>
                </a:solidFill>
                <a:latin typeface="Garamond"/>
              </a:rPr>
              <a:t>Цена</a:t>
            </a: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                                </a:t>
            </a:r>
            <a:r>
              <a:rPr b="0" lang="ru-RU" sz="3200" spc="-1" strike="noStrike">
                <a:solidFill>
                  <a:srgbClr val="2c0b00"/>
                </a:solidFill>
                <a:latin typeface="Garamond"/>
              </a:rPr>
              <a:t>Цена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                          </a:t>
            </a:r>
            <a:r>
              <a:rPr b="0" lang="ru-RU" sz="3200" spc="-1" strike="noStrike">
                <a:solidFill>
                  <a:srgbClr val="2c0b00"/>
                </a:solidFill>
                <a:latin typeface="Garamond"/>
              </a:rPr>
              <a:t>Спрос   </a:t>
            </a:r>
            <a:r>
              <a:rPr b="0" lang="ru-RU" sz="3200" spc="-1" strike="noStrike">
                <a:solidFill>
                  <a:srgbClr val="ff3939"/>
                </a:solidFill>
                <a:latin typeface="Garamond"/>
              </a:rPr>
              <a:t>                   </a:t>
            </a:r>
            <a:r>
              <a:rPr b="0" lang="ru-RU" sz="3200" spc="-1" strike="noStrike">
                <a:solidFill>
                  <a:srgbClr val="2c0b00"/>
                </a:solidFill>
                <a:latin typeface="Garamond"/>
              </a:rPr>
              <a:t>Предложение </a:t>
            </a:r>
            <a:endParaRPr b="0" lang="en-US" sz="3200" spc="-1" strike="noStrike">
              <a:solidFill>
                <a:srgbClr val="ff3939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0b00"/>
                </a:solidFill>
                <a:latin typeface="Garamond"/>
              </a:rPr>
              <a:t>Чем выше цена, тем ниже спрос.                                С ростом цены растет предложение.</a:t>
            </a:r>
            <a:endParaRPr b="0" lang="en-US" sz="1800" spc="-1" strike="noStrike">
              <a:solidFill>
                <a:srgbClr val="ff3939"/>
              </a:solidFill>
              <a:latin typeface="Garamond"/>
            </a:endParaRPr>
          </a:p>
        </p:txBody>
      </p:sp>
      <p:cxnSp>
        <p:nvCxnSpPr>
          <p:cNvPr id="116" name="Прямая со стрелкой 4"/>
          <p:cNvCxnSpPr/>
          <p:nvPr/>
        </p:nvCxnSpPr>
        <p:spPr>
          <a:xfrm flipV="1">
            <a:off x="1285920" y="1785600"/>
            <a:ext cx="2160" cy="328680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7" name="Прямая со стрелкой 6"/>
          <p:cNvCxnSpPr/>
          <p:nvPr/>
        </p:nvCxnSpPr>
        <p:spPr>
          <a:xfrm>
            <a:off x="1285920" y="5072040"/>
            <a:ext cx="2929680" cy="216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8" name="Прямая со стрелкой 8"/>
          <p:cNvCxnSpPr/>
          <p:nvPr/>
        </p:nvCxnSpPr>
        <p:spPr>
          <a:xfrm flipV="1">
            <a:off x="5500800" y="1785600"/>
            <a:ext cx="2160" cy="328680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9" name="Прямая со стрелкой 10"/>
          <p:cNvCxnSpPr/>
          <p:nvPr/>
        </p:nvCxnSpPr>
        <p:spPr>
          <a:xfrm>
            <a:off x="5500440" y="5072040"/>
            <a:ext cx="2858040" cy="216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10:10:21Z</dcterms:created>
  <dc:creator>dmc</dc:creator>
  <dc:description/>
  <dc:language>en-US</dc:language>
  <cp:lastModifiedBy>111</cp:lastModifiedBy>
  <dcterms:modified xsi:type="dcterms:W3CDTF">2009-12-16T17:03:37Z</dcterms:modified>
  <cp:revision>73</cp:revision>
  <dc:subject/>
  <dc:title>Слайд 1</dc:title>
</cp:coreProperties>
</file>