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DA11-3C3F-4E05-8C37-DD609F8D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67A0-A8D6-4E4D-8172-EBC13708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454F-4D21-4A12-B698-ABC3F3F1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1AFE-30F0-4C0E-A3EA-782C9842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0F5B-AE6C-4A15-9B1D-E4D49F1A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C351-6E69-4156-9173-CE1D2D39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ECB6-7C53-4706-A10D-B7E94577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A286-F4D0-45D2-B9CC-2D9EB55D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8ADE-4449-44C5-9A44-B25529D7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CF7E-9A8B-414B-ACC5-2648D093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3CE7-8FF7-4D98-9042-FD3AD888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F079-54A3-4B9A-898E-DEDD0814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FC8D-594E-466D-BAB2-4B111BBD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FE9C-D3E3-442A-A20D-49311403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DC98-0B8F-4522-9073-066F799D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F0F3-CFE8-4D47-8753-48D19351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5C02-75B6-4DAF-B66A-FB84A5D0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A91B-7D5A-4EBA-9FCD-FC9D90CB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625B-3758-46BF-A543-5CD07127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C81A9-773D-440B-9109-BEAEED7D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D844-D3FB-48DC-9F35-38AC881E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C82D-DDE7-410B-A096-E659287F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BDBE-0EC0-4D88-94DB-C8B34A46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F27A-6DC7-4ADF-A6B4-16B641EB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8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0C4D-075E-4678-BF56-FD0F35B7D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ed818e"/>
                  </a:gs>
                  <a:gs pos="100000">
                    <a:srgbClr val="d8758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ed818e"/>
                  </a:gs>
                  <a:gs pos="100000">
                    <a:srgbClr val="d8758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26a74"/>
                  </a:gs>
                  <a:gs pos="100000">
                    <a:srgbClr val="ed81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ed8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0717d"/>
                  </a:gs>
                  <a:gs pos="100000">
                    <a:srgbClr val="ed818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c96d78"/>
                </a:gs>
                <a:gs pos="100000">
                  <a:srgbClr val="ed81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939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aefbb"/>
                </a:gs>
                <a:gs pos="100000">
                  <a:srgbClr val="ed81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939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39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39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8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ed818e"/>
                  </a:gs>
                  <a:gs pos="100000">
                    <a:srgbClr val="d8758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ed818e"/>
                  </a:gs>
                  <a:gs pos="100000">
                    <a:srgbClr val="d8758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26a74"/>
                  </a:gs>
                  <a:gs pos="100000">
                    <a:srgbClr val="ed81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ed8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0717d"/>
                  </a:gs>
                  <a:gs pos="100000">
                    <a:srgbClr val="ed818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c96d78"/>
                </a:gs>
                <a:gs pos="100000">
                  <a:srgbClr val="ed81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939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aefbb"/>
                </a:gs>
                <a:gs pos="100000">
                  <a:srgbClr val="ed81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939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39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39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393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C3BA-0045-4470-ACC8-5EABA9D54128}" type="slidenum">
              <a:rPr b="0" lang="ru-RU" sz="1200" spc="-1" strike="noStrike">
                <a:solidFill>
                  <a:srgbClr val="ff393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Garamond"/>
              </a:rPr>
              <a:t>Проверка домашнего задания</a:t>
            </a:r>
            <a:endParaRPr b="1" lang="en-US" sz="60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939"/>
                </a:solidFill>
                <a:latin typeface="Garamond"/>
              </a:rPr>
              <a:t>«Товар и деньги»</a:t>
            </a:r>
            <a:endParaRPr b="0" lang="en-US" sz="48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связь цены, спроса и предложения.</a:t>
            </a:r>
            <a:endParaRPr b="1" lang="en-US" sz="40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0b00"/>
                </a:solidFill>
                <a:latin typeface="Garamond"/>
                <a:ea typeface="Times New Roman"/>
              </a:rPr>
              <a:t>Цены растут</a:t>
            </a: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75"/>
                </a:solidFill>
                <a:latin typeface="Garamond"/>
                <a:ea typeface="Times New Roman"/>
              </a:rPr>
              <a:t>                                                                      </a:t>
            </a:r>
            <a:r>
              <a:rPr b="1" lang="ru-RU" sz="2400" spc="-1" strike="noStrike">
                <a:solidFill>
                  <a:srgbClr val="2c0b00"/>
                </a:solidFill>
                <a:latin typeface="Garamond"/>
                <a:ea typeface="Times New Roman"/>
              </a:rPr>
              <a:t>предложение</a:t>
            </a: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0b00"/>
                </a:solidFill>
                <a:latin typeface="Garamond"/>
                <a:ea typeface="Times New Roman"/>
              </a:rPr>
              <a:t>                                                                     </a:t>
            </a:r>
            <a:r>
              <a:rPr b="1" lang="ru-RU" sz="2400" spc="-1" strike="noStrike">
                <a:solidFill>
                  <a:srgbClr val="2c0b00"/>
                </a:solidFill>
                <a:latin typeface="Garamond"/>
                <a:ea typeface="Times New Roman"/>
              </a:rPr>
              <a:t>увеличивается</a:t>
            </a: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75"/>
                </a:solidFill>
                <a:latin typeface="Garamond"/>
                <a:ea typeface="Times New Roman"/>
              </a:rPr>
              <a:t>                                                                          </a:t>
            </a:r>
            <a:r>
              <a:rPr b="1" lang="ru-RU" sz="2400" spc="-1" strike="noStrike">
                <a:solidFill>
                  <a:srgbClr val="2c0b00"/>
                </a:solidFill>
                <a:latin typeface="Garamond"/>
                <a:ea typeface="Times New Roman"/>
              </a:rPr>
              <a:t>спрос падает</a:t>
            </a: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75"/>
                </a:solidFill>
                <a:latin typeface="Garamond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2c0b00"/>
                </a:solidFill>
                <a:latin typeface="Garamond"/>
                <a:ea typeface="Times New Roman"/>
              </a:rPr>
              <a:t>время идет</a:t>
            </a: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</p:txBody>
      </p:sp>
      <p:cxnSp>
        <p:nvCxnSpPr>
          <p:cNvPr id="122" name="Прямая со стрелкой 5"/>
          <p:cNvCxnSpPr/>
          <p:nvPr/>
        </p:nvCxnSpPr>
        <p:spPr>
          <a:xfrm flipV="1">
            <a:off x="2711880" y="1785240"/>
            <a:ext cx="2520" cy="33598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23" name="Прямая со стрелкой 7"/>
          <p:cNvCxnSpPr/>
          <p:nvPr/>
        </p:nvCxnSpPr>
        <p:spPr>
          <a:xfrm>
            <a:off x="2714400" y="5143680"/>
            <a:ext cx="350100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24" name="Прямая со стрелкой 9"/>
          <p:cNvCxnSpPr/>
          <p:nvPr/>
        </p:nvCxnSpPr>
        <p:spPr>
          <a:xfrm flipV="1">
            <a:off x="2999880" y="2285640"/>
            <a:ext cx="2715480" cy="26438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25" name="Прямая со стрелкой 11"/>
          <p:cNvCxnSpPr/>
          <p:nvPr/>
        </p:nvCxnSpPr>
        <p:spPr>
          <a:xfrm>
            <a:off x="2928960" y="1928880"/>
            <a:ext cx="2929680" cy="29296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Garamond"/>
              </a:rPr>
              <a:t>Закон спроса и предложения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939"/>
                </a:solidFill>
                <a:latin typeface="Garamond"/>
              </a:rPr>
              <a:t>Когда растет спрос, то растет и предложение</a:t>
            </a:r>
            <a:endParaRPr b="0" lang="en-US" sz="40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939"/>
                </a:solidFill>
                <a:latin typeface="Garamond"/>
              </a:rPr>
              <a:t>Когда растет предложение, не обязательно вырастет спрос</a:t>
            </a:r>
            <a:endParaRPr b="0" lang="en-US" sz="40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Факторы, влияющие на спрос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4286160" y="2143080"/>
            <a:ext cx="714600" cy="3500640"/>
          </a:xfrm>
          <a:prstGeom prst="rect">
            <a:avLst/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С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П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Р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С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1" name="Скругленный прямоугольник 7"/>
          <p:cNvSpPr/>
          <p:nvPr/>
        </p:nvSpPr>
        <p:spPr>
          <a:xfrm>
            <a:off x="5857920" y="1928880"/>
            <a:ext cx="2428920" cy="8571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ЦЕНА НА СОПРЯЖЕННЫЕ ТОВАРЫ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2" name="Скругленный прямоугольник 8"/>
          <p:cNvSpPr/>
          <p:nvPr/>
        </p:nvSpPr>
        <p:spPr>
          <a:xfrm>
            <a:off x="5929200" y="342900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Garamond"/>
              </a:rPr>
              <a:t>ПОТРЕБИТЕЛЬСКИЕ ОЖИДАНИЯ  ОТНОСИТЕЛЬНО БУДУЩИХ ЦЕН И ДОХОДОВ</a:t>
            </a:r>
            <a:endParaRPr b="0" lang="en-US" sz="1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3" name="Скругленный прямоугольник 9"/>
          <p:cNvSpPr/>
          <p:nvPr/>
        </p:nvSpPr>
        <p:spPr>
          <a:xfrm>
            <a:off x="5857920" y="4714920"/>
            <a:ext cx="2500200" cy="10713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ПРОЧИЕ ФАКТОРЫ (ВРЕМЯ ГОДА И ДР.)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4" name="Скругленный прямоугольник 10"/>
          <p:cNvSpPr/>
          <p:nvPr/>
        </p:nvSpPr>
        <p:spPr>
          <a:xfrm>
            <a:off x="857160" y="1857240"/>
            <a:ext cx="2643120" cy="100044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ЧИСЛО ПОТРЕБИТЕЛЕЙ НА РЫНКЕ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5" name="Скругленный прямоугольник 11"/>
          <p:cNvSpPr/>
          <p:nvPr/>
        </p:nvSpPr>
        <p:spPr>
          <a:xfrm>
            <a:off x="928800" y="3429000"/>
            <a:ext cx="2571480" cy="92880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ВКУСЫ И ПРЕДПОЧТЕНИЯ ПОТРЕБИТЕЛЕЙ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6" name="Скругленный прямоугольник 12"/>
          <p:cNvSpPr/>
          <p:nvPr/>
        </p:nvSpPr>
        <p:spPr>
          <a:xfrm>
            <a:off x="1000080" y="47862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ДЕНЕЖНЫЕ ДОХОДЫ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7" name="Стрелка вправо 13"/>
          <p:cNvSpPr/>
          <p:nvPr/>
        </p:nvSpPr>
        <p:spPr>
          <a:xfrm>
            <a:off x="3643200" y="221472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8" name="Стрелка вправо 15"/>
          <p:cNvSpPr/>
          <p:nvPr/>
        </p:nvSpPr>
        <p:spPr>
          <a:xfrm>
            <a:off x="3643200" y="378612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9" name="Стрелка вправо 16"/>
          <p:cNvSpPr/>
          <p:nvPr/>
        </p:nvSpPr>
        <p:spPr>
          <a:xfrm>
            <a:off x="3643200" y="507204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40" name="Стрелка влево 19"/>
          <p:cNvSpPr/>
          <p:nvPr/>
        </p:nvSpPr>
        <p:spPr>
          <a:xfrm>
            <a:off x="5214960" y="214308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41" name="Стрелка влево 20"/>
          <p:cNvSpPr/>
          <p:nvPr/>
        </p:nvSpPr>
        <p:spPr>
          <a:xfrm>
            <a:off x="5143680" y="378612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42" name="Стрелка влево 21"/>
          <p:cNvSpPr/>
          <p:nvPr/>
        </p:nvSpPr>
        <p:spPr>
          <a:xfrm>
            <a:off x="5143680" y="507204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Garamond"/>
              </a:rPr>
              <a:t>Закрепление 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02208"/>
                </a:solidFill>
                <a:uFillTx/>
                <a:latin typeface="Garamond"/>
              </a:rPr>
              <a:t>1. Спрос на товар – это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А. количество проданных товаров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Б. желание и возможность потребителя приобрести товар или услугу потребность покупателей в каком-либо товаре желание человека приобрести товар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208"/>
                </a:solidFill>
                <a:latin typeface="Garamond"/>
              </a:rPr>
              <a:t>2.  Изменение объема спроса на товар произойдет в случае, если:</a:t>
            </a:r>
            <a:br>
              <a:rPr sz="3200"/>
            </a:br>
            <a:endParaRPr b="1" lang="en-US" sz="3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А. изменятся цены на другие товары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Б. изменится технология производства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В. изменится качество товара изменится цена на товар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208"/>
                </a:solidFill>
                <a:latin typeface="Garamond"/>
              </a:rPr>
              <a:t>3. Какие из перечисленных товаров являются товарами-заменителями?</a:t>
            </a:r>
            <a:br>
              <a:rPr sz="3200"/>
            </a:br>
            <a:endParaRPr b="1" lang="en-US" sz="3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А. кроссовки и футболки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Б. учебники и тетради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В. спички и зажигалки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Г. кухонные комбайны и стиральные машины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208"/>
                </a:solidFill>
                <a:latin typeface="Garamond"/>
              </a:rPr>
              <a:t>4.. Если повысится цена на натуральные соки, как изменится спрос на газированные напитки?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А. спрос сократится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Б. спрос не изменится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В. увеличится объем спроса на газированные напитки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Г. увеличится спрос на газированные напитки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208"/>
                </a:solidFill>
                <a:latin typeface="Garamond"/>
              </a:rPr>
              <a:t>5. В каком случае произойдет увеличение спроса на программное обеспечение для компьютеров?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А. правительство введет налог для производителей компьютеров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Б. повысятся цены на процессоры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В. снизятся цены на компьютеры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Параграф – 11, вопросы и задания после параграфа.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Творческое задание: найдите материал из различных источников о прошедших мировых экономических кризисах. Отметьте, какую роль в них играли спрос и предложение.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pic>
        <p:nvPicPr>
          <p:cNvPr id="155" name="Picture 4" descr="D:\Изображение\Рисунки\62.gif"/>
          <p:cNvPicPr/>
          <p:nvPr/>
        </p:nvPicPr>
        <p:blipFill>
          <a:blip r:embed="rId1"/>
          <a:stretch/>
        </p:blipFill>
        <p:spPr>
          <a:xfrm>
            <a:off x="6786720" y="5357880"/>
            <a:ext cx="19191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Спасибо за урок! До новых встреч!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1. Что такое товар? Какими свойства он обладает? 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Земля, хлеб, дерево, корова, тетрадь, кастрюля, дверь, музыка, душа, честь, закон.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Пылесос, компьютер, книга, каша, зубная щетка, президент, власть, фирма, уважение, кирпич.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2. Функции денег. История денег. 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деньги как средство обращения;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деньги как мера стоимости;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деньги как средство накопления.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Деньги как средство платежа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Мировые деньги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Курс мировых валют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Курс доллара за последние два месяца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Курс евро за последние два месяца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Прогнзоы на 2010 год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чему происходит рост цен?</a:t>
            </a:r>
            <a:endParaRPr b="1" lang="en-US" sz="40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109" name="Диаграмма 5" descr=""/>
          <p:cNvPicPr/>
          <p:nvPr/>
        </p:nvPicPr>
        <p:blipFill>
          <a:blip r:embed="rId1"/>
          <a:stretch/>
        </p:blipFill>
        <p:spPr>
          <a:xfrm>
            <a:off x="1206360" y="1420920"/>
            <a:ext cx="73044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02208"/>
                </a:solidFill>
                <a:uFillTx/>
                <a:latin typeface="Times New Roman"/>
                <a:ea typeface="Times New Roman"/>
              </a:rPr>
              <a:t>Тема: Спрос и предложение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208"/>
                </a:solidFill>
                <a:latin typeface="Times New Roman"/>
                <a:ea typeface="Times New Roman"/>
              </a:rPr>
              <a:t>1.</a:t>
            </a:r>
            <a:r>
              <a:rPr b="0" lang="ru-RU" sz="4400" spc="-1" strike="noStrike">
                <a:solidFill>
                  <a:srgbClr val="202208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202208"/>
                </a:solidFill>
                <a:latin typeface="Times New Roman"/>
                <a:ea typeface="Times New Roman"/>
              </a:rPr>
              <a:t>Что такое спрос в условиях рыночной экономики?</a:t>
            </a:r>
            <a:endParaRPr b="0" lang="en-US" sz="4400" spc="-1" strike="noStrike">
              <a:solidFill>
                <a:srgbClr val="ff3939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208"/>
                </a:solidFill>
                <a:latin typeface="Times New Roman"/>
                <a:ea typeface="Times New Roman"/>
              </a:rPr>
              <a:t>2. Предложение как экономическая категория.</a:t>
            </a:r>
            <a:endParaRPr b="0" lang="en-US" sz="4400" spc="-1" strike="noStrike">
              <a:solidFill>
                <a:srgbClr val="ff3939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208"/>
                </a:solidFill>
                <a:latin typeface="Times New Roman"/>
                <a:ea typeface="Times New Roman"/>
              </a:rPr>
              <a:t>3. Закон спроса и предложения. Искусство компромисса.</a:t>
            </a:r>
            <a:endParaRPr b="0" lang="en-US" sz="4400" spc="-1" strike="noStrike">
              <a:solidFill>
                <a:srgbClr val="ff3939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прос</a:t>
            </a: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202208"/>
                </a:solidFill>
                <a:latin typeface="Times New Roman"/>
                <a:ea typeface="Times New Roman"/>
              </a:rPr>
              <a:t>– это потребность, желание покупателя приобрести определенный товар.</a:t>
            </a:r>
            <a:endParaRPr b="0" lang="en-US" sz="60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Garamond"/>
              </a:rPr>
              <a:t>Предложение -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02208"/>
                </a:solidFill>
                <a:latin typeface="Garamond"/>
              </a:rPr>
              <a:t>Желание, намерение продавца (производителя) предложить к продаже свои товары</a:t>
            </a:r>
            <a:endParaRPr b="0" lang="en-US" sz="54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14200" y="571320"/>
            <a:ext cx="85154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0b00"/>
                </a:solidFill>
                <a:latin typeface="Garamond"/>
              </a:rPr>
              <a:t>Цена</a:t>
            </a: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                                </a:t>
            </a:r>
            <a:r>
              <a:rPr b="0" lang="ru-RU" sz="3200" spc="-1" strike="noStrike">
                <a:solidFill>
                  <a:srgbClr val="2c0b00"/>
                </a:solidFill>
                <a:latin typeface="Garamond"/>
              </a:rPr>
              <a:t>Цена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                          </a:t>
            </a:r>
            <a:r>
              <a:rPr b="0" lang="ru-RU" sz="3200" spc="-1" strike="noStrike">
                <a:solidFill>
                  <a:srgbClr val="2c0b00"/>
                </a:solidFill>
                <a:latin typeface="Garamond"/>
              </a:rPr>
              <a:t>Спрос   </a:t>
            </a: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                   </a:t>
            </a:r>
            <a:r>
              <a:rPr b="0" lang="ru-RU" sz="3200" spc="-1" strike="noStrike">
                <a:solidFill>
                  <a:srgbClr val="2c0b00"/>
                </a:solidFill>
                <a:latin typeface="Garamond"/>
              </a:rPr>
              <a:t>Предложение 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0b00"/>
                </a:solidFill>
                <a:latin typeface="Garamond"/>
              </a:rPr>
              <a:t>Чем выше цена, тем ниже спрос.                                С ростом цены растет предложение.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cxnSp>
        <p:nvCxnSpPr>
          <p:cNvPr id="116" name="Прямая со стрелкой 4"/>
          <p:cNvCxnSpPr/>
          <p:nvPr/>
        </p:nvCxnSpPr>
        <p:spPr>
          <a:xfrm flipV="1">
            <a:off x="1285920" y="1785600"/>
            <a:ext cx="2160" cy="32868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7" name="Прямая со стрелкой 6"/>
          <p:cNvCxnSpPr/>
          <p:nvPr/>
        </p:nvCxnSpPr>
        <p:spPr>
          <a:xfrm>
            <a:off x="1285920" y="5072040"/>
            <a:ext cx="292968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8" name="Прямая со стрелкой 8"/>
          <p:cNvCxnSpPr/>
          <p:nvPr/>
        </p:nvCxnSpPr>
        <p:spPr>
          <a:xfrm flipV="1">
            <a:off x="5500800" y="1785600"/>
            <a:ext cx="2160" cy="32868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9" name="Прямая со стрелкой 10"/>
          <p:cNvCxnSpPr/>
          <p:nvPr/>
        </p:nvCxnSpPr>
        <p:spPr>
          <a:xfrm>
            <a:off x="5500440" y="5072040"/>
            <a:ext cx="285804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0:10:21Z</dcterms:created>
  <dc:creator>dmc</dc:creator>
  <dc:description/>
  <dc:language>en-US</dc:language>
  <cp:lastModifiedBy>111</cp:lastModifiedBy>
  <dcterms:modified xsi:type="dcterms:W3CDTF">2009-12-16T17:03:37Z</dcterms:modified>
  <cp:revision>73</cp:revision>
  <dc:subject/>
  <dc:title>Слайд 1</dc:title>
</cp:coreProperties>
</file>