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C2B2F-2396-49FE-84DA-5B235240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1752E-3338-489E-A673-320EEA39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4A0DF-185C-4CA1-8DDF-F0E22555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2839F-F62C-4FEE-B6C3-9D6B0116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33A2-E63B-4525-A9F0-46143A1A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2EAB-0BE3-4201-8A4B-444F9E80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8EF1-0A2F-4DDB-B196-FAE9CC87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3803-D1A2-491F-957F-BEFD51D7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AE96-8A1B-4DD3-8949-6C5FD71D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3A29-EF4F-42A3-9C0F-034C8D96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E343-629F-4916-BF4D-33D217ED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F1D1C-B74F-43FC-92AD-FCC8FC7B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4F28-6FDB-40F4-8F08-100C0CBE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7655-A3C5-4E8A-B873-012EFFB9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990F-0644-4CAE-8B3F-E2EDC685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C3A1-6223-4205-BFBE-EF1465BB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4BB0-0C1C-400A-8AF1-22829FDF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CA723-C931-4FF2-A2E0-24776712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200B4-B823-46BB-8FFE-B87E1897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45778-0BE2-43C1-8B3D-EB72188B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BB07-4100-4869-915E-7DA673A1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56F0-5D83-489A-ABD6-BE5EC1B2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E1C60-53E4-4A85-BF7F-08862E75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9AD30-87B0-45CC-BA54-EC24041B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8143-C1EF-46DE-86A2-E55E3C1957C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407A-9EC2-424D-B404-F59D5457814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hyperlink" Target="http://www.kontorakuka.ru/countries/europe/greece/jpeg/theatre2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he-traveller.co.uk/uploads/Greek%20Drama%20low%20res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shkolazhizni.ru/img/content/i67/67915_or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he_Plague_of_Thebe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Georgia"/>
              </a:rPr>
              <a:t>В театре Диониса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2800" spc="-1" strike="noStrike">
                <a:solidFill>
                  <a:srgbClr val="ffffcc"/>
                </a:solidFill>
                <a:latin typeface="Georgia"/>
              </a:rPr>
              <a:t>урок истории для 5 класса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Georgia"/>
              </a:rPr>
              <a:t>учитель – Шакирова Динара Фанилев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70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«Птенцы младые Кадмова гнезда»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, т.е. жители города Фивы. Кадм ― сын финикийского царя, посланный им на поиски Европы (дочь финикийского царя), похищенной Зевсом. Не найдя нигде следов сестры, Кадм получил указание от Аполлона основать город Фивы (Кадме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«Птенцы младые…», «дети»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, т.е. народ. Эдип представлен как царь, по-отечески заботящийся о своих поддан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Georgia"/>
              </a:rPr>
              <a:t>Вопросы для обсуждения.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Каким вам представляется Эдип, какими качествами он наделен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О чем говорят эти качества царя Эдип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Georgia"/>
              </a:rPr>
              <a:t>Домашнее зад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§ 39, сочинение – рассуждение на тему «В чем отличие греческого театра от театра наших дней? Есть ли между ними сходство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Georgia"/>
              </a:rPr>
              <a:t>Интернет – ресурс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2" marL="1062720" indent="-2124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michpravda.ru/photos/image/649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hellados.ru/pic.php?id=22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olimpic-star.ru/contries/grecia/athenes/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http://lesson-history.narod.ru/DM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expert.org.ua/?st=3&amp;id=1329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newsru.com/cinema/26nov2009/theatrondionis.htm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shutterstock.com/similar-60388042/stock-photo-venice-italy-september-amos-poe-with-the-comedy-cast-at-th-venice-film-festival-september.htm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theatreday.ioso.ru/mask.htm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http://ru.wikipedia.org/wiki/%D0%A4%D0%B0%D0%B9%D0%BB:The_Plague_of_Thebes.jp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Georgia"/>
              </a:rPr>
              <a:t>План уро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рия возникновения теат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дание теат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еры древнегреческого теат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жанра греческих пье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гедия Софокла «Эдип-цар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Туймазинский Драматический теат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581120" y="1600200"/>
            <a:ext cx="5981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1640" y="2133360"/>
            <a:ext cx="4032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Дионис</a:t>
            </a:r>
            <a:r>
              <a:rPr b="0" lang="ru-RU" sz="3600" spc="-1" strike="noStrike">
                <a:solidFill>
                  <a:srgbClr val="ffffff"/>
                </a:solidFill>
                <a:latin typeface="Georgia"/>
              </a:rPr>
              <a:t> – бог виноградарства и виноделия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dionysus2-0135"/>
          <p:cNvPicPr/>
          <p:nvPr/>
        </p:nvPicPr>
        <p:blipFill>
          <a:blip r:embed="rId1"/>
          <a:stretch/>
        </p:blipFill>
        <p:spPr>
          <a:xfrm>
            <a:off x="611280" y="260280"/>
            <a:ext cx="38289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Georgia"/>
              </a:rPr>
              <a:t>Теа́тр</a:t>
            </a:r>
            <a:r>
              <a:rPr b="0" lang="ru-RU" sz="3800" spc="-1" strike="noStrike">
                <a:solidFill>
                  <a:srgbClr val="ffffcc"/>
                </a:solidFill>
                <a:latin typeface="Georgia"/>
              </a:rPr>
              <a:t> (</a:t>
            </a:r>
            <a:r>
              <a:rPr b="0" lang="ru-RU" sz="3800" spc="-1" strike="noStrike" u="sng">
                <a:solidFill>
                  <a:srgbClr val="ebf25a"/>
                </a:solidFill>
                <a:uFillTx/>
                <a:latin typeface="Georgia"/>
                <a:hlinkClick r:id="rId1"/>
              </a:rPr>
              <a:t>греч.</a:t>
            </a:r>
            <a:r>
              <a:rPr b="0" lang="ru-RU" sz="3800" spc="-1" strike="noStrike">
                <a:solidFill>
                  <a:srgbClr val="ffffcc"/>
                </a:solidFill>
                <a:latin typeface="Georgia"/>
              </a:rPr>
              <a:t> ) — место для зрелищ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8" descr="Картинка 2 из 2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427040"/>
            <a:ext cx="684072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Georgia"/>
              </a:rPr>
              <a:t>Здание театра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721044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еста для зрителей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орхестра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― круглая, или полукруглая площадка, на которой выступали актеры и х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скене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― примыкающая к орхестре постройка, к стене которой прикрепляли деко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Рисунок7"/>
          <p:cNvPicPr/>
          <p:nvPr/>
        </p:nvPicPr>
        <p:blipFill>
          <a:blip r:embed="rId1"/>
          <a:stretch/>
        </p:blipFill>
        <p:spPr>
          <a:xfrm>
            <a:off x="1258920" y="3112920"/>
            <a:ext cx="6697800" cy="374508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  <p:sp>
        <p:nvSpPr>
          <p:cNvPr id="140" name="AutoShape 6"/>
          <p:cNvSpPr/>
          <p:nvPr/>
        </p:nvSpPr>
        <p:spPr>
          <a:xfrm>
            <a:off x="5580000" y="3573360"/>
            <a:ext cx="647640" cy="1150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4067280" y="4797360"/>
            <a:ext cx="86508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2556000" y="3860640"/>
            <a:ext cx="1224000" cy="720720"/>
          </a:xfrm>
          <a:prstGeom prst="rightArrow">
            <a:avLst>
              <a:gd name="adj1" fmla="val 50000"/>
              <a:gd name="adj2" fmla="val 4245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9" descr="Рисунок9"/>
          <p:cNvPicPr/>
          <p:nvPr/>
        </p:nvPicPr>
        <p:blipFill>
          <a:blip r:embed="rId2"/>
          <a:stretch/>
        </p:blipFill>
        <p:spPr>
          <a:xfrm>
            <a:off x="7408800" y="3860640"/>
            <a:ext cx="17352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Georgia"/>
              </a:rPr>
              <a:t>Актеры древнегреческого теат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Картинка 7 из 89">
            <a:hlinkClick r:id="rId1"/>
          </p:cNvPr>
          <p:cNvPicPr/>
          <p:nvPr/>
        </p:nvPicPr>
        <p:blipFill>
          <a:blip r:embed="rId2"/>
          <a:stretch/>
        </p:blipFill>
        <p:spPr>
          <a:xfrm rot="21062400">
            <a:off x="468360" y="2276640"/>
            <a:ext cx="2881440" cy="2220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67915_or">
            <a:hlinkClick r:id="rId3"/>
          </p:cNvPr>
          <p:cNvPicPr/>
          <p:nvPr/>
        </p:nvPicPr>
        <p:blipFill>
          <a:blip r:embed="rId4"/>
          <a:stretch/>
        </p:blipFill>
        <p:spPr>
          <a:xfrm rot="849000">
            <a:off x="6372000" y="3499920"/>
            <a:ext cx="1869840" cy="2802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i?id=43854895-06"/>
          <p:cNvPicPr/>
          <p:nvPr/>
        </p:nvPicPr>
        <p:blipFill>
          <a:blip r:embed="rId5"/>
          <a:stretch/>
        </p:blipFill>
        <p:spPr>
          <a:xfrm rot="592200">
            <a:off x="6012000" y="1484280"/>
            <a:ext cx="1487520" cy="2089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"/>
          <p:cNvPicPr/>
          <p:nvPr/>
        </p:nvPicPr>
        <p:blipFill>
          <a:blip r:embed="rId6"/>
          <a:stretch/>
        </p:blipFill>
        <p:spPr>
          <a:xfrm>
            <a:off x="2987640" y="1413000"/>
            <a:ext cx="2935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Georgia"/>
              </a:rPr>
              <a:t>2 жанра греческих пьес</a:t>
            </a: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Georgia"/>
              </a:rPr>
              <a:t> трагедия          комедия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788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трагедии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(греч. ― «козлиная песнь»; трагедия ― грустная, печальная, трагическая, заунывная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 трагедиях рассказывалось о героях прошлого, поднимались важные проблемы: следует ли подчиняться велениям богов или противостоять им, можно ли пренебречь человеческими запретами во имя высокого нравственного долг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Эсхил, Софокл, Еврипид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5651640" y="907920"/>
            <a:ext cx="72072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5"/>
          <p:cNvSpPr/>
          <p:nvPr/>
        </p:nvSpPr>
        <p:spPr>
          <a:xfrm flipH="1">
            <a:off x="2916360" y="907920"/>
            <a:ext cx="50328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932360" y="1989000"/>
            <a:ext cx="421164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комеди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(греч. «комос» ― веселое шествие земледельцев и «адо» ― пою; комедия ― радостная, веселая, смешная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 комедиях, напротив, поднимались насущные (имеющие важное жизненное значение) проблем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Аристофа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9960"/>
            <a:ext cx="77868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000" y="0"/>
            <a:ext cx="800244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4200" spc="-1" strike="noStrike">
                <a:solidFill>
                  <a:srgbClr val="ffffff"/>
                </a:solidFill>
                <a:latin typeface="Georgia"/>
              </a:rPr>
              <a:t>Софокл</a:t>
            </a:r>
            <a:r>
              <a:rPr b="0" lang="ru-RU" sz="4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"</a:t>
            </a: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Эдип</a:t>
            </a: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царь</a:t>
            </a: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"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350px-The_Plague_of_Theb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24120"/>
            <a:ext cx="662472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07:33:29Z</dcterms:created>
  <dc:creator>NATASHA</dc:creator>
  <dc:description/>
  <dc:language>en-US</dc:language>
  <cp:lastModifiedBy>Динара</cp:lastModifiedBy>
  <dcterms:modified xsi:type="dcterms:W3CDTF">2011-11-11T04:43:02Z</dcterms:modified>
  <cp:revision>6</cp:revision>
  <dc:subject/>
  <dc:title>В театре Диониса</dc:title>
</cp:coreProperties>
</file>