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ADED-9834-4C4A-B2C6-4D4EA65E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6CC4-95E2-4A46-A63E-AF55AE77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3AD3-0100-4474-B085-673E872E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2E36-874E-4BC8-B7B6-863BBB7B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5DD-3AC1-4CF1-A02F-CA01F51D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6FFE-66E9-4F8F-AD83-A3C85162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84C-7BCC-4A16-9A75-9CB4FC92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61A8-2E4B-48CD-A55B-BD12E20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7A4-EF99-4658-9655-5D2DF51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18D2-9F7D-461D-B9CE-08419C4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B601-05AE-4BE4-A60A-D94CEB2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9646-1772-4AB8-B07C-6A440D3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F5E-6313-4859-861F-01C7A9E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BDC-1950-4F34-B40D-95B83BF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F8A-0D03-4A21-9810-374377E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80F5-D644-4A80-91AD-C288BE21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E66-33DB-4694-9DD9-97A21C40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CF7B-7DE9-42C9-9A96-A213FCF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893C-F1D6-4C68-970D-F688B59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ED38-56D7-48D5-BA0F-B9100C9C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955C-3795-4582-9FA1-500B8FD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E9F3-797B-4B4D-A0DD-3E544D8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E68D-D59B-48CC-B654-092B21B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81BD-0B48-4C57-89F7-A706266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3EB-FDD4-4E32-86E6-839AB8A17A9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383-AFCC-4A9A-9C42-51C19B45AA9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www.kontorakuka.ru/countries/europe/greece/jpeg/theatre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-traveller.co.uk/uploads/Greek%20Drama%20low%20re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hkolazhizni.ru/img/content/i67/67915_or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e_Plague_of_Thebe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eorgia"/>
              </a:rPr>
              <a:t>В театре Диониса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</a:rPr>
              <a:t>урок истории для 5 класса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</a:rPr>
              <a:t>учитель – Шакирова Динара Фанилев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Птенцы младые Кадмова гнезда»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, т.е. жители города Фивы. Кадм ― сын финикийского царя, посланный им на поиски Европы (дочь финикийского царя), похищенной Зевсом. Не найдя нигде следов сестры, Кадм получил указание от Аполлона основать город Фивы (Кадме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Птенцы младые…», «дети»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, т.е. народ. Эдип представлен как царь, по-отечески заботящийся о своих подда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Georgia"/>
              </a:rPr>
              <a:t>Вопросы для обсуждения.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аким вам представляется Эдип, какими качествами он наделе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О чем говорят эти качества царя Эдип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§ 39, сочинение – рассуждение на тему «В чем отличие греческого театра от театра наших дней? Есть ли между ними сходство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Интернет – ресурс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michpravda.ru/photos/image/64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hellados.ru/pic.php?id=22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olimpic-star.ru/contries/grecia/athenes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http://lesson-history.narod.ru/DM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expert.org.ua/?st=3&amp;id=132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ewsru.com/cinema/26nov2009/theatrondionis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shutterstock.com/similar-60388042/stock-photo-venice-italy-september-amos-poe-with-the-comedy-cast-at-th-venice-film-festival-september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theatreday.ioso.ru/mask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http://ru.wikipedia.org/wiki/%D0%A4%D0%B0%D0%B9%D0%BB:The_Plague_of_Thebes.jp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План уро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возникновения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ание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еры древнегреческого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жанра греческих пь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гедия Софокла «Эдип-цар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уймазинский Драматический теат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03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Дионис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 – бог виноградарства и виноде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dionysus2-0135"/>
          <p:cNvPicPr/>
          <p:nvPr/>
        </p:nvPicPr>
        <p:blipFill>
          <a:blip r:embed="rId1"/>
          <a:stretch/>
        </p:blipFill>
        <p:spPr>
          <a:xfrm>
            <a:off x="611280" y="260280"/>
            <a:ext cx="38289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Georgia"/>
              </a:rPr>
              <a:t>Теа́тр</a:t>
            </a: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(</a:t>
            </a:r>
            <a:r>
              <a:rPr b="0" lang="ru-RU" sz="3800" spc="-1" strike="noStrike" u="sng">
                <a:solidFill>
                  <a:srgbClr val="ebf25a"/>
                </a:solidFill>
                <a:uFillTx/>
                <a:latin typeface="Georgia"/>
                <a:hlinkClick r:id="rId1"/>
              </a:rPr>
              <a:t>греч.</a:t>
            </a: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) — место для зрелищ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Картинка 2 из 2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27040"/>
            <a:ext cx="6840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Здание театр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72104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еста для зрителей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рхестр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― круглая, или полукруглая площадка, на которой выступали актеры и х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кене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― примыкающая к орхестре постройка, к стене которой прикрепляли деко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Рисунок7"/>
          <p:cNvPicPr/>
          <p:nvPr/>
        </p:nvPicPr>
        <p:blipFill>
          <a:blip r:embed="rId1"/>
          <a:stretch/>
        </p:blipFill>
        <p:spPr>
          <a:xfrm>
            <a:off x="1258920" y="3112920"/>
            <a:ext cx="6697800" cy="374508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140" name="AutoShape 6"/>
          <p:cNvSpPr/>
          <p:nvPr/>
        </p:nvSpPr>
        <p:spPr>
          <a:xfrm>
            <a:off x="5580000" y="3573360"/>
            <a:ext cx="64764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4067280" y="4797360"/>
            <a:ext cx="8650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556000" y="3860640"/>
            <a:ext cx="1224000" cy="720720"/>
          </a:xfrm>
          <a:prstGeom prst="rightArrow">
            <a:avLst>
              <a:gd name="adj1" fmla="val 50000"/>
              <a:gd name="adj2" fmla="val 42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Рисунок9"/>
          <p:cNvPicPr/>
          <p:nvPr/>
        </p:nvPicPr>
        <p:blipFill>
          <a:blip r:embed="rId2"/>
          <a:stretch/>
        </p:blipFill>
        <p:spPr>
          <a:xfrm>
            <a:off x="7408800" y="3860640"/>
            <a:ext cx="173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Актеры древнегреческого теа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Картинка 7 из 89">
            <a:hlinkClick r:id="rId1"/>
          </p:cNvPr>
          <p:cNvPicPr/>
          <p:nvPr/>
        </p:nvPicPr>
        <p:blipFill>
          <a:blip r:embed="rId2"/>
          <a:stretch/>
        </p:blipFill>
        <p:spPr>
          <a:xfrm rot="21062400">
            <a:off x="468360" y="2276640"/>
            <a:ext cx="2881440" cy="2220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67915_or">
            <a:hlinkClick r:id="rId3"/>
          </p:cNvPr>
          <p:cNvPicPr/>
          <p:nvPr/>
        </p:nvPicPr>
        <p:blipFill>
          <a:blip r:embed="rId4"/>
          <a:stretch/>
        </p:blipFill>
        <p:spPr>
          <a:xfrm rot="849000">
            <a:off x="6372000" y="3499920"/>
            <a:ext cx="1869840" cy="2802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i?id=43854895-06"/>
          <p:cNvPicPr/>
          <p:nvPr/>
        </p:nvPicPr>
        <p:blipFill>
          <a:blip r:embed="rId5"/>
          <a:stretch/>
        </p:blipFill>
        <p:spPr>
          <a:xfrm rot="592200">
            <a:off x="6012000" y="1484280"/>
            <a:ext cx="1487520" cy="208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6"/>
          <a:stretch/>
        </p:blipFill>
        <p:spPr>
          <a:xfrm>
            <a:off x="2987640" y="1413000"/>
            <a:ext cx="2935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2 жанра греческих пьес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трагедия          комед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788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трагедии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греч. ― «козлиная песнь»; трагедия ― грустная, печальная, трагическая, заунывна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трагедиях рассказывалось о героях прошлого, поднимались важные проблемы: следует ли подчиняться велениям богов или противостоять им, можно ли пренебречь человеческими запретами во имя высокого нравственного дол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Эсхил, Софокл, Еврипи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651640" y="907920"/>
            <a:ext cx="720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"/>
          <p:cNvSpPr/>
          <p:nvPr/>
        </p:nvSpPr>
        <p:spPr>
          <a:xfrm flipH="1">
            <a:off x="2916360" y="90792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932360" y="1989000"/>
            <a:ext cx="4211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комед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греч. «комос» ― веселое шествие земледельцев и «адо» ― пою; комедия ― радостная, веселая, смешна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комедиях, напротив, поднимались насущные (имеющие важное жизненное значение) пробл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Аристофа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9960"/>
            <a:ext cx="7786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0"/>
            <a:ext cx="800244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4200" spc="-1" strike="noStrike">
                <a:solidFill>
                  <a:srgbClr val="ffffff"/>
                </a:solidFill>
                <a:latin typeface="Georgia"/>
              </a:rPr>
              <a:t>Софокл</a:t>
            </a: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дип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царь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"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350px-The_Plague_of_Theb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24120"/>
            <a:ext cx="66247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33:29Z</dcterms:created>
  <dc:creator>NATASHA</dc:creator>
  <dc:description/>
  <dc:language>en-US</dc:language>
  <cp:lastModifiedBy>Динара</cp:lastModifiedBy>
  <dcterms:modified xsi:type="dcterms:W3CDTF">2011-11-11T04:43:02Z</dcterms:modified>
  <cp:revision>6</cp:revision>
  <dc:subject/>
  <dc:title>В театре Диониса</dc:title>
</cp:coreProperties>
</file>