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1453EC-1849-4B94-B648-8D6F2128152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059146-9C02-4211-B446-DA33A1FD013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964AD1-DE84-4E18-BCEB-89655177610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0" y="-4668840"/>
            <a:ext cx="1440" cy="262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4BDD65-BCAF-4067-B6A9-67046016651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0" y="-4668840"/>
            <a:ext cx="1440" cy="262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0DB0E8-7EE1-4107-B7DC-261C12F3FAC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-10632960" y="-4668840"/>
            <a:ext cx="34980480" cy="262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7BA9B3-7B21-43CB-9BE8-9F1C659B634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0" y="-4668840"/>
            <a:ext cx="1440" cy="262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542393-131D-443F-B489-3A6DB0A10EF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-10632960" y="-4668840"/>
            <a:ext cx="34980480" cy="262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7DAD6F-CA35-4B3C-9B85-D337B645A32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0" y="-4668840"/>
            <a:ext cx="1440" cy="262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D80EB8-ABDD-46EA-A8C2-A4744FE291C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2D8EDE-47AB-4966-8E23-4C548C55CEB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-10632960" y="-4668840"/>
            <a:ext cx="34980480" cy="262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7E9172-9694-4071-8494-BA306B8A2D8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3ED155-65A0-462B-9BF1-DD773ED3782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-10632960" y="-4668840"/>
            <a:ext cx="34980480" cy="262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3FFAF5-8FA8-44EA-A92D-C3518CD8C23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3E9AFB-4390-4D2C-90DC-08118E4FFCC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3857D5-82FC-4765-B5BB-2A7F8870CCE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FE157C-8BC8-484E-9F65-49559E7252E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B6F479-D9BF-4BCA-95AB-A33D7517D0C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-10632960" y="-4668840"/>
            <a:ext cx="34980480" cy="262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3F6646-D426-46D5-9173-305AD6173A1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-10632960" y="-4668840"/>
            <a:ext cx="34980480" cy="262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84B654-AA8D-48B8-88DF-6C635D1533D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-10632960" y="-4668840"/>
            <a:ext cx="34980480" cy="262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4D5385-0917-4DB0-8629-FA25D56D24E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-10632960" y="-4668840"/>
            <a:ext cx="34980480" cy="262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74BFA-D9E2-4C49-BEE4-FE2E820CB6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6AEF8-B65D-435E-B996-F7B35249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7AF6E-F585-42AC-B4FA-A15AAC20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F8C57-8147-49FC-9FC2-D686E29A71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0CBB0-EFAB-4E9C-BD09-0E94646B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3605B-CCA0-4270-B8A1-CB0F5E43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49358-D483-4589-AE0A-E612C381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F72E3-4F12-4546-A061-588674F4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8F68E-0B24-4074-AB94-F48A2B31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09080-766E-4982-85E8-7B6855A4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E6D88-095F-48ED-924B-5EF98465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41D01-23EC-48CD-8DC8-DB51669D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34EA7E-6612-4E9E-A852-3D4A4D4FE70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-571680" y="285840"/>
            <a:ext cx="7777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6600"/>
                </a:solidFill>
                <a:latin typeface="Georgia"/>
              </a:rPr>
              <a:t>Урок </a:t>
            </a:r>
            <a:br>
              <a:rPr sz="6000"/>
            </a:br>
            <a:r>
              <a:rPr b="1" i="1" lang="ru-RU" sz="6000" spc="-1" strike="noStrike">
                <a:solidFill>
                  <a:srgbClr val="006600"/>
                </a:solidFill>
                <a:latin typeface="Georgia"/>
              </a:rPr>
              <a:t>окружающего       мира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5400" spc="-1" strike="noStrike">
                <a:solidFill>
                  <a:srgbClr val="008000"/>
                </a:solidFill>
                <a:latin typeface="Calibri"/>
              </a:rPr>
              <a:t>3класс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2563560" cy="20480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5784840" y="2073240"/>
            <a:ext cx="3090960" cy="31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de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250920" y="549360"/>
            <a:ext cx="8370720" cy="5545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3 группа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7ffd1"/>
                </a:solidFill>
                <a:latin typeface="Calibri"/>
              </a:rPr>
              <a:t>План: стр.11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7ffd1"/>
                </a:solidFill>
                <a:latin typeface="Calibri"/>
              </a:rPr>
              <a:t>1.Для чего млекопитающие должны есть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7ffd1"/>
                </a:solidFill>
                <a:latin typeface="Calibri"/>
              </a:rPr>
              <a:t>2.Какие зубы у них есть? Для чего они служат? (покажи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7ffd1"/>
                </a:solidFill>
                <a:latin typeface="Calibri"/>
              </a:rPr>
              <a:t>3. Какие зубы развиты у человека слабо и почему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187800" y="2608200"/>
            <a:ext cx="232092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de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457200" y="620640"/>
            <a:ext cx="8226360" cy="54561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поддерживать температуру тела животные должны есть много и часто.Их зубы очень хорошо приспособлены к обработке пищи: разные зубы выполняют разные задачи. Хищники клыками схватывают добычу и глотают ее не разжевывая, поэтому у них слабо развиты жевательные зубы. У травоядных хорошо развиты резцы и жевательные зубы, а клыки отсутствуют или слабо развит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de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457200" y="907920"/>
            <a:ext cx="8228160" cy="48848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4 групп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План: стр.112-11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Орган слух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Орган зрен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Орган обонян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Орган осязан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Какие органы чувств развиты у человека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de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457200" y="404640"/>
            <a:ext cx="8226360" cy="603432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рошо развитые органы чувств помогают млекопитающим находить добычу. Они особенно остро ощущают запахи и слышат звуки. Звери имеют ушные раковины. Млекопитающие издают сигналы в виде запахов и звуков и таким образом общаются. Для этого у них есть голосовые связки в горле и пахучие железы на коже. С развитием органов чувств и способов охоты стал сложнее и мозг млекопитающих. Благодаря сложному строению мозга звери легко обучаются и дрессируютс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de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57200" y="1197000"/>
            <a:ext cx="8228160" cy="4883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5 групп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Calibri"/>
              </a:rPr>
              <a:t>План: стр. 110- 11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Calibri"/>
              </a:rPr>
              <a:t>Почему у млекопитающих рождается меньше детенышей, чем у земноводных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Calibri"/>
              </a:rPr>
              <a:t>Кто и как их кормит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Calibri"/>
              </a:rPr>
              <a:t>Как воспитывают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Calibri"/>
              </a:rPr>
              <a:t>Как человек ухаживает за своими детьми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57200" y="907920"/>
            <a:ext cx="8226360" cy="5168880"/>
          </a:xfrm>
          <a:prstGeom prst="rect">
            <a:avLst/>
          </a:prstGeom>
          <a:solidFill>
            <a:srgbClr val="8585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лекопитающие рождают немного детенышей, но хорошо заботятся о них. Мать начинает заботиться о детеныше еще до рождения, вынашивая его в своем теле. Потом она выкармливает его своим молоком, поэтому звери и названы млекопитающими. Обычно родители еще долго помогают своим детям во все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277920" y="836640"/>
            <a:ext cx="8686800" cy="47862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Почему так назвали?</a:t>
            </a:r>
            <a:br>
              <a:rPr sz="4400"/>
            </a:b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Какую температуру тела имеют?</a:t>
            </a:r>
            <a:br>
              <a:rPr sz="4400"/>
            </a:b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Почему не замерзают?</a:t>
            </a:r>
            <a:br>
              <a:rPr sz="4400"/>
            </a:b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Как и чем питаются?</a:t>
            </a:r>
            <a:br>
              <a:rPr sz="4400"/>
            </a:b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Какие органы чувств развиты?</a:t>
            </a:r>
            <a:br>
              <a:rPr sz="4400"/>
            </a:b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Относится ли человек к этой группе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8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57200" y="692280"/>
            <a:ext cx="8228160" cy="4956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лекопитающие — самые совершенные животные. Они теплокровные, помогает сохранить тепло шерсть, и разнообразие пищи, дающей энергию. У них хорошо развит мозг и органы чувств. Они заботятся о своем потомстве. С уверенностью можем сказать, что человек относится к разряду млекопитающих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57200" y="274680"/>
            <a:ext cx="8229600" cy="178596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</a:rPr>
              <a:t>Самое большое </a:t>
            </a:r>
            <a:br>
              <a:rPr sz="4800"/>
            </a:br>
            <a:r>
              <a:rPr b="1" lang="ru-RU" sz="4800" spc="-1" strike="noStrike">
                <a:solidFill>
                  <a:srgbClr val="008000"/>
                </a:solidFill>
                <a:latin typeface="Times New Roman"/>
              </a:rPr>
              <a:t>млекопитающее - кит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4565520" y="1871640"/>
            <a:ext cx="3780000" cy="2676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457200" y="1785960"/>
            <a:ext cx="3743280" cy="3103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334800" y="4084560"/>
            <a:ext cx="3737160" cy="279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4"/>
          <a:stretch/>
        </p:blipFill>
        <p:spPr>
          <a:xfrm>
            <a:off x="4578480" y="3968640"/>
            <a:ext cx="3767040" cy="30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1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457200" y="1484280"/>
            <a:ext cx="8228160" cy="3240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не было трудно 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не помогло открыть новое..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не помогло запомнить материал..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Я получил удовольствие на уроке от..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826920" y="836640"/>
            <a:ext cx="7305840" cy="58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00cc"/>
                </a:solidFill>
                <a:latin typeface="Times New Roman"/>
              </a:rPr>
              <a:t>КЛЮВ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00cc"/>
                </a:solidFill>
                <a:latin typeface="Times New Roman"/>
              </a:rPr>
              <a:t>ПЕРО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00cc"/>
                </a:solidFill>
                <a:latin typeface="Times New Roman"/>
              </a:rPr>
              <a:t>ТЕПЛОКРОВНЫЕ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00cc"/>
                </a:solidFill>
                <a:latin typeface="Times New Roman"/>
              </a:rPr>
              <a:t>КРЫЛЬЯ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00cc"/>
                </a:solidFill>
                <a:latin typeface="Times New Roman"/>
              </a:rPr>
              <a:t>ПТЕНЦЫ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00cc"/>
                </a:solidFill>
                <a:latin typeface="Times New Roman"/>
              </a:rPr>
              <a:t>ОСЕДЛЫЕ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428760" y="571680"/>
            <a:ext cx="1409400" cy="105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2643120" y="50004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4929120" y="57168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4"/>
          <a:stretch/>
        </p:blipFill>
        <p:spPr>
          <a:xfrm>
            <a:off x="7215120" y="571680"/>
            <a:ext cx="1428840" cy="121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5"/>
          <a:stretch/>
        </p:blipFill>
        <p:spPr>
          <a:xfrm>
            <a:off x="428760" y="27255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6"/>
          <a:stretch/>
        </p:blipFill>
        <p:spPr>
          <a:xfrm>
            <a:off x="2587680" y="2773440"/>
            <a:ext cx="1428840" cy="1333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7"/>
          <a:stretch/>
        </p:blipFill>
        <p:spPr>
          <a:xfrm>
            <a:off x="4786200" y="2773440"/>
            <a:ext cx="1428840" cy="1423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8"/>
          <a:stretch/>
        </p:blipFill>
        <p:spPr>
          <a:xfrm>
            <a:off x="6796080" y="2779560"/>
            <a:ext cx="1428840" cy="1357560"/>
          </a:xfrm>
          <a:prstGeom prst="rect">
            <a:avLst/>
          </a:prstGeom>
          <a:ln w="0">
            <a:noFill/>
          </a:ln>
        </p:spPr>
      </p:pic>
      <p:sp>
        <p:nvSpPr>
          <p:cNvPr id="61" name="Freeform 9"/>
          <p:cNvSpPr/>
          <p:nvPr/>
        </p:nvSpPr>
        <p:spPr>
          <a:xfrm>
            <a:off x="7175520" y="4016520"/>
            <a:ext cx="647640" cy="576000"/>
          </a:xfrm>
          <a:custGeom>
            <a:avLst/>
            <a:gdLst/>
            <a:ahLst/>
            <a:rect l="l" t="t" r="r" b="b"/>
            <a:pathLst>
              <a:path w="648072" h="576064">
                <a:moveTo>
                  <a:pt x="1" y="220036"/>
                </a:moveTo>
                <a:lnTo>
                  <a:pt x="247543" y="220038"/>
                </a:lnTo>
                <a:lnTo>
                  <a:pt x="324036" y="0"/>
                </a:lnTo>
                <a:lnTo>
                  <a:pt x="400529" y="220038"/>
                </a:lnTo>
                <a:lnTo>
                  <a:pt x="648071" y="220036"/>
                </a:lnTo>
                <a:lnTo>
                  <a:pt x="447805" y="356026"/>
                </a:lnTo>
                <a:lnTo>
                  <a:pt x="524301" y="576063"/>
                </a:lnTo>
                <a:lnTo>
                  <a:pt x="324036" y="440071"/>
                </a:lnTo>
                <a:lnTo>
                  <a:pt x="123771" y="576063"/>
                </a:lnTo>
                <a:lnTo>
                  <a:pt x="200267" y="356026"/>
                </a:lnTo>
                <a:lnTo>
                  <a:pt x="1" y="22003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Freeform 10"/>
          <p:cNvSpPr/>
          <p:nvPr/>
        </p:nvSpPr>
        <p:spPr>
          <a:xfrm>
            <a:off x="5176800" y="4046400"/>
            <a:ext cx="647640" cy="576360"/>
          </a:xfrm>
          <a:custGeom>
            <a:avLst/>
            <a:gdLst/>
            <a:ahLst/>
            <a:rect l="l" t="t" r="r" b="b"/>
            <a:pathLst>
              <a:path w="648072" h="576064">
                <a:moveTo>
                  <a:pt x="1" y="220036"/>
                </a:moveTo>
                <a:lnTo>
                  <a:pt x="247543" y="220038"/>
                </a:lnTo>
                <a:lnTo>
                  <a:pt x="324036" y="0"/>
                </a:lnTo>
                <a:lnTo>
                  <a:pt x="400529" y="220038"/>
                </a:lnTo>
                <a:lnTo>
                  <a:pt x="648071" y="220036"/>
                </a:lnTo>
                <a:lnTo>
                  <a:pt x="447805" y="356026"/>
                </a:lnTo>
                <a:lnTo>
                  <a:pt x="524301" y="576063"/>
                </a:lnTo>
                <a:lnTo>
                  <a:pt x="324036" y="440071"/>
                </a:lnTo>
                <a:lnTo>
                  <a:pt x="123771" y="576063"/>
                </a:lnTo>
                <a:lnTo>
                  <a:pt x="200267" y="356026"/>
                </a:lnTo>
                <a:lnTo>
                  <a:pt x="1" y="220036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2978280" y="3986280"/>
            <a:ext cx="647640" cy="576360"/>
          </a:xfrm>
          <a:custGeom>
            <a:avLst/>
            <a:gdLst/>
            <a:ahLst/>
            <a:rect l="l" t="t" r="r" b="b"/>
            <a:pathLst>
              <a:path w="648072" h="576064">
                <a:moveTo>
                  <a:pt x="1" y="220036"/>
                </a:moveTo>
                <a:lnTo>
                  <a:pt x="247543" y="220038"/>
                </a:lnTo>
                <a:lnTo>
                  <a:pt x="324036" y="0"/>
                </a:lnTo>
                <a:lnTo>
                  <a:pt x="400529" y="220038"/>
                </a:lnTo>
                <a:lnTo>
                  <a:pt x="648071" y="220036"/>
                </a:lnTo>
                <a:lnTo>
                  <a:pt x="447805" y="356026"/>
                </a:lnTo>
                <a:lnTo>
                  <a:pt x="524301" y="576063"/>
                </a:lnTo>
                <a:lnTo>
                  <a:pt x="324036" y="440071"/>
                </a:lnTo>
                <a:lnTo>
                  <a:pt x="123771" y="576063"/>
                </a:lnTo>
                <a:lnTo>
                  <a:pt x="200267" y="356026"/>
                </a:lnTo>
                <a:lnTo>
                  <a:pt x="1" y="22003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Freeform 12"/>
          <p:cNvSpPr/>
          <p:nvPr/>
        </p:nvSpPr>
        <p:spPr>
          <a:xfrm>
            <a:off x="900000" y="4046400"/>
            <a:ext cx="647640" cy="576360"/>
          </a:xfrm>
          <a:custGeom>
            <a:avLst/>
            <a:gdLst/>
            <a:ahLst/>
            <a:rect l="l" t="t" r="r" b="b"/>
            <a:pathLst>
              <a:path w="648072" h="576064">
                <a:moveTo>
                  <a:pt x="1" y="220036"/>
                </a:moveTo>
                <a:lnTo>
                  <a:pt x="247543" y="220038"/>
                </a:lnTo>
                <a:lnTo>
                  <a:pt x="324036" y="0"/>
                </a:lnTo>
                <a:lnTo>
                  <a:pt x="400529" y="220038"/>
                </a:lnTo>
                <a:lnTo>
                  <a:pt x="648071" y="220036"/>
                </a:lnTo>
                <a:lnTo>
                  <a:pt x="447805" y="356026"/>
                </a:lnTo>
                <a:lnTo>
                  <a:pt x="524301" y="576063"/>
                </a:lnTo>
                <a:lnTo>
                  <a:pt x="324036" y="440071"/>
                </a:lnTo>
                <a:lnTo>
                  <a:pt x="123771" y="576063"/>
                </a:lnTo>
                <a:lnTo>
                  <a:pt x="200267" y="356026"/>
                </a:lnTo>
                <a:lnTo>
                  <a:pt x="1" y="220036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Freeform 13"/>
          <p:cNvSpPr/>
          <p:nvPr/>
        </p:nvSpPr>
        <p:spPr>
          <a:xfrm>
            <a:off x="7605720" y="1643040"/>
            <a:ext cx="647640" cy="576360"/>
          </a:xfrm>
          <a:custGeom>
            <a:avLst/>
            <a:gdLst/>
            <a:ahLst/>
            <a:rect l="l" t="t" r="r" b="b"/>
            <a:pathLst>
              <a:path w="648072" h="576064">
                <a:moveTo>
                  <a:pt x="1" y="220036"/>
                </a:moveTo>
                <a:lnTo>
                  <a:pt x="247543" y="220038"/>
                </a:lnTo>
                <a:lnTo>
                  <a:pt x="324036" y="0"/>
                </a:lnTo>
                <a:lnTo>
                  <a:pt x="400529" y="220038"/>
                </a:lnTo>
                <a:lnTo>
                  <a:pt x="648071" y="220036"/>
                </a:lnTo>
                <a:lnTo>
                  <a:pt x="447805" y="356026"/>
                </a:lnTo>
                <a:lnTo>
                  <a:pt x="524301" y="576063"/>
                </a:lnTo>
                <a:lnTo>
                  <a:pt x="324036" y="440071"/>
                </a:lnTo>
                <a:lnTo>
                  <a:pt x="123771" y="576063"/>
                </a:lnTo>
                <a:lnTo>
                  <a:pt x="200267" y="356026"/>
                </a:lnTo>
                <a:lnTo>
                  <a:pt x="1" y="22003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Freeform 14"/>
          <p:cNvSpPr/>
          <p:nvPr/>
        </p:nvSpPr>
        <p:spPr>
          <a:xfrm>
            <a:off x="5319720" y="1582560"/>
            <a:ext cx="647640" cy="576360"/>
          </a:xfrm>
          <a:custGeom>
            <a:avLst/>
            <a:gdLst/>
            <a:ahLst/>
            <a:rect l="l" t="t" r="r" b="b"/>
            <a:pathLst>
              <a:path w="648072" h="576064">
                <a:moveTo>
                  <a:pt x="1" y="220036"/>
                </a:moveTo>
                <a:lnTo>
                  <a:pt x="247543" y="220038"/>
                </a:lnTo>
                <a:lnTo>
                  <a:pt x="324036" y="0"/>
                </a:lnTo>
                <a:lnTo>
                  <a:pt x="400529" y="220038"/>
                </a:lnTo>
                <a:lnTo>
                  <a:pt x="648071" y="220036"/>
                </a:lnTo>
                <a:lnTo>
                  <a:pt x="447805" y="356026"/>
                </a:lnTo>
                <a:lnTo>
                  <a:pt x="524301" y="576063"/>
                </a:lnTo>
                <a:lnTo>
                  <a:pt x="324036" y="440071"/>
                </a:lnTo>
                <a:lnTo>
                  <a:pt x="123771" y="576063"/>
                </a:lnTo>
                <a:lnTo>
                  <a:pt x="200267" y="356026"/>
                </a:lnTo>
                <a:lnTo>
                  <a:pt x="1" y="22003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Freeform 15"/>
          <p:cNvSpPr/>
          <p:nvPr/>
        </p:nvSpPr>
        <p:spPr>
          <a:xfrm>
            <a:off x="819000" y="1498680"/>
            <a:ext cx="648000" cy="574560"/>
          </a:xfrm>
          <a:custGeom>
            <a:avLst/>
            <a:gdLst/>
            <a:ahLst/>
            <a:rect l="l" t="t" r="r" b="b"/>
            <a:pathLst>
              <a:path w="648072" h="576064">
                <a:moveTo>
                  <a:pt x="1" y="220036"/>
                </a:moveTo>
                <a:lnTo>
                  <a:pt x="247543" y="220038"/>
                </a:lnTo>
                <a:lnTo>
                  <a:pt x="324036" y="0"/>
                </a:lnTo>
                <a:lnTo>
                  <a:pt x="400529" y="220038"/>
                </a:lnTo>
                <a:lnTo>
                  <a:pt x="648071" y="220036"/>
                </a:lnTo>
                <a:lnTo>
                  <a:pt x="447805" y="356026"/>
                </a:lnTo>
                <a:lnTo>
                  <a:pt x="524301" y="576063"/>
                </a:lnTo>
                <a:lnTo>
                  <a:pt x="324036" y="440071"/>
                </a:lnTo>
                <a:lnTo>
                  <a:pt x="123771" y="576063"/>
                </a:lnTo>
                <a:lnTo>
                  <a:pt x="200267" y="356026"/>
                </a:lnTo>
                <a:lnTo>
                  <a:pt x="1" y="22003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Freeform 16"/>
          <p:cNvSpPr/>
          <p:nvPr/>
        </p:nvSpPr>
        <p:spPr>
          <a:xfrm>
            <a:off x="3033720" y="1492200"/>
            <a:ext cx="647640" cy="576360"/>
          </a:xfrm>
          <a:custGeom>
            <a:avLst/>
            <a:gdLst/>
            <a:ahLst/>
            <a:rect l="l" t="t" r="r" b="b"/>
            <a:pathLst>
              <a:path w="648072" h="576064">
                <a:moveTo>
                  <a:pt x="1" y="220036"/>
                </a:moveTo>
                <a:lnTo>
                  <a:pt x="247543" y="220038"/>
                </a:lnTo>
                <a:lnTo>
                  <a:pt x="324036" y="0"/>
                </a:lnTo>
                <a:lnTo>
                  <a:pt x="400529" y="220038"/>
                </a:lnTo>
                <a:lnTo>
                  <a:pt x="648071" y="220036"/>
                </a:lnTo>
                <a:lnTo>
                  <a:pt x="447805" y="356026"/>
                </a:lnTo>
                <a:lnTo>
                  <a:pt x="524301" y="576063"/>
                </a:lnTo>
                <a:lnTo>
                  <a:pt x="324036" y="440071"/>
                </a:lnTo>
                <a:lnTo>
                  <a:pt x="123771" y="576063"/>
                </a:lnTo>
                <a:lnTo>
                  <a:pt x="200267" y="356026"/>
                </a:lnTo>
                <a:lnTo>
                  <a:pt x="1" y="22003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415800" y="5041800"/>
            <a:ext cx="76518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                                  </a:t>
            </a: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АЮЩ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Rectangle 18"/>
          <p:cNvSpPr/>
          <p:nvPr/>
        </p:nvSpPr>
        <p:spPr>
          <a:xfrm>
            <a:off x="4331160" y="5229360"/>
            <a:ext cx="45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Rectangle 19"/>
          <p:cNvSpPr/>
          <p:nvPr/>
        </p:nvSpPr>
        <p:spPr>
          <a:xfrm>
            <a:off x="-579600" y="5229360"/>
            <a:ext cx="551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                    </a:t>
            </a: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МЛЕКОПИ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277920" y="836640"/>
            <a:ext cx="8686800" cy="47862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Почему так назвали?</a:t>
            </a:r>
            <a:br>
              <a:rPr sz="4400"/>
            </a:b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Какую температуру тела имеют?</a:t>
            </a:r>
            <a:br>
              <a:rPr sz="4400"/>
            </a:b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Почему не замерзают?</a:t>
            </a:r>
            <a:br>
              <a:rPr sz="4400"/>
            </a:b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Как и чем питаются?</a:t>
            </a:r>
            <a:br>
              <a:rPr sz="4400"/>
            </a:b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Какие органы чувств развиты?</a:t>
            </a:r>
            <a:br>
              <a:rPr sz="4400"/>
            </a:br>
            <a:r>
              <a:rPr b="1" lang="ru-RU" sz="4400" spc="-1" strike="noStrike">
                <a:solidFill>
                  <a:srgbClr val="009999"/>
                </a:solidFill>
                <a:latin typeface="Times New Roman"/>
              </a:rPr>
              <a:t>Относится ли человек к этой группе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8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1630440" y="2967120"/>
            <a:ext cx="193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Calibri"/>
              </a:rPr>
              <a:t>МЛЕК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3389400" y="296712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Calibri"/>
              </a:rPr>
              <a:t>О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3859920" y="296712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Calibri"/>
              </a:rPr>
              <a:t>ПИТ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5090760" y="2970360"/>
            <a:ext cx="264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Calibri"/>
              </a:rPr>
              <a:t>АЮЩИЕ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Арка 7"/>
          <p:cNvSpPr/>
          <p:nvPr/>
        </p:nvSpPr>
        <p:spPr>
          <a:xfrm>
            <a:off x="1646280" y="2708280"/>
            <a:ext cx="1927080" cy="914400"/>
          </a:xfrm>
          <a:custGeom>
            <a:avLst/>
            <a:gdLst/>
            <a:ahLst/>
            <a:rect l="l" t="t" r="r" b="b"/>
            <a:pathLst>
              <a:path w="1928339" h="914400">
                <a:moveTo>
                  <a:pt x="0" y="457200"/>
                </a:moveTo>
                <a:cubicBezTo>
                  <a:pt x="0" y="250626"/>
                  <a:pt x="292113" y="69714"/>
                  <a:pt x="712666" y="15829"/>
                </a:cubicBezTo>
                <a:cubicBezTo>
                  <a:pt x="880545" y="-5681"/>
                  <a:pt x="1057568" y="-5261"/>
                  <a:pt x="1224984" y="17046"/>
                </a:cubicBezTo>
                <a:cubicBezTo>
                  <a:pt x="1653295" y="74114"/>
                  <a:pt x="1943651" y="262739"/>
                  <a:pt x="1927722" y="473571"/>
                </a:cubicBezTo>
                <a:lnTo>
                  <a:pt x="1863349" y="472476"/>
                </a:lnTo>
                <a:cubicBezTo>
                  <a:pt x="1879805" y="287822"/>
                  <a:pt x="1599310" y="123118"/>
                  <a:pt x="1189556" y="76833"/>
                </a:cubicBezTo>
                <a:cubicBezTo>
                  <a:pt x="1044482" y="60446"/>
                  <a:pt x="892332" y="60136"/>
                  <a:pt x="746914" y="75932"/>
                </a:cubicBezTo>
                <a:cubicBezTo>
                  <a:pt x="345842" y="119499"/>
                  <a:pt x="64310" y="276748"/>
                  <a:pt x="64310" y="457199"/>
                </a:cubicBezTo>
                <a:lnTo>
                  <a:pt x="0" y="4572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3862440" y="2725560"/>
            <a:ext cx="140472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6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6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395280" y="851040"/>
            <a:ext cx="8507520" cy="5170320"/>
          </a:xfrm>
          <a:prstGeom prst="rect">
            <a:avLst/>
          </a:prstGeom>
          <a:solidFill>
            <a:srgbClr val="006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 групп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a5a5e9"/>
                </a:solidFill>
                <a:latin typeface="Calibri"/>
              </a:rPr>
              <a:t>План: стр. 11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5a5e9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a5a5e9"/>
                </a:solidFill>
                <a:latin typeface="Calibri"/>
              </a:rPr>
              <a:t>Температура тел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5a5e9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a5a5e9"/>
                </a:solidFill>
                <a:latin typeface="Calibri"/>
              </a:rPr>
              <a:t>За счет чего подогревается кровь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5a5e9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a5a5e9"/>
                </a:solidFill>
                <a:latin typeface="Calibri"/>
              </a:rPr>
              <a:t>Как удерживают тепло, если холодно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5a5e9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a5a5e9"/>
                </a:solidFill>
                <a:latin typeface="Calibri"/>
              </a:rPr>
              <a:t>Почему некоторые звери впадают в спячку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5a5e9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a5a5e9"/>
                </a:solidFill>
                <a:latin typeface="Calibri"/>
              </a:rPr>
              <a:t>Есть ли у человека постоянная температур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5a5e9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a5a5e9"/>
                </a:solidFill>
                <a:latin typeface="Calibri"/>
              </a:rPr>
              <a:t>тела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457200" y="549360"/>
            <a:ext cx="8228160" cy="5530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лекопитающие теплокровные животные. Кровь животных все время подогревается за счет переработки пищи и доводится до постоянной температуры: около +40 градусов.Чтобы лучше удерживать тепло во время холодов, тело животных покрыто шерстью. Некоторые животные впадают зимой в спячку, потому что им нечем питаться, но в теплое время они накапливают в своем теле жир, который помогает им перезимова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57200" y="333360"/>
            <a:ext cx="8228160" cy="6105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 групп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Рассмотрите шерсть разных животных. Какая она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Он греет животных или сохраняет тепло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Проведи опыт: за 2 часа до урока в две банки налили горячую воду. Банку №1 завернули в шерстяную шаль. Банку №2 оставили на столе. Какая вода в банках? Почему? Заверни банку №2 в шаль. Нагрелась ли она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Можно ли сказать, что волосы человека — разновидность шерсти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de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57200" y="549360"/>
            <a:ext cx="8228160" cy="553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ерсть животных состоит из покровных волос и подшерстка.Покровные волосы выполняют защитную функцию. А подшерсток служит для удержания тепла. У многих животных подшерсток появляется в большом колическтве только в холодное время. Шерсть животных не греет, а сохраняет тепло. При осенней линьке у животных появляется более теплый, густой подшерсток. Изменяется окраска шерст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21:26:17Z</dcterms:created>
  <dc:creator>Win</dc:creator>
  <dc:description/>
  <dc:language>en-US</dc:language>
  <cp:lastModifiedBy>Win</cp:lastModifiedBy>
  <dcterms:modified xsi:type="dcterms:W3CDTF">2011-12-07T19:40:34Z</dcterms:modified>
  <cp:revision>7</cp:revision>
  <dc:subject/>
  <dc:title>Урок  окружающего       мира                  3класс</dc:title>
</cp:coreProperties>
</file>