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423-EFC0-4BF5-888A-32E69905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492-A39F-44C2-A3BF-587E7E5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CE0-D0E0-4FA3-B2D4-B22810C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DEA-C14D-4FC1-8761-D2420E19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26F-E68D-4563-82B7-5DAFE62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0AE-8453-4FFC-93CE-14CE9BB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DE6-9209-41B4-975D-5AA52F2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9CE-EDFC-4660-BCB5-67397A3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93B-BB4C-4C65-8B61-24F47B5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176-2D5C-460F-AA8E-8CF1DA9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BC7-0DEF-4E68-9F48-ED0D5168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742-1A43-4A28-AAD8-F4B9BF9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4DDE-7C9E-4766-AAAF-915F47F62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уликовская би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498600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1" lang="ru-RU" sz="3300" spc="-1" strike="noStrike">
                <a:solidFill>
                  <a:srgbClr val="000000"/>
                </a:solidFill>
                <a:latin typeface="Forte"/>
              </a:rPr>
              <a:t>Удары их были страшны, щиты разлетелись вдребезги. Пронзенные друг другом богатыри замертво упали назем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image011"/>
          <p:cNvPicPr/>
          <p:nvPr/>
        </p:nvPicPr>
        <p:blipFill>
          <a:blip r:embed="rId1"/>
          <a:stretch/>
        </p:blipFill>
        <p:spPr>
          <a:xfrm>
            <a:off x="395280" y="404640"/>
            <a:ext cx="824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ист1 (657)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81" name="Text Box 6"/>
          <p:cNvSpPr/>
          <p:nvPr/>
        </p:nvSpPr>
        <p:spPr>
          <a:xfrm>
            <a:off x="539640" y="256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иковская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0" y="623736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садный п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88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orte"/>
              </a:rPr>
              <a:t>С 9 по 16 сентября русские хоронили убитых. Русская православная церковь узаконила в эти дни обычай поминать убитых, так называемую «Дмитриевскую родительскую субботу»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image014"/>
          <p:cNvPicPr/>
          <p:nvPr/>
        </p:nvPicPr>
        <p:blipFill>
          <a:blip r:embed="rId1"/>
          <a:stretch/>
        </p:blipFill>
        <p:spPr>
          <a:xfrm>
            <a:off x="1332000" y="0"/>
            <a:ext cx="61894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solidFill>
            <a:srgbClr val="fbdf53"/>
          </a:solidFill>
          <a:ln w="3816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зволило Дмитрию Ивановичу одерж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убедительную победу над Золотой Орд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уликовом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Москва стояла во главе борьбы против вра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Быстрый сбор народного ополчения и княжеских друж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Умелые действия разведки русского вой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Правильный выбор места бит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Умелое построение русского вой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Ожесточенность бит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Русские воины стоят насмер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orte"/>
              </a:rPr>
              <a:t>Своевременный удар Засадного пол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0" y="260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Heavy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4723920"/>
            <a:ext cx="7058160" cy="1143000"/>
          </a:xfrm>
          <a:prstGeom prst="rect">
            <a:avLst/>
          </a:prstGeom>
          <a:solidFill>
            <a:srgbClr val="fbdf53"/>
          </a:solidFill>
          <a:ln w="57240">
            <a:solidFill>
              <a:srgbClr val="ff9966"/>
            </a:solidFill>
            <a:miter/>
          </a:ln>
          <a:effectLst>
            <a:outerShdw dist="153753" dir="2700000" blurRad="0" rotWithShape="0">
              <a:srgbClr val="995c3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же тогда значе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Куликовской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изгладима в памяти народной победа русских войск на Куликовом поле. Но тем не менее эта победа не привела, как ожида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ликвидации ига Ор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4508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Heavy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522360"/>
          <a:ext cx="8713800" cy="674856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16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итва имела огромное политическое    и   психологическое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значени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одняла значение Москвы как центра объединения русских зем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первые русские войска одержали победу не над отдельными отрядами, а над главными силами Ор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азгром татар означал        серьезное ослабление Ор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ернула народу веру в свои силы, сплотила его для дальнейшей борьб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35"/>
          <p:cNvSpPr/>
          <p:nvPr/>
        </p:nvSpPr>
        <p:spPr>
          <a:xfrm>
            <a:off x="1619280" y="1557360"/>
            <a:ext cx="720720" cy="934920"/>
          </a:xfrm>
          <a:prstGeom prst="downArrow">
            <a:avLst>
              <a:gd name="adj1" fmla="val 50000"/>
              <a:gd name="adj2" fmla="val 32430"/>
            </a:avLst>
          </a:prstGeom>
          <a:solidFill>
            <a:srgbClr val="ff0000">
              <a:alpha val="7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6"/>
          <p:cNvSpPr/>
          <p:nvPr/>
        </p:nvSpPr>
        <p:spPr>
          <a:xfrm>
            <a:off x="6804000" y="1557360"/>
            <a:ext cx="792360" cy="9349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ff00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634920" y="1844640"/>
            <a:ext cx="5689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Победа русских в Куликовской битве всколыхнула национальное самосознание народа, дала надежду на избавление от ненавистного ордынского и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Это была первая серьезная победа над татарами, показавшая мощь объединенных русских с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age013"/>
          <p:cNvPicPr/>
          <p:nvPr/>
        </p:nvPicPr>
        <p:blipFill>
          <a:blip r:embed="rId1"/>
          <a:stretch/>
        </p:blipFill>
        <p:spPr>
          <a:xfrm>
            <a:off x="0" y="0"/>
            <a:ext cx="401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 с древнейших времен до конца XVI века, 6 класс: Поурочные планы по учебнику А.А.Данилова, Л.Г. Косулиной /автор – составитель Н.Ю. Колесниченко.- Волгоград: Учитель, 200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с древнейших времен до конца XVI века: учеб. для 6 кл. общеобразоват. учреждений/А.А.Данилов, Л.Г.Косулина.- М, Просвещение, 200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CD «Отечественная история с древнейших времен до XIX 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тория России с древнейших времен до конца Х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века. 6 класс: дидактический материал (контрольные задания, тесты, кроссворды). – Волгоград: Учитель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ЦОР к учебнику А.А.Данилова, Л.Г.Косулиной «История государства и народов России. 6-9к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ловьев К.А., Серов Б.Н. Поурочные разработки по истории России с древнейших времен до конца Х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века: 6 класс. – М.: ВАКО,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4069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писок используем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76360" y="5084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50920" y="39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tula-obla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kulpol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kulikovsky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newzz.in.ua/main/1148823826-kulikovskaja-bitva-1380-god-d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manger.ru/ot/14/kul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bg-znanie.ru/print.php?nid=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neizvestniy-geniy.ru/cat/music/bardi/138980.html?p=38&amp;orderB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image002"/>
          <p:cNvPicPr/>
          <p:nvPr/>
        </p:nvPicPr>
        <p:blipFill>
          <a:blip r:embed="rId1"/>
          <a:stretch/>
        </p:blipFill>
        <p:spPr>
          <a:xfrm>
            <a:off x="0" y="0"/>
            <a:ext cx="4533840" cy="41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image003"/>
          <p:cNvPicPr/>
          <p:nvPr/>
        </p:nvPicPr>
        <p:blipFill>
          <a:blip r:embed="rId2"/>
          <a:stretch/>
        </p:blipFill>
        <p:spPr>
          <a:xfrm>
            <a:off x="0" y="3828960"/>
            <a:ext cx="476244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image001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0162916"/>
          <p:cNvPicPr/>
          <p:nvPr/>
        </p:nvPicPr>
        <p:blipFill>
          <a:blip r:embed="rId1"/>
          <a:stretch/>
        </p:blipFill>
        <p:spPr>
          <a:xfrm>
            <a:off x="-757080" y="-22860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900000" y="1773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 позволило Дмитрию Ивановичу одержать убедительную победу над Золотой Ордой в Куликовской би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600360" y="1844640"/>
            <a:ext cx="55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Туда! За Дон! Настало время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дежда наша - бог и меч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азим моголов и, как брем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мо Мамая сбросим с плеч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митрий, рать обозрева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уясь, на коне греме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orte"/>
              </a:rPr>
              <a:t>К. Ф. Рылеев "Димитрий Донск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age004"/>
          <p:cNvPicPr/>
          <p:nvPr/>
        </p:nvPicPr>
        <p:blipFill>
          <a:blip r:embed="rId1"/>
          <a:stretch/>
        </p:blipFill>
        <p:spPr>
          <a:xfrm>
            <a:off x="250920" y="476280"/>
            <a:ext cx="3884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1"/>
          <p:cNvSpPr/>
          <p:nvPr/>
        </p:nvSpPr>
        <p:spPr>
          <a:xfrm flipV="1">
            <a:off x="3203640" y="403560"/>
            <a:ext cx="2736720" cy="1197000"/>
          </a:xfrm>
          <a:prstGeom prst="pi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492360" y="47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8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581360"/>
            <a:ext cx="31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По настоянию князя русское войско перешло Дон, чтобы отрезать себе пути к отступ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843280" y="1700280"/>
            <a:ext cx="3529080" cy="1027800"/>
          </a:xfrm>
          <a:prstGeom prst="rect">
            <a:avLst/>
          </a:prstGeom>
          <a:solidFill>
            <a:srgbClr val="fbdf5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язь Литовск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гай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занский княз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2916360" y="1557360"/>
            <a:ext cx="2952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203640" y="1557360"/>
            <a:ext cx="3095640" cy="14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252360" y="260280"/>
            <a:ext cx="33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 сто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0" y="3789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443640" y="3716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image005"/>
          <p:cNvPicPr/>
          <p:nvPr/>
        </p:nvPicPr>
        <p:blipFill>
          <a:blip r:embed="rId1"/>
          <a:stretch/>
        </p:blipFill>
        <p:spPr>
          <a:xfrm>
            <a:off x="0" y="620640"/>
            <a:ext cx="2752560" cy="306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image006"/>
          <p:cNvPicPr/>
          <p:nvPr/>
        </p:nvPicPr>
        <p:blipFill>
          <a:blip r:embed="rId2"/>
          <a:stretch/>
        </p:blipFill>
        <p:spPr>
          <a:xfrm>
            <a:off x="320364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image007"/>
          <p:cNvPicPr/>
          <p:nvPr/>
        </p:nvPicPr>
        <p:blipFill>
          <a:blip r:embed="rId3"/>
          <a:stretch/>
        </p:blipFill>
        <p:spPr>
          <a:xfrm>
            <a:off x="6372360" y="549360"/>
            <a:ext cx="277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140360" y="2492280"/>
            <a:ext cx="50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067280" y="2349360"/>
            <a:ext cx="507672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«Иди против безбожных и, если Бог поможет тебе, ты победишь и невредимым в свое отечество с великой честью вернешь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549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По преданию, князя Дмитрия на битву с врагом благословил </a:t>
            </a:r>
            <a:r>
              <a:rPr b="1" lang="ru-RU" sz="2400" spc="-1" strike="noStrike">
                <a:solidFill>
                  <a:srgbClr val="cc3300"/>
                </a:solidFill>
                <a:latin typeface="Forte"/>
              </a:rPr>
              <a:t>Сергий Радонежский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image008"/>
          <p:cNvPicPr/>
          <p:nvPr/>
        </p:nvPicPr>
        <p:blipFill>
          <a:blip r:embed="rId1"/>
          <a:stretch/>
        </p:blipFill>
        <p:spPr>
          <a:xfrm>
            <a:off x="138240" y="1773360"/>
            <a:ext cx="3857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181440" y="4508640"/>
            <a:ext cx="9612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В помощь Дмитрию Сергий представил монахов – богатырей </a:t>
            </a:r>
            <a:r>
              <a:rPr b="1" lang="ru-RU" sz="2800" spc="-1" strike="noStrike">
                <a:solidFill>
                  <a:srgbClr val="ff0000"/>
                </a:solidFill>
                <a:latin typeface="Forte"/>
              </a:rPr>
              <a:t>Пересвета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orte"/>
              </a:rPr>
              <a:t>Ослябю</a:t>
            </a:r>
            <a:r>
              <a:rPr b="1" lang="ru-RU" sz="2800" spc="-1" strike="noStrike">
                <a:solidFill>
                  <a:srgbClr val="000000"/>
                </a:solidFill>
                <a:latin typeface="Forte"/>
              </a:rPr>
              <a:t>, ставших героями бит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79280" y="6014160"/>
            <a:ext cx="8713800" cy="825480"/>
          </a:xfrm>
          <a:prstGeom prst="rect">
            <a:avLst/>
          </a:prstGeom>
          <a:solidFill>
            <a:srgbClr val="fbdf53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ясните, в чем состоит христианский подвиг преподобного Сергия Радонежс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image015"/>
          <p:cNvPicPr/>
          <p:nvPr/>
        </p:nvPicPr>
        <p:blipFill>
          <a:blip r:embed="rId1"/>
          <a:stretch/>
        </p:blipFill>
        <p:spPr>
          <a:xfrm>
            <a:off x="0" y="0"/>
            <a:ext cx="92012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image014"/>
          <p:cNvPicPr/>
          <p:nvPr/>
        </p:nvPicPr>
        <p:blipFill>
          <a:blip r:embed="rId1"/>
          <a:stretch/>
        </p:blipFill>
        <p:spPr>
          <a:xfrm>
            <a:off x="-76320" y="549360"/>
            <a:ext cx="922032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0" y="466560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 сентября 1380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изошло сражение русских войск под предводительством великого князя московског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митр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атарским войском во главе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ма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Куликов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20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Буб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 на Кулик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549360"/>
            <a:ext cx="271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к битв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932360" y="260280"/>
            <a:ext cx="4211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Существует легенда, по которой Куликовская битва началась с поединка двух богатырей. На бой с ордынским гигантом </a:t>
            </a:r>
            <a:r>
              <a:rPr b="1" lang="ru-RU" sz="2400" spc="-1" strike="noStrike">
                <a:solidFill>
                  <a:srgbClr val="ff0000"/>
                </a:solidFill>
                <a:latin typeface="Forte"/>
              </a:rPr>
              <a:t>Челубеем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 вышел монах </a:t>
            </a:r>
            <a:r>
              <a:rPr b="1" lang="ru-RU" sz="2400" spc="-1" strike="noStrike">
                <a:solidFill>
                  <a:srgbClr val="ff0000"/>
                </a:solidFill>
                <a:latin typeface="Forte"/>
              </a:rPr>
              <a:t>Пересвет</a:t>
            </a:r>
            <a:r>
              <a:rPr b="1" lang="ru-RU" sz="2400" spc="-1" strike="noStrike">
                <a:solidFill>
                  <a:srgbClr val="000000"/>
                </a:solidFill>
                <a:latin typeface="Fort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47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единок Пересвета и Челуб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image009"/>
          <p:cNvPicPr/>
          <p:nvPr/>
        </p:nvPicPr>
        <p:blipFill>
          <a:blip r:embed="rId1"/>
          <a:stretch/>
        </p:blipFill>
        <p:spPr>
          <a:xfrm>
            <a:off x="0" y="907920"/>
            <a:ext cx="4676760" cy="3476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image010"/>
          <p:cNvPicPr/>
          <p:nvPr/>
        </p:nvPicPr>
        <p:blipFill>
          <a:blip r:embed="rId2"/>
          <a:stretch/>
        </p:blipFill>
        <p:spPr>
          <a:xfrm>
            <a:off x="3343320" y="3543480"/>
            <a:ext cx="5800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4:23:52Z</dcterms:created>
  <dc:creator>батенева</dc:creator>
  <dc:description/>
  <dc:language>en-US</dc:language>
  <cp:lastModifiedBy>Динара</cp:lastModifiedBy>
  <dcterms:modified xsi:type="dcterms:W3CDTF">2012-04-10T11:16:35Z</dcterms:modified>
  <cp:revision>109</cp:revision>
  <dc:subject/>
  <dc:title>Собирание русских земель во 2 пол. XIV века. </dc:title>
</cp:coreProperties>
</file>