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143-6EE9-4BDA-9779-DE1E93F5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E41-B033-422D-816B-87D1B55B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440-CFB9-4211-9B42-15FFE514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AD3-AB37-4F74-815C-E221708E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B2C-E23B-4A71-997D-D129CADB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F50-8068-4419-B3F3-744A04D1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B33-70B0-4EF4-835D-FF74CF6E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4197-01E5-4061-9E2C-A24C0D5E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F79-2B36-4C63-828D-F470724A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507-2E95-450F-BEFC-B6EA2BA2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9BA-6B76-4FC7-8D4F-5FD896F7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4469-E4B8-40F4-8DCD-8DF78FAC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8167-CD80-4B87-9F9C-F873FB10D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уликовская бит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498600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Forte"/>
              </a:rPr>
              <a:t>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Forte"/>
              </a:rPr>
              <a:t>  </a:t>
            </a:r>
            <a:r>
              <a:rPr b="1" lang="ru-RU" sz="3300" spc="-1" strike="noStrike">
                <a:solidFill>
                  <a:srgbClr val="000000"/>
                </a:solidFill>
                <a:latin typeface="Forte"/>
              </a:rPr>
              <a:t>Удары их были страшны, щиты разлетелись вдребезги. Пронзенные друг другом богатыри замертво упали назем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image011"/>
          <p:cNvPicPr/>
          <p:nvPr/>
        </p:nvPicPr>
        <p:blipFill>
          <a:blip r:embed="rId1"/>
          <a:stretch/>
        </p:blipFill>
        <p:spPr>
          <a:xfrm>
            <a:off x="395280" y="404640"/>
            <a:ext cx="8248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ист1 (657)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81" name="Text Box 6"/>
          <p:cNvSpPr/>
          <p:nvPr/>
        </p:nvSpPr>
        <p:spPr>
          <a:xfrm>
            <a:off x="539640" y="256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иковская би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image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3"/>
          <p:cNvSpPr/>
          <p:nvPr/>
        </p:nvSpPr>
        <p:spPr>
          <a:xfrm>
            <a:off x="0" y="623736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садный пол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5157360"/>
            <a:ext cx="889308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orte"/>
              </a:rPr>
              <a:t>С 9 по 16 сентября русские хоронили убитых. Русская православная церковь узаконила в эти дни обычай поминать убитых, так называемую «Дмитриевскую родительскую субботу»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0" descr="image014"/>
          <p:cNvPicPr/>
          <p:nvPr/>
        </p:nvPicPr>
        <p:blipFill>
          <a:blip r:embed="rId1"/>
          <a:stretch/>
        </p:blipFill>
        <p:spPr>
          <a:xfrm>
            <a:off x="1332000" y="0"/>
            <a:ext cx="618948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solidFill>
            <a:srgbClr val="fbdf53"/>
          </a:solidFill>
          <a:ln w="38160">
            <a:solidFill>
              <a:srgbClr val="ff99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озволило Дмитрию Ивановичу одержат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убедительную победу над Золотой Ордо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Куликовом п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orte"/>
              </a:rPr>
              <a:t>Москва стояла во главе борьбы против враг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orte"/>
              </a:rPr>
              <a:t>Быстрый сбор народного ополчения и княжеских друж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orte"/>
              </a:rPr>
              <a:t>Умелые действия разведки русского войс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orte"/>
              </a:rPr>
              <a:t>Правильный выбор места битв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orte"/>
              </a:rPr>
              <a:t>Умелое построение русского войс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orte"/>
              </a:rPr>
              <a:t>Ожесточенность битв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orte"/>
              </a:rPr>
              <a:t>Русские воины стоят насмер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orte"/>
              </a:rPr>
              <a:t>Своевременный удар Засадного пол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0" y="26028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Heavy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4723920"/>
            <a:ext cx="7058160" cy="1143000"/>
          </a:xfrm>
          <a:prstGeom prst="rect">
            <a:avLst/>
          </a:prstGeom>
          <a:solidFill>
            <a:srgbClr val="fbdf53"/>
          </a:solidFill>
          <a:ln w="57240">
            <a:solidFill>
              <a:srgbClr val="ff9966"/>
            </a:solidFill>
            <a:miter/>
          </a:ln>
          <a:effectLst>
            <a:outerShdw dist="153753" dir="2700000" blurRad="0" rotWithShape="0">
              <a:srgbClr val="995c3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чем же тогда значени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Куликовской бит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изгладима в памяти народной победа русских войск на Куликовом поле. Но тем не менее эта победа не привела, как ожидал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ликвидации ига Ор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042920" y="450864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Heavy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79280" y="522360"/>
          <a:ext cx="8713800" cy="6748560"/>
        </p:xfrm>
        <a:graphic>
          <a:graphicData uri="http://schemas.openxmlformats.org/drawingml/2006/table">
            <a:tbl>
              <a:tblPr/>
              <a:tblGrid>
                <a:gridCol w="4357800"/>
                <a:gridCol w="4356000"/>
              </a:tblGrid>
              <a:tr h="165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итва имела огромное политическое    и   психологическое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значение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: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подняла значение Москвы как центра объединения русских земе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2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впервые русские войска одержали победу не над отдельными отрядами, а над главными силами Орд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2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разгром татар означал        серьезное ослабление Орд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вернула народу веру в свои силы, сплотила его для дальнейшей борьб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2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AutoShape 35"/>
          <p:cNvSpPr/>
          <p:nvPr/>
        </p:nvSpPr>
        <p:spPr>
          <a:xfrm>
            <a:off x="1619280" y="1557360"/>
            <a:ext cx="720720" cy="934920"/>
          </a:xfrm>
          <a:prstGeom prst="downArrow">
            <a:avLst>
              <a:gd name="adj1" fmla="val 50000"/>
              <a:gd name="adj2" fmla="val 32430"/>
            </a:avLst>
          </a:prstGeom>
          <a:solidFill>
            <a:srgbClr val="ff0000">
              <a:alpha val="78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6"/>
          <p:cNvSpPr/>
          <p:nvPr/>
        </p:nvSpPr>
        <p:spPr>
          <a:xfrm>
            <a:off x="6804000" y="1557360"/>
            <a:ext cx="792360" cy="9349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ff0000">
              <a:alpha val="8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634920" y="1844640"/>
            <a:ext cx="56898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orte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Forte"/>
              </a:rPr>
              <a:t>Победа русских в Куликовской битве всколыхнула национальное самосознание народа, дала надежду на избавление от ненавистного ордынского и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orte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Forte"/>
              </a:rPr>
              <a:t>Это была первая серьезная победа над татарами, показавшая мощь объединенных русских си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image013"/>
          <p:cNvPicPr/>
          <p:nvPr/>
        </p:nvPicPr>
        <p:blipFill>
          <a:blip r:embed="rId1"/>
          <a:stretch/>
        </p:blipFill>
        <p:spPr>
          <a:xfrm>
            <a:off x="0" y="0"/>
            <a:ext cx="401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стория России  с древнейших времен до конца XVI века, 6 класс: Поурочные планы по учебнику А.А.Данилова, Л.Г. Косулиной /автор – составитель Н.Ю. Колесниченко.- Волгоград: Учитель, 2005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стория России с древнейших времен до конца XVI века: учеб. для 6 кл. общеобразоват. учреждений/А.А.Данилов, Л.Г.Косулина.- М, Просвещение, 2007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CD «Отечественная история с древнейших времен до XIX 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стория России с древнейших времен до конца Х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VI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века. 6 класс: дидактический материал (контрольные задания, тесты, кроссворды). – Волгоград: Учитель,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ЦОР к учебнику А.А.Данилова, Л.Г.Косулиной «История государства и народов России. 6-9кл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ловьев К.А., Серов Б.Н. Поурочные разработки по истории России с древнейших времен до конца Х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VI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века: 6 класс. – М.: ВАКО,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4000" y="-171360"/>
            <a:ext cx="64069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писок используемых источ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476360" y="5084640"/>
            <a:ext cx="55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50920" y="3933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www.tula-oblas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www.kulpole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www.kulikovsky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newzz.in.ua/main/1148823826-kulikovskaja-bitva-1380-god-d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manger.ru/ot/14/kul7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www.bg-znanie.ru/print.php?nid=7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www.neizvestniy-geniy.ru/cat/music/bardi/138980.html?p=38&amp;orderBy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2" descr="image002"/>
          <p:cNvPicPr/>
          <p:nvPr/>
        </p:nvPicPr>
        <p:blipFill>
          <a:blip r:embed="rId1"/>
          <a:stretch/>
        </p:blipFill>
        <p:spPr>
          <a:xfrm>
            <a:off x="0" y="0"/>
            <a:ext cx="4533840" cy="4181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image003"/>
          <p:cNvPicPr/>
          <p:nvPr/>
        </p:nvPicPr>
        <p:blipFill>
          <a:blip r:embed="rId2"/>
          <a:stretch/>
        </p:blipFill>
        <p:spPr>
          <a:xfrm>
            <a:off x="0" y="3828960"/>
            <a:ext cx="4762440" cy="3029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image001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74320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j0162916"/>
          <p:cNvPicPr/>
          <p:nvPr/>
        </p:nvPicPr>
        <p:blipFill>
          <a:blip r:embed="rId1"/>
          <a:stretch/>
        </p:blipFill>
        <p:spPr>
          <a:xfrm>
            <a:off x="-757080" y="-228600"/>
            <a:ext cx="10515600" cy="70866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900000" y="177336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Что позволило Дмитрию Ивановичу одержать убедительную победу над Золотой Ордой в Куликовской би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600360" y="1844640"/>
            <a:ext cx="554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"Туда! За Дон! Настало время!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дежда наша - бог и меч!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разим моголов и, как бремя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рмо Мамая сбросим с плеч!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митрий, рать обозревая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уясь, на коне греме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orte"/>
              </a:rPr>
              <a:t>К. Ф. Рылеев "Димитрий Донской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image004"/>
          <p:cNvPicPr/>
          <p:nvPr/>
        </p:nvPicPr>
        <p:blipFill>
          <a:blip r:embed="rId1"/>
          <a:stretch/>
        </p:blipFill>
        <p:spPr>
          <a:xfrm>
            <a:off x="250920" y="476280"/>
            <a:ext cx="38844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1"/>
          <p:cNvSpPr/>
          <p:nvPr/>
        </p:nvSpPr>
        <p:spPr>
          <a:xfrm flipV="1">
            <a:off x="3203640" y="403560"/>
            <a:ext cx="2736720" cy="1197000"/>
          </a:xfrm>
          <a:prstGeom prst="pi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492360" y="476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380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4581360"/>
            <a:ext cx="313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orte"/>
              </a:rPr>
              <a:t>По настоянию князя русское войско перешло Дон, чтобы отрезать себе пути к отступ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2843280" y="1700280"/>
            <a:ext cx="3529080" cy="1027800"/>
          </a:xfrm>
          <a:prstGeom prst="rect">
            <a:avLst/>
          </a:prstGeom>
          <a:solidFill>
            <a:srgbClr val="fbdf5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нязь Литовск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гай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язанский княз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H="1">
            <a:off x="2916360" y="1557360"/>
            <a:ext cx="295272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3203640" y="1557360"/>
            <a:ext cx="3095640" cy="1440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252360" y="260280"/>
            <a:ext cx="338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ы стор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0" y="3789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митрий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6443640" y="371628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0" descr="image005"/>
          <p:cNvPicPr/>
          <p:nvPr/>
        </p:nvPicPr>
        <p:blipFill>
          <a:blip r:embed="rId1"/>
          <a:stretch/>
        </p:blipFill>
        <p:spPr>
          <a:xfrm>
            <a:off x="0" y="620640"/>
            <a:ext cx="2752560" cy="3067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image006"/>
          <p:cNvPicPr/>
          <p:nvPr/>
        </p:nvPicPr>
        <p:blipFill>
          <a:blip r:embed="rId2"/>
          <a:stretch/>
        </p:blipFill>
        <p:spPr>
          <a:xfrm>
            <a:off x="3203640" y="2895480"/>
            <a:ext cx="2971800" cy="3962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image007"/>
          <p:cNvPicPr/>
          <p:nvPr/>
        </p:nvPicPr>
        <p:blipFill>
          <a:blip r:embed="rId3"/>
          <a:stretch/>
        </p:blipFill>
        <p:spPr>
          <a:xfrm>
            <a:off x="6372360" y="549360"/>
            <a:ext cx="2771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4140360" y="2492280"/>
            <a:ext cx="50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067280" y="2349360"/>
            <a:ext cx="507672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orte"/>
              </a:rPr>
              <a:t>«Иди против безбожных и, если Бог поможет тебе, ты победишь и невредимым в свое отечество с великой честью вернешься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0" y="5493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orte"/>
              </a:rPr>
              <a:t>По преданию, князя Дмитрия на битву с врагом благословил </a:t>
            </a:r>
            <a:r>
              <a:rPr b="1" lang="ru-RU" sz="2400" spc="-1" strike="noStrike">
                <a:solidFill>
                  <a:srgbClr val="cc3300"/>
                </a:solidFill>
                <a:latin typeface="Forte"/>
              </a:rPr>
              <a:t>Сергий Радонежский</a:t>
            </a:r>
            <a:r>
              <a:rPr b="1" lang="ru-RU" sz="2400" spc="-1" strike="noStrike">
                <a:solidFill>
                  <a:srgbClr val="000000"/>
                </a:solidFill>
                <a:latin typeface="Fort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image008"/>
          <p:cNvPicPr/>
          <p:nvPr/>
        </p:nvPicPr>
        <p:blipFill>
          <a:blip r:embed="rId1"/>
          <a:stretch/>
        </p:blipFill>
        <p:spPr>
          <a:xfrm>
            <a:off x="138240" y="1773360"/>
            <a:ext cx="38574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181440" y="4508640"/>
            <a:ext cx="96123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orte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Forte"/>
              </a:rPr>
              <a:t>В помощь Дмитрию Сергий представил монахов – богатырей </a:t>
            </a:r>
            <a:r>
              <a:rPr b="1" lang="ru-RU" sz="2800" spc="-1" strike="noStrike">
                <a:solidFill>
                  <a:srgbClr val="ff0000"/>
                </a:solidFill>
                <a:latin typeface="Forte"/>
              </a:rPr>
              <a:t>Пересвета</a:t>
            </a:r>
            <a:r>
              <a:rPr b="1" lang="ru-RU" sz="2800" spc="-1" strike="noStrike">
                <a:solidFill>
                  <a:srgbClr val="000000"/>
                </a:solidFill>
                <a:latin typeface="Forte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Forte"/>
              </a:rPr>
              <a:t>Ослябю</a:t>
            </a:r>
            <a:r>
              <a:rPr b="1" lang="ru-RU" sz="2800" spc="-1" strike="noStrike">
                <a:solidFill>
                  <a:srgbClr val="000000"/>
                </a:solidFill>
                <a:latin typeface="Forte"/>
              </a:rPr>
              <a:t>, ставших героями бит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179280" y="6014160"/>
            <a:ext cx="8713800" cy="825480"/>
          </a:xfrm>
          <a:prstGeom prst="rect">
            <a:avLst/>
          </a:prstGeom>
          <a:solidFill>
            <a:srgbClr val="fbdf53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ясните, в чем состоит христианский подвиг преподобного Сергия Радонежск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image015"/>
          <p:cNvPicPr/>
          <p:nvPr/>
        </p:nvPicPr>
        <p:blipFill>
          <a:blip r:embed="rId1"/>
          <a:stretch/>
        </p:blipFill>
        <p:spPr>
          <a:xfrm>
            <a:off x="0" y="0"/>
            <a:ext cx="92012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1" descr="image014"/>
          <p:cNvPicPr/>
          <p:nvPr/>
        </p:nvPicPr>
        <p:blipFill>
          <a:blip r:embed="rId1"/>
          <a:stretch/>
        </p:blipFill>
        <p:spPr>
          <a:xfrm>
            <a:off x="-76320" y="549360"/>
            <a:ext cx="9220320" cy="48006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0" y="4665600"/>
            <a:ext cx="9144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 сентября 1380 г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изошло сражение русских войск под предводительством великого князя московског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митр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татарским войском во главе 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ма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Куликовом 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62064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.Буб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ро на Кулико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549360"/>
            <a:ext cx="271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ка к битв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4932360" y="260280"/>
            <a:ext cx="4211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orte"/>
              </a:rPr>
              <a:t>Существует легенда, по которой Куликовская битва началась с поединка двух богатырей. На бой с ордынским гигантом </a:t>
            </a:r>
            <a:r>
              <a:rPr b="1" lang="ru-RU" sz="2400" spc="-1" strike="noStrike">
                <a:solidFill>
                  <a:srgbClr val="ff0000"/>
                </a:solidFill>
                <a:latin typeface="Forte"/>
              </a:rPr>
              <a:t>Челубеем</a:t>
            </a:r>
            <a:r>
              <a:rPr b="1" lang="ru-RU" sz="2400" spc="-1" strike="noStrike">
                <a:solidFill>
                  <a:srgbClr val="000000"/>
                </a:solidFill>
                <a:latin typeface="Forte"/>
              </a:rPr>
              <a:t> вышел монах </a:t>
            </a:r>
            <a:r>
              <a:rPr b="1" lang="ru-RU" sz="2400" spc="-1" strike="noStrike">
                <a:solidFill>
                  <a:srgbClr val="ff0000"/>
                </a:solidFill>
                <a:latin typeface="Forte"/>
              </a:rPr>
              <a:t>Пересвет</a:t>
            </a:r>
            <a:r>
              <a:rPr b="1" lang="ru-RU" sz="2400" spc="-1" strike="noStrike">
                <a:solidFill>
                  <a:srgbClr val="000000"/>
                </a:solidFill>
                <a:latin typeface="Fort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0" y="476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единок Пересвета и Челуб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image009"/>
          <p:cNvPicPr/>
          <p:nvPr/>
        </p:nvPicPr>
        <p:blipFill>
          <a:blip r:embed="rId1"/>
          <a:stretch/>
        </p:blipFill>
        <p:spPr>
          <a:xfrm>
            <a:off x="0" y="907920"/>
            <a:ext cx="4676760" cy="3476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image010"/>
          <p:cNvPicPr/>
          <p:nvPr/>
        </p:nvPicPr>
        <p:blipFill>
          <a:blip r:embed="rId2"/>
          <a:stretch/>
        </p:blipFill>
        <p:spPr>
          <a:xfrm>
            <a:off x="3343320" y="3543480"/>
            <a:ext cx="58006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4:23:52Z</dcterms:created>
  <dc:creator>батенева</dc:creator>
  <dc:description/>
  <dc:language>en-US</dc:language>
  <cp:lastModifiedBy>Динара</cp:lastModifiedBy>
  <dcterms:modified xsi:type="dcterms:W3CDTF">2012-04-10T11:16:35Z</dcterms:modified>
  <cp:revision>109</cp:revision>
  <dc:subject/>
  <dc:title>Собирание русских земель во 2 пол. XIV века. </dc:title>
</cp:coreProperties>
</file>