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49C-F7D4-4C39-95C6-5483E371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144-BB37-4598-BA34-ADCA3926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91EC4-5CAE-4F90-99BC-76E6E63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D22CB-40CF-47CA-B4ED-B69B73A8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0863E-C742-45AA-9F02-256E1662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641E3-759D-4CEB-AC64-2A1F58CF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AB350-4F31-4C1F-A16D-589F82E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D2D22-40A5-4555-B122-F67BF082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DA507-C5D8-438F-B92C-81E6FCBA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09BB8-85FD-4E60-B388-790ACB01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38C8B-25A3-47FF-A3FD-C31712C6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F66D7-C339-4915-AA72-CE51AE24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909-E0D4-4D52-BC6F-B3C0779A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82EBA-5033-41E0-AB78-7647370A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9CBF9-A443-4AAF-8CA6-58199CE1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60ACB-0BD1-48F0-9D36-9FEF83FF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7E68E-4707-4A46-AC72-128F47CD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15E90-BE5D-47B1-9B26-F7109986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3C40B-2A0D-4629-A1F4-A0E28383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9993C-4D46-4C41-99E5-8F2B6CE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DE14B-A582-46D0-A74C-1B790A4F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725D1-BBDA-4255-825F-F27D1D28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8E9F0-0585-4C7B-A5CA-2902531A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86E-6AC1-4541-A145-F0242B64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AF0D9-6A7A-4AAC-8786-E9B0F4BC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D8164-F8A0-4D0F-B09D-91BC46DB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3FF5A-38A7-49EA-98E8-61B58BD2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FB24-43A8-451E-A916-4B5274DB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8600D-0E5F-42D5-A625-3A742A83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2C2EE-D4CA-4A9B-8D74-1E67A7C1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C864E-8250-4ACB-AF5A-4A066F3A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DCC55-291B-4960-9644-833650F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36339-AEB1-46A7-A760-37F7E08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048F6-44FE-47FC-B7D3-59F99541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65462-1868-4FB0-8D8B-324C330F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EC25E-37E4-457A-914E-D89FD6C7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D32BD-8162-44AF-ACB3-CD97FFCC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B593C-1347-43EB-83CB-AB568699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CB21B-D160-4137-AAE6-A7C4A893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506EA-123C-4CED-9D55-E3103BFF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E5816-3547-41EE-85A4-A4D51F21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5FE4D-6446-4949-B40E-1000F251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14E82-EE61-4737-AEA2-789D9256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95D7E-4D78-4BB3-A61C-C1BC5417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37E4B-E3BF-47A0-8364-B49716F0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C78A6-F70B-40E8-B7B0-56D3C06F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DD011-DBA6-4614-BB2A-C5B73316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EAA8F-AED4-4AA6-AE33-165772C8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F581E-2127-495D-B3E8-69F69AB8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CF8CC-D2A0-4040-8C8D-3E21EE1D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98C0A-C430-4065-BA9D-6786BFF8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3F5D0-847C-4CFC-8F37-86D42793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DDA8C-4F73-4C10-BEF7-4ED7D058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0B875-E6DB-41C7-A047-92C1144D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AE4D1-4BA9-4C5A-A7F3-1E96CAB3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942AB-8E44-4811-8E89-79A4EEF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77253-78D1-450B-AF97-C42A34EE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46F65-4021-4894-9293-6CB9CE4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9ABA9-8FF7-48B9-8DA4-01E5C90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1ECC2-318D-447D-B559-55577347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4834C-DA8F-45D3-8174-0F7830B3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4B182-E38C-4A27-815E-E07C2C50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E8F9C-648D-4652-AF45-040C5305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4EAD7-AD56-4FCA-92AD-6848690A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F39698-FA49-4F3A-BB8D-4F738454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7DB110-3D24-4EA1-ADFD-2C9FDBB2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999D80-6FAC-45BE-9B79-57A22A3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7BDBB-9201-44C8-B91C-960469D7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FDDBF1-1F2F-45AC-B255-C3F1ADB2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720F48-265A-407E-A468-5144E8A6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4B5411-8AD1-4077-B07B-C1C5B6C7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8D2C29-B147-47D2-90AC-911C9F3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CF4E52-F095-442C-BF6B-72E9171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7BC95F-D106-436F-9896-83364EA2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5DC174-0347-4DC6-8115-E9B0BE98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BA722C-4A1A-4DDF-9535-EC2B0A62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1197BE-49FE-45B1-A76A-6CA58A7E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0F77AD-611E-4444-BC11-30A7A0BA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5A941-2782-4977-8CA3-F4EA98E8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F777A6-309B-4A54-BCE7-688F4985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8B0C3A-8E6F-42F5-B8DD-5468A6B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BEF423-0586-4E35-B40A-0079AA82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B3D6B8-5291-4F58-B1C6-E28259AF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E27FC7-1E88-4CA7-8710-39C45670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5416B8-A31C-45CD-A8D9-9F56E05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CBFC1C-B867-487C-B05B-E05C223F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A12A52-F0A0-4B0E-BA6F-253B043A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39EF83-580A-4879-B17D-5E15101C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E3F288-4DC1-4423-AC50-65C8D061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A873C-34A8-4999-B26C-75EF3838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4176CF-FDDF-4E1C-BC11-DE71E8DF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81740-44E8-429D-AB3B-F0F59A5C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AAFA3-AB88-42C9-9158-989F2C2B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A7E51-ECEB-42C3-98D1-17B43770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C3F6C2-5F39-4904-B7F6-F91DC4FC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CCFE48-8AA1-43A3-9E9B-41A468B8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71702-7657-4CB6-ACB7-690F8B59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01DBD-2328-4EFF-BE35-6080A61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C5AFC-8859-43A4-A22C-45A465E1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5FCDF-5A79-4607-B894-BC21CF30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802D-9A55-4A7A-9180-143ADB1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DC1B5-4C9A-4AF4-806C-2B9CCF83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6FB57-86AD-4821-A2DA-0B844905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B574B-38FF-49F7-9D54-99A42BEF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A887F-0CEB-4F6E-94A3-FDC438C0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BC829-EC7B-404B-A280-4647FC6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57136-2DE0-443F-9741-F9072899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B9F08-63BF-4A01-BDDF-1448C90E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FAB8D-4251-44AC-BAF3-8115E59A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1C163-6B16-46F5-9FCC-6327DF1A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7932E-91E7-44A1-A9E0-1442A3DA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B64-4F57-4533-8887-B5FE83D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81618-B72A-4A49-A978-E4EE4BF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50ACD-10EB-4336-B3F4-2F31924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447E0-1861-461D-8B0A-AEB951D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2B8FE-D73F-4587-BE66-37629992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7B3FD-2512-4EE3-B8F8-1A9119C4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F56F4D-E1EE-4198-BD36-6F9A8961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5D94A-4B9A-4B5E-BECA-DBF2659A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BFABF-C4C5-4762-B267-17C96F6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1555EA-0134-4E3E-AE36-CAB5AFCD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3B7E8-529B-402D-B579-7979F63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A4DAA-770C-4EF2-8B9B-9E037E91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30438-384F-4EF3-8854-91360C36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79008-5BAA-4129-85E0-2EC2F745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3CD5C-6C43-4510-B72B-0CA44B6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F4B04-2AF2-41BB-B0AD-32729F43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C3715-65DA-47D7-BDA9-CC47DB80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DE985-DC23-49CA-BC7C-68410A8B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CF4E1-8144-41A5-9658-72A904BC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127234-B040-41A9-BF4E-78FE9D22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91743-D51C-40FC-B6E2-FB23254A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32198-E632-47F5-B55A-247E3634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86F02-B272-4D39-990C-D64699EA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CD1A7-0599-46E9-A54D-04B6AA8B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9BA96-FB98-4053-84B6-26C505C6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23518-E33E-412C-B097-4C5F0A5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B326D-BD4A-44B3-B177-E01C7D2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8EEF3-2864-4601-A1A9-E41915E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3C96C-F525-444F-ACDE-A5A690D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14CF5-50DE-4F7D-B44B-3807521C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7CB12D-D6EB-4E24-8F4F-B1432610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50FC2C-AD11-40CB-A2A3-7F87FC63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928BA-BE7F-4B84-BCA7-E240CCAB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820116-5FF6-4324-98F6-4F9F9D9A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5A260-04A5-4827-A8E0-57B85F1F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B35AA-40C0-4487-9F41-826E04C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905F0-4A3A-4957-9298-4D7ACD14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2A9083-5593-48F7-A332-9BEFD37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588DE-1C72-47A0-82D5-6FD86D42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34C84-688F-4A29-A241-8463655D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B06A4-6FBE-478C-8D5F-90B436E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A3F83-6B06-49B9-8219-0F78FFB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BFBB1-0E04-4787-895E-060AA916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F339A-CC66-4EB3-BEE2-C0F86D3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F8C0B-1543-4B2A-A2ED-70E7B326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66447-93B9-4E98-B84C-B0C9A3FC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771D0-CC2B-4337-809B-33B78D9D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BA4571-8A43-40B1-B70C-CC707E8D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28E90A-46AF-4267-BF46-484D5C02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9900BC-7AD6-4C0C-810F-E4B8D753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06938-AFF6-4CED-BB32-51AF88C7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95E8C-A052-49F5-A187-4D5AB6F0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23B9E-06B8-4671-A2ED-FED9A427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7155C-A3E1-4C02-BC39-D92542B0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04866E-9464-420C-B036-C81A581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097AFA-A92A-4751-AB17-E7CC859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91A1-1767-441B-8B6F-DE3407B6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607DF-FC2E-4ACA-AE34-C52054F0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1F126-BFB4-46FD-A942-65036972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CA4AE-811C-4537-BC82-E6827A6B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CD7C8E-17DA-4659-9419-566B6C16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327C5E-69A5-4468-B4EA-D25AA33E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0281C2-31A7-4943-8B06-1391D0E9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31A598-4878-417D-AC6A-889C3362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56262F-F949-4299-A89E-0C0AC496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337B95-3136-4E2E-A184-B9018FAB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8CB409-EFD0-4332-B8C4-CCF4155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9D0F-0B9E-4178-901A-D2715130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71E53B-DC62-4D1C-BF33-9845178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D017D3-559C-42C6-AC3F-8EE75561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E04699-C359-4038-8601-8AD11B9E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C02463-B48C-4F4E-98A6-81C3120A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F4E46-1EE8-494A-AE5E-0714F471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283E9-3FEC-4175-AF13-BD5C2D6B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AF013E-586E-4D5A-90F7-92C7A98F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6F195-92CC-44BC-A046-3407D0BF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1CAC9F-4EEE-409D-B54F-9BCD8C19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370E3-40CD-4F41-B139-635731A2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046D-CF50-45CF-A8BE-B19F510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C89BE9-AA44-40DA-8F89-0AF773AF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70CAC9-D840-4E80-9BAD-3043B7F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4D523D-AD6E-45ED-A4F8-D638842F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6D4804-65AD-4BF9-9378-5E199281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F7E81F-AA6F-4F34-ADFF-26246DA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AF0268-3CCB-4B99-AA7C-E88B88E4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9FDD43-AE53-4ED1-80F9-CEE2F64A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193605-2326-4327-8FDD-79DE72B9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BED1DF-8375-43D0-AC65-49B2873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403A0E-1AEE-4EFA-8F58-90929A47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6748-D1DB-4DCA-8BAC-73F6BAB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2316C4-EF6E-4CFE-A243-13B8BB5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1A9001-25F1-4D9C-874E-AEFC61DD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B6FE55-328D-4A69-9462-7E5107F8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DDF843-8BD1-4EF5-9257-5C7D8DB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BD8D2C-E2B1-4CF9-A7F0-C23A41C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BDA184-326B-42FE-99D4-D122188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C375F1-7BEB-4814-B261-E5B4BF19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057EB-402C-4BC6-8183-466AAE45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F1A028-860D-4D7C-804F-DB99AC5E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CF9A-01F7-427F-9A3C-77C7CF0D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53E-A176-4647-9789-EA3F6F2A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DE4C-025C-43ED-A823-FF8D19A8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C9CB-3CF8-4F1D-9B79-C8513A3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F536-CCAF-4A46-BC19-A7C8E8D9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8116-4BBD-4158-944E-CA6C679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99E4-CF0F-4E73-AC59-1A8B6AB8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7571-68C1-4207-A23C-7FA01E31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C7B2-167C-4C94-BC8B-373A74DE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6916-2097-4600-853C-C9C48170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BA88-9EBE-4682-87D7-05CF4D92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8E2AB-24EB-4B6B-9845-F8EC616B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24E-0C65-4DE1-8338-CB1D241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FE1B-EC10-46DC-AA8E-386FFF14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39E1-DB86-4D58-A0E6-4BE669F9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5C3C5-67BB-4DE3-9894-811DEDD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2C80-E2EA-4CB8-A58A-8F3D6F1C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D6002-3563-4CB5-9AA0-15F03F9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7D82-FEB2-484D-A5D6-B441E46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47D1-BAA8-4152-AFE9-FCD2C1D6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6727-7A7F-4749-8B53-32A8630E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C5D6-E3C3-4B4F-BD21-9BFE7E6C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3505-7C56-497D-98B4-9A3E213A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2CA-7296-45D5-B35A-35419F3F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8592-8280-48F0-959B-D0DEB9B1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065E-65DE-41B2-AA8C-A498B8F2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EE641-D18F-4118-831C-B498E02B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F912-3646-40C5-969A-10E9EA9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53E3-40F0-4C86-9798-601CF701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7CEF-C445-4AD9-9497-BCE24D14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4E1EE-C9D4-4975-9802-7607CAD9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46623-2A89-44DF-9D0B-6C45CD1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0FCC0-1072-4523-92DE-89F8F415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9B52-D6DA-4CC0-AC79-E3134F16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341-D049-4EEA-8248-7A148DFB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7A14-3336-4EB0-85DC-4BBE239C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2F2F-00E2-4121-B91A-F573183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7F8DC-1C4C-4949-A504-4539D6B6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20EBC-1E1D-432D-8C8A-F36470B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A6062-53E2-4132-8E0A-5A472856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554CE-EF31-4E76-8E27-B4139DA9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AEE1-08B8-4AA6-AB52-C7A1773D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876DB-246F-4D14-BDDE-CE7BA347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41B60-DB03-44D8-B2FA-BD11301F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F57C7-ED13-492C-AA0D-7561999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07C-328F-4161-BA22-F5A0E97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4ED92-6F5F-470F-9614-BBEB0A48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7FA6D-9429-4D76-8715-DF781B47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584D4-443D-4703-8543-14A81EAC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77FD6-FD80-4559-B445-69FFE72B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7BBDD-3591-498B-ACA6-48123F7B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EF6D-A745-4F47-9BD5-72DCC002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BF1F4-AC03-42F3-B2CA-F6433E9D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EFAED-604E-4C16-B1D8-AE4214B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0A9E3-62CB-4D08-9536-DD162882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BE2E-FA48-44EF-8E4D-8EA8EF3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998-260B-4F65-BB19-E3D9462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FB0D9-BAC7-49AC-9992-2D818D35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46B6E-EB44-481E-9030-C9A94EA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E9023-06CF-4FE8-B8CA-FF8BE1CA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C606B-437E-46E8-9934-24D2A8C9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71779-6DF7-48C5-959E-A3C3B340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7961F-3E51-4806-AA93-A5984B2F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39DBE-59BC-43D4-97B9-C963D12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E343A-8AB8-419A-805F-A12BBD02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4F3B5-4951-4965-9FAA-0CF35ED7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649DE-A4A4-4F3D-9C35-CF6F5AB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302-E6DC-46F8-9975-1D40DDA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6761-1CF0-43A1-A9EF-E42619F7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3D785-3866-4FAA-9804-25043251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A112D-6268-45A4-A020-81AD44D9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2B9C3-12E5-472F-93CD-0E5D6F9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5ECC3-2A42-415A-97BE-1F508EC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F7115-A617-4437-992A-04E3ED3C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5B675-DF47-4B35-9D69-9A8E5488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524B4-5BA8-46B0-A450-A5F1C131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FA58-CC73-4622-BB66-36C70B50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E4B75-9D9D-4064-9160-4018DC0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21.xml"/><Relationship Id="rId32" Type="http://schemas.openxmlformats.org/officeDocument/2006/relationships/slideLayout" Target="../slideLayouts/slideLayout122.xml"/><Relationship Id="rId33" Type="http://schemas.openxmlformats.org/officeDocument/2006/relationships/slideLayout" Target="../slideLayouts/slideLayout123.xml"/><Relationship Id="rId34" Type="http://schemas.openxmlformats.org/officeDocument/2006/relationships/slideLayout" Target="../slideLayouts/slideLayout124.xml"/><Relationship Id="rId35" Type="http://schemas.openxmlformats.org/officeDocument/2006/relationships/slideLayout" Target="../slideLayouts/slideLayout125.xml"/><Relationship Id="rId36" Type="http://schemas.openxmlformats.org/officeDocument/2006/relationships/slideLayout" Target="../slideLayouts/slideLayout126.xml"/><Relationship Id="rId37" Type="http://schemas.openxmlformats.org/officeDocument/2006/relationships/slideLayout" Target="../slideLayouts/slideLayout127.xml"/><Relationship Id="rId38" Type="http://schemas.openxmlformats.org/officeDocument/2006/relationships/slideLayout" Target="../slideLayouts/slideLayout128.xml"/><Relationship Id="rId39" Type="http://schemas.openxmlformats.org/officeDocument/2006/relationships/slideLayout" Target="../slideLayouts/slideLayout129.xml"/><Relationship Id="rId40" Type="http://schemas.openxmlformats.org/officeDocument/2006/relationships/slideLayout" Target="../slideLayouts/slideLayout130.xml"/><Relationship Id="rId41" Type="http://schemas.openxmlformats.org/officeDocument/2006/relationships/slideLayout" Target="../slideLayouts/slideLayout131.xml"/><Relationship Id="rId4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7C372C-A59D-40BA-ADEE-C2D55319C7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476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480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28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1F551B-CC84-4270-B4B8-F22B973A95A3}" type="slidenum"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7848720" y="48960"/>
              <a:ext cx="1295280" cy="6261480"/>
              <a:chOff x="7848720" y="48960"/>
              <a:chExt cx="1295280" cy="626148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8381880" y="48960"/>
                <a:ext cx="762120" cy="2222640"/>
                <a:chOff x="8381880" y="48960"/>
                <a:chExt cx="762120" cy="222264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8632800" y="48960"/>
                  <a:ext cx="419040" cy="184320"/>
                  <a:chOff x="8632800" y="48960"/>
                  <a:chExt cx="419040" cy="184320"/>
                </a:xfrm>
              </p:grpSpPr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8632800" y="48960"/>
                    <a:ext cx="419040" cy="184320"/>
                    <a:chOff x="8632800" y="48960"/>
                    <a:chExt cx="419040" cy="18432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16200000">
                      <a:off x="8774640" y="-92880"/>
                      <a:ext cx="1350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8765280" y="16560"/>
                      <a:ext cx="93600" cy="33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825040" y="123840"/>
                    <a:ext cx="17280" cy="396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6200000">
                    <a:off x="8729640" y="73080"/>
                    <a:ext cx="28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6200000">
                    <a:off x="8847000" y="73080"/>
                    <a:ext cx="432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8933400" y="95760"/>
                    <a:ext cx="16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8841600" y="163800"/>
                    <a:ext cx="428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rot="16200000">
                    <a:off x="8751600" y="139320"/>
                    <a:ext cx="25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5400000">
              <a:off x="4325400" y="3315960"/>
              <a:ext cx="6858000" cy="22572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720"/>
                <a:gd name="textAreaBottom" fmla="*/ 204120 h 2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8B6E84-C0DF-4AE5-988D-990CE719466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1"/>
    <p:sldLayoutId id="2147483780" r:id="rId32"/>
    <p:sldLayoutId id="2147483781" r:id="rId33"/>
    <p:sldLayoutId id="2147483782" r:id="rId34"/>
    <p:sldLayoutId id="2147483783" r:id="rId35"/>
    <p:sldLayoutId id="2147483784" r:id="rId36"/>
    <p:sldLayoutId id="2147483785" r:id="rId37"/>
    <p:sldLayoutId id="2147483786" r:id="rId38"/>
    <p:sldLayoutId id="2147483787" r:id="rId39"/>
    <p:sldLayoutId id="2147483788" r:id="rId40"/>
    <p:sldLayoutId id="2147483789" r:id="rId41"/>
    <p:sldLayoutId id="2147483790" r:id="rId4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7848720" y="48960"/>
              <a:ext cx="1295280" cy="6261480"/>
              <a:chOff x="7848720" y="48960"/>
              <a:chExt cx="1295280" cy="626148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8381880" y="48960"/>
                <a:ext cx="762120" cy="2222640"/>
                <a:chOff x="8381880" y="48960"/>
                <a:chExt cx="762120" cy="222264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8632800" y="48960"/>
                  <a:ext cx="419040" cy="184320"/>
                  <a:chOff x="8632800" y="48960"/>
                  <a:chExt cx="419040" cy="184320"/>
                </a:xfrm>
              </p:grpSpPr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8632800" y="48960"/>
                    <a:ext cx="419040" cy="184320"/>
                    <a:chOff x="8632800" y="48960"/>
                    <a:chExt cx="419040" cy="1843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16200000">
                      <a:off x="8774640" y="-92880"/>
                      <a:ext cx="1350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16200000">
                      <a:off x="8765280" y="16560"/>
                      <a:ext cx="93600" cy="33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825040" y="123840"/>
                    <a:ext cx="17280" cy="396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6200000">
                    <a:off x="8729640" y="73080"/>
                    <a:ext cx="28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6200000">
                    <a:off x="8847000" y="73080"/>
                    <a:ext cx="432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8933400" y="95760"/>
                    <a:ext cx="16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8841600" y="163800"/>
                    <a:ext cx="428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6200000">
                    <a:off x="8751600" y="139320"/>
                    <a:ext cx="25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5400000">
              <a:off x="4325400" y="3315960"/>
              <a:ext cx="6858000" cy="22572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720"/>
                <a:gd name="textAreaBottom" fmla="*/ 204120 h 2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dt" idx="3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ftr" idx="3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2A624D-550F-480D-BE55-A96257EB554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A1B62F-94E4-4995-9DEF-C29C7AC82C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ftr" idx="4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98FD54-9270-4811-9F93-E10B9231BE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ftr" idx="4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8E56D6-8F60-4FC0-AA5E-F3A3710888E8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dt" idx="4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dt" idx="4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ftr" idx="4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CD0D75-9A4A-4B4B-90A6-D6E502341E59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"/>
          <p:cNvGrpSpPr/>
          <p:nvPr/>
        </p:nvGrpSpPr>
        <p:grpSpPr>
          <a:xfrm>
            <a:off x="6273360" y="-21600"/>
            <a:ext cx="2962800" cy="3333240"/>
            <a:chOff x="6273360" y="-21600"/>
            <a:chExt cx="2962800" cy="3333240"/>
          </a:xfrm>
        </p:grpSpPr>
        <p:grpSp>
          <p:nvGrpSpPr>
            <p:cNvPr id="95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95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927920" y="2828880"/>
                <a:ext cx="2412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95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159760" y="177336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95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689880" y="32868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6273360" y="-21600"/>
              <a:ext cx="2962800" cy="3333240"/>
              <a:chOff x="6273360" y="-21600"/>
              <a:chExt cx="2962800" cy="3333240"/>
            </a:xfrm>
          </p:grpSpPr>
          <p:grpSp>
            <p:nvGrpSpPr>
              <p:cNvPr id="96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562880" y="806400"/>
                  <a:ext cx="29700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6273360" y="-21600"/>
                <a:ext cx="2867400" cy="2267640"/>
                <a:chOff x="6273360" y="-21600"/>
                <a:chExt cx="2867400" cy="226764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7835400" y="843120"/>
                  <a:ext cx="1063440" cy="1140120"/>
                  <a:chOff x="7835400" y="843120"/>
                  <a:chExt cx="1063440" cy="114012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rot="2700000">
                    <a:off x="8404560" y="16009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rot="1080000">
                    <a:off x="7843320" y="823680"/>
                    <a:ext cx="86076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7854120" y="653760"/>
                  <a:ext cx="1224000" cy="422280"/>
                  <a:chOff x="7854120" y="653760"/>
                  <a:chExt cx="1224000" cy="4222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rot="480000">
                    <a:off x="7861320" y="707760"/>
                    <a:ext cx="7920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rot="480000">
                    <a:off x="8637120" y="796680"/>
                    <a:ext cx="4255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1480000">
                    <a:off x="7872120" y="649080"/>
                    <a:ext cx="7207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6537240" y="906480"/>
                  <a:ext cx="1066680" cy="1140120"/>
                  <a:chOff x="6537240" y="906480"/>
                  <a:chExt cx="1066680" cy="11401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 flipH="1" rot="18900000">
                    <a:off x="6791760" y="119556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 rot="18900000">
                    <a:off x="6555960" y="16642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6339600" y="745920"/>
                  <a:ext cx="1222200" cy="419040"/>
                  <a:chOff x="6339600" y="745920"/>
                  <a:chExt cx="1222200" cy="41904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flipH="1" rot="21120000">
                    <a:off x="6761520" y="799920"/>
                    <a:ext cx="7923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H="1" rot="21120000">
                    <a:off x="6354360" y="887400"/>
                    <a:ext cx="4255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6866280" y="57240"/>
                  <a:ext cx="823680" cy="764280"/>
                  <a:chOff x="6866280" y="57240"/>
                  <a:chExt cx="823680" cy="7642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 flipH="1" rot="2700000">
                    <a:off x="7103520" y="501480"/>
                    <a:ext cx="6408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 rot="2700000">
                    <a:off x="6876720" y="153720"/>
                    <a:ext cx="344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7287840" y="-21600"/>
                  <a:ext cx="465840" cy="810360"/>
                  <a:chOff x="7287840" y="-21600"/>
                  <a:chExt cx="465840" cy="81036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 flipH="1" rot="4140000">
                    <a:off x="7332480" y="460080"/>
                    <a:ext cx="544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7794000" y="272520"/>
                  <a:ext cx="961920" cy="462600"/>
                  <a:chOff x="7794000" y="272520"/>
                  <a:chExt cx="961920" cy="46260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 rot="20280000">
                    <a:off x="7791480" y="511200"/>
                    <a:ext cx="631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rot="20280000">
                    <a:off x="8395920" y="32976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H="1" rot="4560000">
                  <a:off x="743256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"/>
                <p:cNvGrpSpPr/>
                <p:nvPr/>
              </p:nvGrpSpPr>
              <p:grpSpPr>
                <a:xfrm>
                  <a:off x="7665840" y="-10080"/>
                  <a:ext cx="497880" cy="790560"/>
                  <a:chOff x="7665840" y="-10080"/>
                  <a:chExt cx="497880" cy="7905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 rot="17760000">
                    <a:off x="7554960" y="468360"/>
                    <a:ext cx="5443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rot="17760000">
                    <a:off x="7887240" y="7956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7662600" y="39600"/>
                  <a:ext cx="785160" cy="747360"/>
                  <a:chOff x="7662600" y="39600"/>
                  <a:chExt cx="785160" cy="74736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rot="18840000">
                    <a:off x="8101080" y="12060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7711560" y="2520"/>
                  <a:ext cx="175320" cy="742680"/>
                  <a:chOff x="7711560" y="2520"/>
                  <a:chExt cx="175320" cy="74268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680000">
                    <a:off x="7703280" y="101880"/>
                    <a:ext cx="2617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7016400" y="977400"/>
                  <a:ext cx="612360" cy="1249200"/>
                  <a:chOff x="7016400" y="977400"/>
                  <a:chExt cx="612360" cy="124920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 flipH="1" rot="17520000">
                    <a:off x="6991920" y="1306080"/>
                    <a:ext cx="817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H="1" rot="17520000">
                    <a:off x="6994800" y="1850040"/>
                    <a:ext cx="4399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7313400" y="1001520"/>
                  <a:ext cx="364680" cy="1216800"/>
                  <a:chOff x="7313400" y="1001520"/>
                  <a:chExt cx="364680" cy="121680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flipH="1" rot="16860000">
                    <a:off x="7138800" y="13284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rot="16860000">
                    <a:off x="7254360" y="1876320"/>
                    <a:ext cx="42084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799400" y="909720"/>
                  <a:ext cx="951120" cy="1227600"/>
                  <a:chOff x="7799400" y="909720"/>
                  <a:chExt cx="951120" cy="122760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 rot="3120000">
                    <a:off x="7692480" y="1227240"/>
                    <a:ext cx="8845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7785720" y="954720"/>
                  <a:ext cx="734760" cy="1261080"/>
                  <a:chOff x="7785720" y="954720"/>
                  <a:chExt cx="734760" cy="12610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 rot="3720000">
                    <a:off x="7629120" y="1287000"/>
                    <a:ext cx="846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7754400" y="1005120"/>
                  <a:ext cx="515520" cy="1240920"/>
                  <a:chOff x="7754400" y="1005120"/>
                  <a:chExt cx="515520" cy="124092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rot="4260000">
                    <a:off x="7884360" y="190656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7739280" y="1058760"/>
                  <a:ext cx="285480" cy="1153440"/>
                  <a:chOff x="7739280" y="1058760"/>
                  <a:chExt cx="285480" cy="11534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 rot="4920000">
                    <a:off x="7476120" y="1378800"/>
                    <a:ext cx="755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4920000">
                    <a:off x="7695360" y="1898280"/>
                    <a:ext cx="405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90080 w 2179440"/>
                  <a:gd name="textAreaRight" fmla="*/ 2179800 w 2179440"/>
                  <a:gd name="textAreaTop" fmla="*/ 42840 h 2405160"/>
                  <a:gd name="textAreaBottom" fmla="*/ 122436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960 w 955800"/>
                  <a:gd name="textAreaRight" fmla="*/ 955800 w 9558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000 w 911160"/>
                  <a:gd name="textAreaRight" fmla="*/ 911160 w 91116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 rot="19680000">
                <a:off x="761184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20220000">
                <a:off x="7986600" y="7840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49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82E661-EB2C-4F8C-8885-57F13D778768}" type="slidenum"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2011320" y="247320"/>
            <a:ext cx="7118280" cy="8012520"/>
            <a:chOff x="2011320" y="247320"/>
            <a:chExt cx="7118280" cy="8012520"/>
          </a:xfrm>
        </p:grpSpPr>
        <p:grpSp>
          <p:nvGrpSpPr>
            <p:cNvPr id="112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2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2011320" y="247320"/>
              <a:ext cx="7118280" cy="7783920"/>
              <a:chOff x="2011320" y="247320"/>
              <a:chExt cx="7118280" cy="778392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2011320" y="247320"/>
                <a:ext cx="6891120" cy="5449680"/>
                <a:chOff x="2011320" y="247320"/>
                <a:chExt cx="6891120" cy="5449680"/>
              </a:xfrm>
            </p:grpSpPr>
            <p:grpSp>
              <p:nvGrpSpPr>
                <p:cNvPr id="113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2011320" y="247320"/>
                  <a:ext cx="6891120" cy="5449680"/>
                  <a:chOff x="2011320" y="247320"/>
                  <a:chExt cx="6891120" cy="5449680"/>
                </a:xfrm>
              </p:grpSpPr>
              <p:grpSp>
                <p:nvGrpSpPr>
                  <p:cNvPr id="1136" name=""/>
                  <p:cNvGrpSpPr/>
                  <p:nvPr/>
                </p:nvGrpSpPr>
                <p:grpSpPr>
                  <a:xfrm>
                    <a:off x="5761080" y="2323440"/>
                    <a:ext cx="2562480" cy="2740320"/>
                    <a:chOff x="5761080" y="2323440"/>
                    <a:chExt cx="2562480" cy="2740320"/>
                  </a:xfrm>
                </p:grpSpPr>
                <p:sp>
                  <p:nvSpPr>
                    <p:cNvPr id="113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rot="2700000">
                      <a:off x="7136640" y="414432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5788440" y="2148120"/>
                    <a:ext cx="3041280" cy="2528280"/>
                    <a:chOff x="5788440" y="2148120"/>
                    <a:chExt cx="3041280" cy="252828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 rot="2100000">
                      <a:off x="5708160" y="275076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rot="2100000">
                      <a:off x="7545240" y="3720960"/>
                      <a:ext cx="12002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5774760" y="2071080"/>
                    <a:ext cx="3098520" cy="1983600"/>
                    <a:chOff x="5774760" y="2071080"/>
                    <a:chExt cx="3098520" cy="198360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 rot="1560000">
                      <a:off x="5748480" y="252108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5768640" y="1968840"/>
                    <a:ext cx="3133800" cy="1609560"/>
                    <a:chOff x="5768640" y="1968840"/>
                    <a:chExt cx="3133800" cy="160956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 rot="1080000">
                      <a:off x="5781600" y="227808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14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1" name=""/>
                  <p:cNvGrpSpPr/>
                  <p:nvPr/>
                </p:nvGrpSpPr>
                <p:grpSpPr>
                  <a:xfrm>
                    <a:off x="5848920" y="1811160"/>
                    <a:ext cx="2663640" cy="454320"/>
                    <a:chOff x="5848920" y="1811160"/>
                    <a:chExt cx="2663640" cy="454320"/>
                  </a:xfrm>
                </p:grpSpPr>
                <p:sp>
                  <p:nvSpPr>
                    <p:cNvPr id="1152" name=""/>
                    <p:cNvSpPr/>
                    <p:nvPr/>
                  </p:nvSpPr>
                  <p:spPr>
                    <a:xfrm rot="21480000">
                      <a:off x="5852880" y="1852200"/>
                      <a:ext cx="17301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 rot="21480000">
                      <a:off x="7575120" y="182700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4" name=""/>
                  <p:cNvGrpSpPr/>
                  <p:nvPr/>
                </p:nvGrpSpPr>
                <p:grpSpPr>
                  <a:xfrm>
                    <a:off x="5788080" y="1299600"/>
                    <a:ext cx="2363760" cy="799560"/>
                    <a:chOff x="5788080" y="1299600"/>
                    <a:chExt cx="2363760" cy="799560"/>
                  </a:xfrm>
                </p:grpSpPr>
                <p:sp>
                  <p:nvSpPr>
                    <p:cNvPr id="115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 rot="20760000">
                      <a:off x="7297560" y="1391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115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0" name=""/>
                  <p:cNvGrpSpPr/>
                  <p:nvPr/>
                </p:nvGrpSpPr>
                <p:grpSpPr>
                  <a:xfrm>
                    <a:off x="2085840" y="2367720"/>
                    <a:ext cx="3042360" cy="2527920"/>
                    <a:chOff x="2085840" y="2367720"/>
                    <a:chExt cx="3042360" cy="2527920"/>
                  </a:xfrm>
                </p:grpSpPr>
                <p:sp>
                  <p:nvSpPr>
                    <p:cNvPr id="1161" name=""/>
                    <p:cNvSpPr/>
                    <p:nvPr/>
                  </p:nvSpPr>
                  <p:spPr>
                    <a:xfrm flipH="1" rot="19500000">
                      <a:off x="2971080" y="297036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3" name=""/>
                  <p:cNvGrpSpPr/>
                  <p:nvPr/>
                </p:nvGrpSpPr>
                <p:grpSpPr>
                  <a:xfrm>
                    <a:off x="2041920" y="2288160"/>
                    <a:ext cx="3098880" cy="1985760"/>
                    <a:chOff x="2041920" y="2288160"/>
                    <a:chExt cx="3098880" cy="1985760"/>
                  </a:xfrm>
                </p:grpSpPr>
                <p:sp>
                  <p:nvSpPr>
                    <p:cNvPr id="1164" name=""/>
                    <p:cNvSpPr/>
                    <p:nvPr/>
                  </p:nvSpPr>
                  <p:spPr>
                    <a:xfrm flipH="1" rot="20040000">
                      <a:off x="3025080" y="2738520"/>
                      <a:ext cx="21416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2011320" y="2187360"/>
                    <a:ext cx="3134160" cy="1608480"/>
                    <a:chOff x="2011320" y="2187360"/>
                    <a:chExt cx="3134160" cy="160848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flipH="1" rot="20520000">
                      <a:off x="2084040" y="299196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9" name=""/>
                  <p:cNvGrpSpPr/>
                  <p:nvPr/>
                </p:nvGrpSpPr>
                <p:grpSpPr>
                  <a:xfrm>
                    <a:off x="2164320" y="2093400"/>
                    <a:ext cx="2944440" cy="1008720"/>
                    <a:chOff x="2164320" y="2093400"/>
                    <a:chExt cx="2944440" cy="1008720"/>
                  </a:xfrm>
                </p:grpSpPr>
                <p:sp>
                  <p:nvSpPr>
                    <p:cNvPr id="117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 flipH="1" rot="21120000">
                      <a:off x="2201400" y="2430360"/>
                      <a:ext cx="10224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2" name=""/>
                  <p:cNvGrpSpPr/>
                  <p:nvPr/>
                </p:nvGrpSpPr>
                <p:grpSpPr>
                  <a:xfrm>
                    <a:off x="2400840" y="2030040"/>
                    <a:ext cx="2659320" cy="454320"/>
                    <a:chOff x="2400840" y="2030040"/>
                    <a:chExt cx="2659320" cy="454320"/>
                  </a:xfrm>
                </p:grpSpPr>
                <p:sp>
                  <p:nvSpPr>
                    <p:cNvPr id="1173" name=""/>
                    <p:cNvSpPr/>
                    <p:nvPr/>
                  </p:nvSpPr>
                  <p:spPr>
                    <a:xfrm flipH="1" rot="120000">
                      <a:off x="3325320" y="206964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H="1" rot="120000">
                      <a:off x="2407320" y="204588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H="1" rot="840000">
                      <a:off x="2796120" y="161100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8" name=""/>
                  <p:cNvGrpSpPr/>
                  <p:nvPr/>
                </p:nvGrpSpPr>
                <p:grpSpPr>
                  <a:xfrm>
                    <a:off x="2886120" y="1239120"/>
                    <a:ext cx="2328840" cy="1078560"/>
                    <a:chOff x="2886120" y="1239120"/>
                    <a:chExt cx="2328840" cy="1078560"/>
                  </a:xfrm>
                </p:grpSpPr>
                <p:sp>
                  <p:nvSpPr>
                    <p:cNvPr id="117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rot="1260000">
                      <a:off x="2933280" y="1371240"/>
                      <a:ext cx="8157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118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118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7" name=""/>
                  <p:cNvGrpSpPr/>
                  <p:nvPr/>
                </p:nvGrpSpPr>
                <p:grpSpPr>
                  <a:xfrm>
                    <a:off x="4024800" y="336960"/>
                    <a:ext cx="1464120" cy="1886040"/>
                    <a:chOff x="4024800" y="336960"/>
                    <a:chExt cx="1464120" cy="1886040"/>
                  </a:xfrm>
                </p:grpSpPr>
                <p:sp>
                  <p:nvSpPr>
                    <p:cNvPr id="1188" name=""/>
                    <p:cNvSpPr/>
                    <p:nvPr/>
                  </p:nvSpPr>
                  <p:spPr>
                    <a:xfrm flipH="1" rot="3480000">
                      <a:off x="4339080" y="144540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4449960" y="247320"/>
                    <a:ext cx="1118520" cy="1944000"/>
                    <a:chOff x="4449960" y="247320"/>
                    <a:chExt cx="1118520" cy="1944000"/>
                  </a:xfrm>
                </p:grpSpPr>
                <p:sp>
                  <p:nvSpPr>
                    <p:cNvPr id="119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flipH="1" rot="4140000">
                      <a:off x="4417920" y="442080"/>
                      <a:ext cx="7034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3" name=""/>
                  <p:cNvGrpSpPr/>
                  <p:nvPr/>
                </p:nvGrpSpPr>
                <p:grpSpPr>
                  <a:xfrm>
                    <a:off x="5662080" y="952920"/>
                    <a:ext cx="2315880" cy="1112400"/>
                    <a:chOff x="5662080" y="952920"/>
                    <a:chExt cx="2315880" cy="1112400"/>
                  </a:xfrm>
                </p:grpSpPr>
                <p:sp>
                  <p:nvSpPr>
                    <p:cNvPr id="1194" name=""/>
                    <p:cNvSpPr/>
                    <p:nvPr/>
                  </p:nvSpPr>
                  <p:spPr>
                    <a:xfrm rot="20280000">
                      <a:off x="5656320" y="15253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 rot="20280000">
                      <a:off x="7113240" y="109044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5530320" y="626760"/>
                    <a:ext cx="2197080" cy="1451160"/>
                    <a:chOff x="5530320" y="626760"/>
                    <a:chExt cx="2197080" cy="1451160"/>
                  </a:xfrm>
                </p:grpSpPr>
                <p:sp>
                  <p:nvSpPr>
                    <p:cNvPr id="1197" name=""/>
                    <p:cNvSpPr/>
                    <p:nvPr/>
                  </p:nvSpPr>
                  <p:spPr>
                    <a:xfrm rot="19680000">
                      <a:off x="5484960" y="14299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9" name="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5353560" y="271440"/>
                    <a:ext cx="1198800" cy="1901160"/>
                    <a:chOff x="5353560" y="271440"/>
                    <a:chExt cx="1198800" cy="19011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rot="17760000">
                      <a:off x="5887800" y="486720"/>
                      <a:ext cx="7016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5344920" y="390960"/>
                    <a:ext cx="1892880" cy="1794960"/>
                    <a:chOff x="5344920" y="390960"/>
                    <a:chExt cx="1892880" cy="179496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rot="18840000">
                      <a:off x="6403320" y="586080"/>
                      <a:ext cx="763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3062880" y="2533320"/>
                    <a:ext cx="2201040" cy="2998080"/>
                    <a:chOff x="3062880" y="2533320"/>
                    <a:chExt cx="2201040" cy="299808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flipH="1" rot="18360000">
                      <a:off x="3072240" y="459036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3" name=""/>
                  <p:cNvGrpSpPr/>
                  <p:nvPr/>
                </p:nvGrpSpPr>
                <p:grpSpPr>
                  <a:xfrm>
                    <a:off x="3794400" y="2647440"/>
                    <a:ext cx="1473120" cy="3002400"/>
                    <a:chOff x="3794400" y="2647440"/>
                    <a:chExt cx="1473120" cy="3002400"/>
                  </a:xfrm>
                </p:grpSpPr>
                <p:sp>
                  <p:nvSpPr>
                    <p:cNvPr id="1214" name=""/>
                    <p:cNvSpPr/>
                    <p:nvPr/>
                  </p:nvSpPr>
                  <p:spPr>
                    <a:xfrm flipH="1" rot="17520000">
                      <a:off x="3737160" y="3439080"/>
                      <a:ext cx="1967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flipH="1" rot="17520000">
                      <a:off x="3743640" y="474552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4513680" y="2702160"/>
                    <a:ext cx="868680" cy="2928600"/>
                    <a:chOff x="4513680" y="2702160"/>
                    <a:chExt cx="868680" cy="2928600"/>
                  </a:xfrm>
                </p:grpSpPr>
                <p:sp>
                  <p:nvSpPr>
                    <p:cNvPr id="1217" name=""/>
                    <p:cNvSpPr/>
                    <p:nvPr/>
                  </p:nvSpPr>
                  <p:spPr>
                    <a:xfrm flipH="1" rot="16860000">
                      <a:off x="4087800" y="3488400"/>
                      <a:ext cx="188784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flipH="1" rot="16860000">
                      <a:off x="4370760" y="4809240"/>
                      <a:ext cx="101268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5674320" y="2485440"/>
                    <a:ext cx="2287800" cy="2948760"/>
                    <a:chOff x="5674320" y="2485440"/>
                    <a:chExt cx="2287800" cy="294876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rot="3120000">
                      <a:off x="6802920" y="449640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5643000" y="2594880"/>
                    <a:ext cx="1765440" cy="3030120"/>
                    <a:chOff x="5643000" y="2594880"/>
                    <a:chExt cx="1765440" cy="303012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 rot="3720000">
                      <a:off x="5265720" y="3394800"/>
                      <a:ext cx="20336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rot="3720000">
                      <a:off x="6351840" y="4718880"/>
                      <a:ext cx="10904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5" name=""/>
                  <p:cNvGrpSpPr/>
                  <p:nvPr/>
                </p:nvGrpSpPr>
                <p:grpSpPr>
                  <a:xfrm>
                    <a:off x="5572080" y="2711160"/>
                    <a:ext cx="1231920" cy="2985840"/>
                    <a:chOff x="5572080" y="2711160"/>
                    <a:chExt cx="1231920" cy="2985840"/>
                  </a:xfrm>
                </p:grpSpPr>
                <p:sp>
                  <p:nvSpPr>
                    <p:cNvPr id="1226" name=""/>
                    <p:cNvSpPr/>
                    <p:nvPr/>
                  </p:nvSpPr>
                  <p:spPr>
                    <a:xfrm rot="4260000">
                      <a:off x="5049720" y="3541680"/>
                      <a:ext cx="19731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123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34" name=""/>
              <p:cNvGrpSpPr/>
              <p:nvPr/>
            </p:nvGrpSpPr>
            <p:grpSpPr>
              <a:xfrm>
                <a:off x="2174760" y="682560"/>
                <a:ext cx="6954840" cy="7348680"/>
                <a:chOff x="2174760" y="682560"/>
                <a:chExt cx="6954840" cy="7348680"/>
              </a:xfrm>
            </p:grpSpPr>
            <p:grpSp>
              <p:nvGrpSpPr>
                <p:cNvPr id="1235" name=""/>
                <p:cNvGrpSpPr/>
                <p:nvPr/>
              </p:nvGrpSpPr>
              <p:grpSpPr>
                <a:xfrm>
                  <a:off x="2174760" y="682560"/>
                  <a:ext cx="6954840" cy="7348680"/>
                  <a:chOff x="2174760" y="682560"/>
                  <a:chExt cx="6954840" cy="7348680"/>
                </a:xfrm>
              </p:grpSpPr>
              <p:sp>
                <p:nvSpPr>
                  <p:cNvPr id="1236" name=""/>
                  <p:cNvSpPr/>
                  <p:nvPr/>
                </p:nvSpPr>
                <p:spPr>
                  <a:xfrm flipV="1">
                    <a:off x="5400720" y="858600"/>
                    <a:ext cx="3728880" cy="5045040"/>
                  </a:xfrm>
                  <a:custGeom>
                    <a:avLst/>
                    <a:gdLst>
                      <a:gd name="textAreaLeft" fmla="*/ 340920 w 3728880"/>
                      <a:gd name="textAreaRight" fmla="*/ 3505680 w 37288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2562120" y="2270160"/>
                    <a:ext cx="3517920" cy="5761080"/>
                  </a:xfrm>
                  <a:custGeom>
                    <a:avLst/>
                    <a:gdLst>
                      <a:gd name="textAreaLeft" fmla="*/ 1032480 w 3517920"/>
                      <a:gd name="textAreaRight" fmla="*/ 3517920 w 35179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124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3384720" y="2476440"/>
                <a:ext cx="5232240" cy="5783400"/>
              </a:xfrm>
              <a:custGeom>
                <a:avLst/>
                <a:gdLst>
                  <a:gd name="textAreaLeft" fmla="*/ 2615760 w 5232240"/>
                  <a:gd name="textAreaRight" fmla="*/ 5232240 w 523224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2342520" y="1736640"/>
                <a:ext cx="3684600" cy="57610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 rot="1380000">
                <a:off x="4183200" y="2155320"/>
                <a:ext cx="54432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52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415C24-A453-42A7-93D3-7064835270E5}" type="slidenum"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9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00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 type="dt" idx="55"/>
          </p:nvPr>
        </p:nvSpPr>
        <p:spPr>
          <a:xfrm>
            <a:off x="151920" y="6248160"/>
            <a:ext cx="1900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 type="ftr" idx="5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E63E92-B9FB-4DE5-A08C-1B15792172A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5120" cy="851040"/>
            <a:chOff x="-1440" y="6033960"/>
            <a:chExt cx="7845120" cy="85104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36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800" cy="851040"/>
              <a:chOff x="3944880" y="6033960"/>
              <a:chExt cx="3898800" cy="85104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800" y="6045120"/>
                <a:ext cx="157788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556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880" cy="8496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00645D-4B77-4266-BD1E-A3B8A2DB55F1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44" name="PlaceHolder 1"/>
          <p:cNvSpPr>
            <a:spLocks noGrp="1"/>
          </p:cNvSpPr>
          <p:nvPr>
            <p:ph type="dt" idx="58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ftr" idx="5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sldNum" idx="60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3D27B6-1BAC-4BF6-8601-E8A6AF73FBE1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18680" cy="20559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8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388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0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6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6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326B79-C982-416B-9D17-060CBB2527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9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493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0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2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4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dt" idx="6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 type="ftr" idx="6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7D6A62-97AE-4891-8873-5B92E2188C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"/>
          <p:cNvGrpSpPr/>
          <p:nvPr/>
        </p:nvGrpSpPr>
        <p:grpSpPr>
          <a:xfrm>
            <a:off x="-85320" y="-92880"/>
            <a:ext cx="2772720" cy="6949440"/>
            <a:chOff x="-85320" y="-92880"/>
            <a:chExt cx="2772720" cy="6949440"/>
          </a:xfrm>
        </p:grpSpPr>
        <p:sp>
          <p:nvSpPr>
            <p:cNvPr id="159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14400" y="3991320"/>
              <a:ext cx="1003680" cy="606600"/>
              <a:chOff x="14400" y="3991320"/>
              <a:chExt cx="1003680" cy="606600"/>
            </a:xfrm>
          </p:grpSpPr>
          <p:sp>
            <p:nvSpPr>
              <p:cNvPr id="1597" name=""/>
              <p:cNvSpPr/>
              <p:nvPr/>
            </p:nvSpPr>
            <p:spPr>
              <a:xfrm flipH="1" rot="14940000">
                <a:off x="107640" y="3975840"/>
                <a:ext cx="182520" cy="326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rot="14940000">
                <a:off x="277920" y="4266360"/>
                <a:ext cx="312840" cy="273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rot="14940000">
                <a:off x="730800" y="4099320"/>
                <a:ext cx="326880" cy="138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1" name=""/>
            <p:cNvGrpSpPr/>
            <p:nvPr/>
          </p:nvGrpSpPr>
          <p:grpSpPr>
            <a:xfrm>
              <a:off x="-1440" y="2602080"/>
              <a:ext cx="2688840" cy="3119400"/>
              <a:chOff x="-1440" y="2602080"/>
              <a:chExt cx="2688840" cy="3119400"/>
            </a:xfrm>
          </p:grpSpPr>
          <p:sp>
            <p:nvSpPr>
              <p:cNvPr id="1602" name=""/>
              <p:cNvSpPr/>
              <p:nvPr/>
            </p:nvSpPr>
            <p:spPr>
              <a:xfrm flipH="1" rot="780000">
                <a:off x="385200" y="2698560"/>
                <a:ext cx="9745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 rot="780000">
                <a:off x="102600" y="2842920"/>
                <a:ext cx="815760" cy="1022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rot="780000">
                <a:off x="357120" y="3053880"/>
                <a:ext cx="289080" cy="5180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 rot="780000">
                <a:off x="882720" y="379368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 rot="780000">
                <a:off x="805680" y="3854160"/>
                <a:ext cx="6516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851760" y="4052160"/>
                <a:ext cx="1835640" cy="1669320"/>
                <a:chOff x="851760" y="4052160"/>
                <a:chExt cx="1835640" cy="1669320"/>
              </a:xfrm>
            </p:grpSpPr>
            <p:sp>
              <p:nvSpPr>
                <p:cNvPr id="1608" name=""/>
                <p:cNvSpPr/>
                <p:nvPr/>
              </p:nvSpPr>
              <p:spPr>
                <a:xfrm flipH="1" rot="7140000">
                  <a:off x="1260720" y="3946320"/>
                  <a:ext cx="473400" cy="1214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 rot="7140000">
                  <a:off x="2325600" y="4975560"/>
                  <a:ext cx="109800" cy="4982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 rot="7140000">
                  <a:off x="2503080" y="5571720"/>
                  <a:ext cx="19872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1" name=""/>
            <p:cNvGrpSpPr/>
            <p:nvPr/>
          </p:nvGrpSpPr>
          <p:grpSpPr>
            <a:xfrm>
              <a:off x="435240" y="6211800"/>
              <a:ext cx="857520" cy="570240"/>
              <a:chOff x="435240" y="6211800"/>
              <a:chExt cx="857520" cy="570240"/>
            </a:xfrm>
          </p:grpSpPr>
          <p:sp>
            <p:nvSpPr>
              <p:cNvPr id="1612" name=""/>
              <p:cNvSpPr/>
              <p:nvPr/>
            </p:nvSpPr>
            <p:spPr>
              <a:xfrm rot="6240000">
                <a:off x="1046160" y="6188760"/>
                <a:ext cx="174960" cy="2840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6240000">
                <a:off x="800280" y="6490440"/>
                <a:ext cx="298440" cy="236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6240000">
                <a:off x="374760" y="6385320"/>
                <a:ext cx="312840" cy="120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314280" y="1776600"/>
              <a:ext cx="790560" cy="691560"/>
              <a:chOff x="314280" y="1776600"/>
              <a:chExt cx="790560" cy="691560"/>
            </a:xfrm>
          </p:grpSpPr>
          <p:sp>
            <p:nvSpPr>
              <p:cNvPr id="1616" name=""/>
              <p:cNvSpPr/>
              <p:nvPr/>
            </p:nvSpPr>
            <p:spPr>
              <a:xfrm rot="4980000">
                <a:off x="840960" y="1747800"/>
                <a:ext cx="20628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4980000">
                <a:off x="696600" y="2153880"/>
                <a:ext cx="35244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4980000">
                <a:off x="215280" y="2204640"/>
                <a:ext cx="36828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1293840" y="0"/>
              <a:ext cx="547560" cy="581040"/>
              <a:chOff x="1293840" y="0"/>
              <a:chExt cx="547560" cy="581040"/>
            </a:xfrm>
          </p:grpSpPr>
          <p:sp>
            <p:nvSpPr>
              <p:cNvPr id="1620" name=""/>
              <p:cNvSpPr/>
              <p:nvPr/>
            </p:nvSpPr>
            <p:spPr>
              <a:xfrm>
                <a:off x="1293840" y="0"/>
                <a:ext cx="173160" cy="219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544760" y="103320"/>
                <a:ext cx="296640" cy="180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484280" y="48888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840000">
              <a:off x="385920" y="540396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840000">
              <a:off x="423360" y="570240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1560000">
              <a:off x="31320" y="64908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1560000">
              <a:off x="383760" y="119808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560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1560000">
              <a:off x="376200" y="1143000"/>
              <a:ext cx="9864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1560000">
              <a:off x="930240" y="738000"/>
              <a:ext cx="114480" cy="64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560000">
              <a:off x="88560" y="1314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67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6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C20F75-F1D8-4DDD-A2BF-6A0F0E8987BB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8" name=""/>
          <p:cNvGrpSpPr/>
          <p:nvPr/>
        </p:nvGrpSpPr>
        <p:grpSpPr>
          <a:xfrm>
            <a:off x="-19800" y="0"/>
            <a:ext cx="9060480" cy="6858000"/>
            <a:chOff x="-19800" y="0"/>
            <a:chExt cx="9060480" cy="6858000"/>
          </a:xfrm>
        </p:grpSpPr>
        <p:grpSp>
          <p:nvGrpSpPr>
            <p:cNvPr id="1679" name=""/>
            <p:cNvGrpSpPr/>
            <p:nvPr/>
          </p:nvGrpSpPr>
          <p:grpSpPr>
            <a:xfrm>
              <a:off x="5394240" y="59760"/>
              <a:ext cx="3646440" cy="6134040"/>
              <a:chOff x="5394240" y="59760"/>
              <a:chExt cx="3646440" cy="6134040"/>
            </a:xfrm>
          </p:grpSpPr>
          <p:sp>
            <p:nvSpPr>
              <p:cNvPr id="1680" name=""/>
              <p:cNvSpPr/>
              <p:nvPr/>
            </p:nvSpPr>
            <p:spPr>
              <a:xfrm flipV="1" rot="12000000">
                <a:off x="6585120" y="34992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V="1" rot="12000000">
                <a:off x="7424280" y="196272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 rot="12000000">
                <a:off x="6828840" y="259560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 rot="12000000">
                <a:off x="72540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 rot="12000000">
                <a:off x="7156800" y="2646360"/>
                <a:ext cx="16416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 rot="12000000">
                <a:off x="7142040" y="1240560"/>
                <a:ext cx="19080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 rot="12000000">
                <a:off x="5937840" y="2933640"/>
                <a:ext cx="523800" cy="3269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 flipH="1" rot="360000">
              <a:off x="32400" y="3107880"/>
              <a:ext cx="51264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rot="360000">
              <a:off x="1425240" y="453348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 rot="360000">
              <a:off x="1266480" y="473040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3" name=""/>
            <p:cNvGrpSpPr/>
            <p:nvPr/>
          </p:nvGrpSpPr>
          <p:grpSpPr>
            <a:xfrm>
              <a:off x="4114080" y="1043640"/>
              <a:ext cx="1044360" cy="1260000"/>
              <a:chOff x="4114080" y="1043640"/>
              <a:chExt cx="1044360" cy="1260000"/>
            </a:xfrm>
          </p:grpSpPr>
          <p:sp>
            <p:nvSpPr>
              <p:cNvPr id="1694" name=""/>
              <p:cNvSpPr/>
              <p:nvPr/>
            </p:nvSpPr>
            <p:spPr>
              <a:xfrm rot="3240000">
                <a:off x="4605480" y="1064520"/>
                <a:ext cx="262080" cy="4129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3240000">
                <a:off x="4663080" y="1573920"/>
                <a:ext cx="448920" cy="343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3240000">
                <a:off x="4087440" y="1974600"/>
                <a:ext cx="469800" cy="174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5703120" y="262440"/>
              <a:ext cx="717120" cy="925920"/>
              <a:chOff x="5703120" y="262440"/>
              <a:chExt cx="717120" cy="925920"/>
            </a:xfrm>
          </p:grpSpPr>
          <p:sp>
            <p:nvSpPr>
              <p:cNvPr id="1698" name=""/>
              <p:cNvSpPr/>
              <p:nvPr/>
            </p:nvSpPr>
            <p:spPr>
              <a:xfrm rot="14880000">
                <a:off x="5829840" y="894240"/>
                <a:ext cx="250920" cy="258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14880000">
                <a:off x="5668200" y="460440"/>
                <a:ext cx="428760" cy="214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14880000">
                <a:off x="6061680" y="435240"/>
                <a:ext cx="447480" cy="109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957600" y="5280480"/>
              <a:ext cx="1059840" cy="836280"/>
              <a:chOff x="957600" y="5280480"/>
              <a:chExt cx="1059840" cy="836280"/>
            </a:xfrm>
          </p:grpSpPr>
          <p:sp>
            <p:nvSpPr>
              <p:cNvPr id="1702" name=""/>
              <p:cNvSpPr/>
              <p:nvPr/>
            </p:nvSpPr>
            <p:spPr>
              <a:xfrm rot="8520000">
                <a:off x="1699920" y="5551200"/>
                <a:ext cx="25236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8520000">
                <a:off x="1183680" y="5762520"/>
                <a:ext cx="43020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8520000">
                <a:off x="948960" y="5405040"/>
                <a:ext cx="44928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78360" y="425520"/>
              <a:ext cx="1659600" cy="1175400"/>
              <a:chOff x="378360" y="425520"/>
              <a:chExt cx="1659600" cy="1175400"/>
            </a:xfrm>
          </p:grpSpPr>
          <p:sp>
            <p:nvSpPr>
              <p:cNvPr id="1706" name=""/>
              <p:cNvSpPr/>
              <p:nvPr/>
            </p:nvSpPr>
            <p:spPr>
              <a:xfrm flipH="1" rot="4140000">
                <a:off x="1547640" y="1079280"/>
                <a:ext cx="368640" cy="514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 rot="4140000">
                <a:off x="987480" y="581760"/>
                <a:ext cx="628560" cy="426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 rot="4140000">
                <a:off x="268920" y="1084680"/>
                <a:ext cx="657360" cy="21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7396560" y="3696840"/>
              <a:ext cx="1157040" cy="1608120"/>
              <a:chOff x="7396560" y="3696840"/>
              <a:chExt cx="1157040" cy="1608120"/>
            </a:xfrm>
          </p:grpSpPr>
          <p:sp>
            <p:nvSpPr>
              <p:cNvPr id="1710" name=""/>
              <p:cNvSpPr/>
              <p:nvPr/>
            </p:nvSpPr>
            <p:spPr>
              <a:xfrm flipH="1" rot="10020000">
                <a:off x="7451640" y="4741200"/>
                <a:ext cx="35568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rot="10020000">
                <a:off x="7902000" y="4442040"/>
                <a:ext cx="609480" cy="44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 rot="10020000">
                <a:off x="7598880" y="3765600"/>
                <a:ext cx="636840" cy="225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 rot="9840000">
              <a:off x="3427200" y="164160"/>
              <a:ext cx="1081080" cy="941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 rot="9840000">
              <a:off x="3171600" y="1361520"/>
              <a:ext cx="523800" cy="4413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 rot="9840000">
              <a:off x="3531960" y="1284480"/>
              <a:ext cx="19512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9840000">
              <a:off x="34527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0" name="PlaceHolder 1"/>
          <p:cNvSpPr>
            <a:spLocks noGrp="1"/>
          </p:cNvSpPr>
          <p:nvPr>
            <p:ph type="dt" idx="7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ftr" idx="7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FADFDF-AC61-43A5-B223-ADFE766B999E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2B4DE-1CEC-458A-BAE6-08BD1CB24D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65DD9-F9A0-4D25-9F58-8F0848A393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4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275B60-6D47-4DC8-899A-F154F47C7A13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61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E568C8-7D03-4275-82B8-17842FF2BA16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9E05E8-29E9-43C0-8A84-10462BE298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3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81DF42-613F-4BE6-AC8C-90FCB5AD35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9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0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427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25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7F0687-3EC6-47BA-9957-A1097FCC350A}" type="slidenum"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Давление газ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первой категор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баз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лена Иван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434880"/>
            <a:ext cx="8229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Verdana"/>
              </a:rPr>
              <a:t>Давление газа увеличится, если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226692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1. увеличить массу газ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2. увеличить температуру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3. уменьшить объем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те качественные задачи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при проколе камеры велосипедного колеса давление воздуха в ней уменьшает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при закачивании воздуха в шину автомобиля с каждым разом становится все труднее двигать ручку насос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мяч, вынесенный из комнаты на улицу зимой, становится слабо надут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тоги уро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Что вы узнали нового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1280" indent="-3412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Чему научились на уроке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1280" indent="-3412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Что показалось особенно трудным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438280" y="2271240"/>
            <a:ext cx="6400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.35, конспект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Тайна сокровищ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1042920" y="2276280"/>
            <a:ext cx="734544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щущение тайны - наиболее прекрасное из доступных нам переживаний. Именно это чувство стоит у колыбели настоящей на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берт Эйнштей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авление га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ить причину существования давления в газах с точки зрения молекулярного строения ве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чего зависит давление г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можно его измен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тветьте на вопрос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такое давлени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 чего зависит давление твердого тел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давление зависит от силы, приложенной перпендикулярно опоре? Каков характер этой зависимост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давление зависит от площади опоры? Каков характер этой зависимост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чем причина давления твердого тела на опор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полните зад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ой физической величине найдите соответствующие ей условное обозначение и единицы измер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ощад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корение свободного пад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/с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н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рин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 fill="hold"/>
                                        <p:tgtEl>
                                          <p:spTgt spid="1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 fill="hold"/>
                                        <p:tgtEl>
                                          <p:spTgt spid="1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 fill="hold"/>
                                        <p:tgtEl>
                                          <p:spTgt spid="1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 fill="hold"/>
                                        <p:tgtEl>
                                          <p:spTgt spid="1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 fill="hold"/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 fill="hold"/>
                                        <p:tgtEl>
                                          <p:spTgt spid="1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1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 fill="hold"/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-112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те карточки с формулами, которые относятся к теме: «Давление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=</a:t>
            </a:r>
            <a:r>
              <a:rPr b="0" lang="el-GR" sz="4800" spc="-1" strike="noStrike">
                <a:solidFill>
                  <a:srgbClr val="ffffff"/>
                </a:solidFill>
                <a:latin typeface="Verdana"/>
                <a:ea typeface="Arial"/>
              </a:rPr>
              <a:t>ρ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=F/S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упр=к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=gm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R=F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+F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=ab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ешите качественные задач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чему человек, идущий на лыжах, не проваливается в снег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инаковое ли давление мы оказываем на карандаш, затачивая его тупым и острым ножом, если прикладываемая сила одна и та же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, что солдат со снаряжением оказывает такое же давление на землю, как и средний по весу танк. Почему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какой целью опорную площадь у плоскогубцев делают больше, чем у кусаче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ой из двух одинаковых по объему цилиндров –алюминиевый или железный(латунный) – оказывает на опору меньшее давление? Почему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Экспериментальное з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67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определить давление, производимое деревянным бруском на пар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орудова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деревянный брусок, динамометр, линей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од рабо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мерьте вес бруска динамометр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мерьте длину и ширину той грани бруска, на которой он стоит, выразив эти значения в метр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числите площадь этой гр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числите производимое бруском да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уйте полученные результаты и сделайте выв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Чем  .  .  .  площадь поверх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м  .  .  .  да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99ff"/>
                </a:solidFill>
                <a:latin typeface="Arial"/>
              </a:rPr>
              <a:t>Давление га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чина давления газ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дары молекул о стенки сос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вление газа определяется силой и частотой ударов молекул о стенки сос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7:27:43Z</dcterms:created>
  <dc:creator>German</dc:creator>
  <dc:description/>
  <dc:language>en-US</dc:language>
  <cp:lastModifiedBy>Галкины</cp:lastModifiedBy>
  <dcterms:modified xsi:type="dcterms:W3CDTF">2012-01-28T18:27:02Z</dcterms:modified>
  <cp:revision>11</cp:revision>
  <dc:subject/>
  <dc:title>Слайд 1</dc:title>
</cp:coreProperties>
</file>