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E8F-9356-4D55-A228-4CF73075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1A5-0374-4BA4-92B0-D6E281BA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76FA3-1B0F-4D91-9132-4A6FD6EB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DA53B-9D78-43D3-8F87-956C517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0295A-DFFB-489B-91E8-F275C73B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BF192-8756-40B2-9572-E387846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7026B-BAA3-404D-9A9E-30F7035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D7AD-34CD-4561-85A7-D6DA41E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F6D4F-2D7E-4362-B95B-D4F64B5B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6B1E6-C2CC-4B34-9F27-0C5C3781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6D4F3-A627-468D-BF43-816300D1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FEF1E-B8DE-4347-91B7-92D8E6BC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A95-B3BD-46FA-BBD6-65BC8B56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A8E86-07E1-457A-9186-2107E267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5D33C-A452-4163-97B0-BED98941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915B4-351F-48E2-9246-8422C849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37898-D1B5-44FE-BE77-E001080F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FD5AD-FA74-4D29-957C-01586E43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2A3BC-4E3C-456C-942D-FC3CDC0A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6757D-9E94-44EF-B797-0EF4E63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2D227-FEBB-4022-AAC8-A7F91A3C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502C4-36D5-46ED-9CD9-DC020EAE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5D62D-67DD-4CF8-97ED-3B4F319E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974-7F80-47A1-B828-90FBC2FB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8C8D4-0CF3-4DC8-8955-46130AA0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7FE4D-F63C-43CF-A7B3-861793AD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3F440-B9BF-41A4-B946-9BF31ADC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9526E-0ACA-45A7-8170-102063DD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14FB4-B647-4CB7-8089-ABF1F997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B252D-7BA4-4BE5-B4E5-53B57A7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22899-7348-42EA-965E-D0CECAE6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53C08-A602-432A-9CE1-B57EA69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740DC-D8B8-4A96-BABB-0DF5534F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0668F-2F20-40DA-B40F-680A5718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0E4E4-8E88-4475-A9A4-8E1AF0B7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16459-3858-4D2A-8046-B7335B99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2A145-1536-4EC9-B10B-364EAC3A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08727-3817-4C81-9A25-21B77139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F4BC2-957B-48D2-9665-44743F58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55812-D46F-45AB-B157-D13CA81B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C47B5-7F4A-4496-B3B7-D02DA810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BF3D5-8FF3-44F7-B21D-5D71F076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BBEF5-7508-4C56-8DC1-5C7BE743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DBA64-A298-4CD7-9C48-8C70AA43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CBDB1-D0BB-494B-8312-30F4A35E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6CA33-2798-4FA1-A6F4-3799E5AC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24DBD-98F5-4942-BFF4-0313DCD0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0C696-CBBA-4F0A-9140-EA25632E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F1C93-054E-4FD9-8DDA-463643AC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77BEB-D0C6-414C-B5CE-201C7874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5513E-9975-4E66-901C-DE6F26C5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0322B-C3C7-4F26-BA84-779FFB4C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5263F-7077-4BC8-8328-55B1F92F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511BE-4C70-40BE-8C20-5644AEFA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788DB-4184-4148-B78C-B32057AD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5DE4F-5780-454A-9DAA-3D4A1A65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5E28D-0764-484E-A2B9-3763BE62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9A396-E147-45A0-AD24-78DE164A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52BE4-E8F5-4F9B-B671-920BF31F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7862C-DBB6-4849-A46B-19B437C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94E70-6B8D-4F87-A70E-A793A976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FA1F4-CB50-4E3A-A0DB-D5B0DC61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2BF3D-87BE-490C-9640-8A239E7D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C57C9-4A77-4512-9746-DA2E3EF6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F1E3DA-E165-4007-B38E-DCE64D5B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139237-EE36-47D7-A19B-EF423398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AD03A6-F721-4486-8CDA-BAF627AF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FA2FF-C223-4FC7-ACD1-4ADB7F69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533C66-D95B-4071-B9FE-DA021B3B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10608D-79F3-4353-8F93-FC18551A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630BF3-B30E-4ED3-A1F8-B4B6555A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759D54-09A8-439D-BCC1-1FE86418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6C76D3-0EF3-499B-9849-C496BCF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D95897-8F15-4A7C-9F52-AD4C24D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5E09C0-A0DF-4520-8B7B-8B2C026D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480635-D9C0-4E32-8D63-48A242C2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E9603B-B4F2-4B9E-AFA3-5D38C315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D71DA7-0FA0-4422-AD3D-B7950A32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347D1-04B8-4AF9-859F-73BC06CF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B52466-C86C-4A7E-84A6-E965773F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F03B44-2789-4598-8981-A8048808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180EEB-2043-43D4-B6D0-E56DFBDC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EDC9EF-1FD0-4029-A1DD-A0FAEFFC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46816D-352D-4DE3-AF9F-F06ED353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FCCEB2-8BAC-4942-9B42-2C47770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F47837-0C87-4692-980D-9ACDF229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561280-AB92-4B1C-87FE-B3D448F4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8B0699-D680-4567-BA9D-0E0626AD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42DFBC-1A60-4E1B-85DF-7A2512FA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34E82-A82F-4DC3-AAB8-96714AEF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F92191-E2CC-4F5C-BC21-98614E38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A22B30-DCE5-497D-95D1-F96E8405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0D42F-460D-466F-95C3-2D8BE512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55E05-E72E-41E9-9AEA-460D2BC2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FAF7F-8F6E-4A5E-8AD7-8EC9E64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5BB0C-50D9-4385-A8CC-FE37292E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E3A18-54A2-4E90-83EA-0EC8CCB3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41F35-2920-432E-8F9E-08FB981C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4DA4D-9A9D-4A89-AAA8-8E40EF1B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18303-4545-4C79-BDC4-DD55245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FD48E-9671-4FCF-863C-FAF88DDD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FDE12-6AEC-426E-B056-B92B7D23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4D476-6278-4C7B-8831-77011EEC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82031-BBD6-4267-932C-F2BE142C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06314-9C70-4EB7-BA37-7CA6FF03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5D0B6-5472-4E83-95BD-7DD93EC4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4D55A-DD07-4680-BBD0-A46FD59D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5BA05-BFE6-4211-A8A1-72DBD44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DC8B6-9689-425B-AC2F-E6B9C6CE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0AA06-B1A3-44E5-A44A-8552242F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5BD8BE-B768-452F-BFCD-6E454E48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3F7-B759-4F7F-9E0B-D1FAA0A8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EB32D-B589-4198-986B-02452B4D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DBAD4-3998-4F0F-8619-EACD5379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63FC5-6839-478D-BFB6-ACC25882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4C329A-8039-4005-A45A-EF059CCC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B3367-F9A2-4CA2-91A9-2585720E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35178-DB5B-44FD-A992-AA1F60F7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1161E-87E0-4462-9E15-3768D148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3876E-16B7-40F1-BAC5-FE6AE51E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AC013-D5A5-4EEA-984D-C5A2683B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E75E54-C9BF-4087-98DA-535E40EA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981B62-9F11-43A4-AE3E-A51AB1CC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EBB7A-064F-4BA6-AE48-0AC5160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947EE-D003-4F03-A78A-70807FF1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F5CCA-EBFC-4666-8D01-57A07BFF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D52A5-142C-435D-9DAE-A08954B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8566D-02AE-42F0-8A13-F5E3444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9C2BD-2F63-4AEC-B2F4-EB35EE31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84AE8-DAD7-4AC6-BAC2-85D6D6FE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BA8C9-4964-418A-A0D9-69891677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9D6F2-A370-477A-A77C-6FB8F03C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B3A76D-8F55-4CAF-913D-705D7F5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D5BBFE-887C-4E7B-9984-A056A7CD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4DF6B-E64E-436D-8727-8EA4BF25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ECFE9-BC52-408D-B6C9-5FA19C43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B9D34-34AB-4346-B57D-0F14B5F2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B9876-A684-4A7A-B929-4CB237B7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94672-C834-408B-84B0-F921F66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448B5-11C4-4A10-A2A3-FAEF6342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070DA-64CE-4B51-AC15-4FEE03E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2F5D8-B60C-4CBD-BD4D-D9CC7D6D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B5F13-136D-4B56-A8A9-3F2A268D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E4698-4CFD-476B-B657-57A7BC64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2AE3E-8251-4B1B-8642-26F52AFF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58369-E72B-4E8D-BB1C-D8DF0AD3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743544-BC9E-4C28-BDAD-B6681CD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546EBE-B8D5-4C94-9ABF-23D3957C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64C010-7A35-41BE-A31E-3796DDFE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B3DA59-40A0-4CEA-90DD-D40C0348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076DB-0F75-425C-B5B7-AC2DF329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57B3E-8FF8-4C8C-8E73-AFC9220A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60273-902F-4B13-9AAB-D6FD0017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AB198-426D-42E3-B748-8A4C518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2BCC91-87B8-474F-984A-80169865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E51C9-6874-4D74-BD13-A65C0805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F74DA-4780-4B51-8CDA-8C926141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581FB3-6851-42AB-B82A-692A55BE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F0169-3C3C-4F4E-B204-A26CC1B2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AE18F-A871-4A24-9FFA-A9121EE8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9FB0A-0A3A-448C-8AF3-39673831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45E251-B9AC-40A8-97E0-BB1381CB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F56268-2F60-4055-85FB-F4265DE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CA3D0E-A4D2-40FE-B1B6-349108D6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1BF4B-5272-4562-9EFC-5BF731EA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AC76D-03C8-4190-9F68-455D6F23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4F68A-6E37-4E85-A218-DD507BF7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4DB9-812F-4025-ABF6-5A2106F9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0F113-CF8C-4558-A050-E105FCD7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A8B40-E54C-42EF-AD73-F890FC58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AEDF59-7C51-418A-BCCC-CC9EED62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03F043-49CD-4FA7-A11F-A189E661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E3F499-9950-412D-B757-7DF544DA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C9DA54-EC71-499B-BE94-601EE401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267B22-370E-4B3C-8563-24DCEB0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B56060-2466-4C24-8AFC-F06C73F4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F5164E-7FB1-4495-ACDC-AB74E497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8AB7DC-D8C1-4C45-B596-5D003D43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1995-F7A3-4D50-9F9D-E0F28C27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94C06D-E58B-4D42-AB19-C280AC4C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31A5CB-D759-4A05-91DA-F52458B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2D3AEB-417E-4D8C-951D-92F4B53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0F067B-795D-49CA-97D9-C0A51274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622FB2-2F75-46F2-B95E-CE473CAF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A89D0A-D661-4BD4-B46F-9735B19D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9E1543-6ED3-42F7-B646-015425E7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C69C5F-8ACB-4E01-AC17-35900C0A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A0A179-2F49-4151-B919-EE6CBF9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8FC8FB-BF61-47F1-8693-93EC911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768C-D5FB-4E8C-9F66-82A4B0B2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DB112E-D0AA-45A0-B00D-CEAFD8AB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516F8E-D53F-4F95-807F-859CE147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F0FB73-4305-4580-8B26-C42E4F51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BB3A1-E709-4872-A2D1-FC17149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829446-6D60-4B52-BC31-670D330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96DFCB-8538-4AE1-B7AD-70451ADC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B34C19-6EF8-4E33-83D8-8C3330F4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F5CECC-DB04-4575-8DE5-8C713A31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21C80A-9680-49C2-9386-745AF0FC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ADA1FC-9D27-4FFC-A78A-B03B1144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B18A-8118-4E48-9A4E-67266682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265965-C6D7-4D18-BC81-9D46EBAA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E338ED-89B7-4FF3-AE45-7EFF6527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A8F0A4-0422-4F5A-B115-A430D8C4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005BFF-CD99-4EB4-9B10-FC24DA70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25CC8F-5236-4CC9-8067-E67E27E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39B464-2F89-43C9-90C0-CB645D7F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03E701-981A-4EC4-8CE3-20AB7F28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45B80E-9575-42D8-8E6E-06A9D103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705986-149C-4F6C-89F5-18FA4923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1F83-1E43-401B-B005-086E418E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38D-8A88-4BA4-AE89-03A73CB9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F38C-144F-4AF7-96C9-F745FF49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BA640-B2E7-44D3-A3BF-499D4829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BFE9-5097-48AD-B8C4-8AC1763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0D6A-773B-458E-89DE-FE0E5A5D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E70C-1971-45E6-ACD1-060BBAE2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C075-99EE-4023-A918-7B884470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1B128-F55D-42D1-B650-D0C27C89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4140-EC28-4CE1-943F-AF8D6F29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E634-F576-41B8-A8A9-A0DAC1F6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FB6F-F770-4FCD-9691-C14C1AD2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82C-6DF6-44FA-A1D4-3191049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D4B4-0C7C-400A-966A-DC1A102F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30BC-318D-48BA-BF2E-4F8960F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7E42-19DF-4C52-8BDE-8EA4979F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5305-AF4C-4214-A230-BEAE742C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5238-4E6E-4ACA-BDC7-628D02F3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24A1-3320-4D84-AB2C-75009D6F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969E-A0FB-4B4E-AA49-B2FF6D33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77A0-BB79-4B65-ABD7-A3882472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1900-31C1-475D-A486-7923C14A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278E-A6CA-44E5-BEE2-E04C35E2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363-3B83-4E69-9536-8C770361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AC1B1-372A-49FE-B49D-C9F19B36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F7FED-5B47-491E-BFD0-8D7429EC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DD208-A114-41C9-A110-10286517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2EE1-9034-4A7C-8CF9-975C20D0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53C86-B072-4A8A-9B15-0E6A7D1F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A285-823C-4D4F-A80F-0F77461E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DAA62-EFF7-4CCF-9748-B2430741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C7CA-524C-42C8-8E38-D48E353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F5B5-A2CD-4673-A45A-828BB742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3157B-F3BE-4DBB-B591-9BC5DFBC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92E-CD76-4FA4-8BDF-BB8780ED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4B252-82A3-4D4A-A835-D051D426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2788-47EB-4CE0-A1E4-6B208864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0201B-0AAB-4B30-AF71-6494CEA9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6B02A-71E0-4371-8B8A-9E78B4A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A57D-BAA5-408C-8369-1660CE65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9AA3E-55EA-417A-8721-E97C1165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53F9F-1870-4C0D-A2A7-840A9316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F91A0-313D-4518-994E-D626E62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34956-8C79-4371-8BFB-74E36891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50CA-2FA9-417B-8A11-E6A999E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3DF-9157-4977-8B10-FF2DB83A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95ECC-166C-4C8A-86F9-0F9D8066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9AF64-EDC3-453B-B646-83332E33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35520-540A-4509-84F6-1C71C390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C4640-D6CE-4C61-9119-DF2B32D2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9BF63-021A-4A8E-8DF5-25D36B27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FE1FB-00E9-43E6-8A84-E83614C2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A507A-5027-4C5C-89AE-A617E3EE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CAFEA-CDDF-4BF2-827B-D2D7DEBF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69DD5-112E-43A8-9DCE-5BA7ED5A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FF7B2-D2A3-4DB2-8541-521B861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25E-3AFD-4BCA-8C2D-F287A6EC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019F8-72A6-4257-8F64-01C92FB1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B0ED0-5E0D-4F88-AE6F-75289487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8EE6-C330-4137-BCA9-8D9EF665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4E202-8CBD-4E61-9E04-3140321F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30EFA-A1B9-4C9E-9018-4E0DFC29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D5270-DC7A-4CE3-83D0-51EE38C3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5D3F5-D874-4770-B30B-D8B5473E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537E9-54B1-4291-A7C5-00D42C0B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34728-AA0C-4A73-AECA-112A5888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B363E-96B1-4A5E-8CD9-3C1584BE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67D-AB5A-4AB1-A34B-3C472C73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63993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155B9-3601-4C5A-8811-A9E60F8B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FC3E-B57F-465F-812E-E34252D7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BF0D6-9DD9-4817-BCD3-B998DD5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14B42-A320-4ACA-AC0B-84B8408A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438280" y="3947760"/>
            <a:ext cx="6399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E6D3A-E11F-419F-B8A4-57BA0457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717520" y="160020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43828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717520" y="3947760"/>
            <a:ext cx="3122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8FEA6-F83C-4139-B9DA-1C805DF5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018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765480" y="160020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24382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6018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765480" y="3947760"/>
            <a:ext cx="20602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5EBB4-D986-4304-8306-9645D8FE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8A395-C322-4AF1-AAA0-AEA8AD45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D4080-E29E-40AE-83D9-FB83CA7B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74D16-DB07-4838-8B7D-EBC81332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21.xml"/><Relationship Id="rId32" Type="http://schemas.openxmlformats.org/officeDocument/2006/relationships/slideLayout" Target="../slideLayouts/slideLayout122.xml"/><Relationship Id="rId33" Type="http://schemas.openxmlformats.org/officeDocument/2006/relationships/slideLayout" Target="../slideLayouts/slideLayout123.xml"/><Relationship Id="rId34" Type="http://schemas.openxmlformats.org/officeDocument/2006/relationships/slideLayout" Target="../slideLayouts/slideLayout124.xml"/><Relationship Id="rId35" Type="http://schemas.openxmlformats.org/officeDocument/2006/relationships/slideLayout" Target="../slideLayouts/slideLayout125.xml"/><Relationship Id="rId36" Type="http://schemas.openxmlformats.org/officeDocument/2006/relationships/slideLayout" Target="../slideLayouts/slideLayout126.xml"/><Relationship Id="rId37" Type="http://schemas.openxmlformats.org/officeDocument/2006/relationships/slideLayout" Target="../slideLayouts/slideLayout127.xml"/><Relationship Id="rId38" Type="http://schemas.openxmlformats.org/officeDocument/2006/relationships/slideLayout" Target="../slideLayouts/slideLayout128.xml"/><Relationship Id="rId39" Type="http://schemas.openxmlformats.org/officeDocument/2006/relationships/slideLayout" Target="../slideLayouts/slideLayout129.xml"/><Relationship Id="rId40" Type="http://schemas.openxmlformats.org/officeDocument/2006/relationships/slideLayout" Target="../slideLayouts/slideLayout130.xml"/><Relationship Id="rId41" Type="http://schemas.openxmlformats.org/officeDocument/2006/relationships/slideLayout" Target="../slideLayouts/slideLayout131.xml"/><Relationship Id="rId4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3E0E04-2900-452E-97C2-34E525FB1B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476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480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28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1D5C04-DA66-4940-9CB6-A88A45D767C9}" type="slidenum"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5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7848720" y="48960"/>
              <a:ext cx="1295280" cy="6261480"/>
              <a:chOff x="7848720" y="48960"/>
              <a:chExt cx="1295280" cy="626148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8381880" y="48960"/>
                <a:ext cx="762120" cy="2222640"/>
                <a:chOff x="8381880" y="48960"/>
                <a:chExt cx="762120" cy="2222640"/>
              </a:xfrm>
            </p:grpSpPr>
            <p:grpSp>
              <p:nvGrpSpPr>
                <p:cNvPr id="558" name=""/>
                <p:cNvGrpSpPr/>
                <p:nvPr/>
              </p:nvGrpSpPr>
              <p:grpSpPr>
                <a:xfrm>
                  <a:off x="8632800" y="48960"/>
                  <a:ext cx="419040" cy="184320"/>
                  <a:chOff x="8632800" y="48960"/>
                  <a:chExt cx="419040" cy="184320"/>
                </a:xfrm>
              </p:grpSpPr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8632800" y="48960"/>
                    <a:ext cx="419040" cy="184320"/>
                    <a:chOff x="8632800" y="48960"/>
                    <a:chExt cx="419040" cy="18432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16200000">
                      <a:off x="8774640" y="-92880"/>
                      <a:ext cx="13500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8765280" y="16560"/>
                      <a:ext cx="93600" cy="33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2" name=""/>
                  <p:cNvSpPr/>
                  <p:nvPr/>
                </p:nvSpPr>
                <p:spPr>
                  <a:xfrm rot="16200000">
                    <a:off x="8825040" y="123840"/>
                    <a:ext cx="17280" cy="396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16200000">
                    <a:off x="8729640" y="73080"/>
                    <a:ext cx="28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6200000">
                    <a:off x="8847000" y="73080"/>
                    <a:ext cx="432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rot="16200000">
                    <a:off x="8933400" y="95760"/>
                    <a:ext cx="16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16200000">
                    <a:off x="8841600" y="163800"/>
                    <a:ext cx="428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rot="16200000">
                    <a:off x="8751600" y="139320"/>
                    <a:ext cx="25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5400000">
              <a:off x="4325400" y="3315960"/>
              <a:ext cx="6858000" cy="22572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720"/>
                <a:gd name="textAreaBottom" fmla="*/ 204120 h 2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C8E214-14D0-4ABF-94B2-7AFC7C304416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1"/>
    <p:sldLayoutId id="2147483780" r:id="rId32"/>
    <p:sldLayoutId id="2147483781" r:id="rId33"/>
    <p:sldLayoutId id="2147483782" r:id="rId34"/>
    <p:sldLayoutId id="2147483783" r:id="rId35"/>
    <p:sldLayoutId id="2147483784" r:id="rId36"/>
    <p:sldLayoutId id="2147483785" r:id="rId37"/>
    <p:sldLayoutId id="2147483786" r:id="rId38"/>
    <p:sldLayoutId id="2147483787" r:id="rId39"/>
    <p:sldLayoutId id="2147483788" r:id="rId40"/>
    <p:sldLayoutId id="2147483789" r:id="rId41"/>
    <p:sldLayoutId id="2147483790" r:id="rId4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7848720" y="48960"/>
              <a:ext cx="1295280" cy="6261480"/>
              <a:chOff x="7848720" y="48960"/>
              <a:chExt cx="1295280" cy="626148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8381880" y="48960"/>
                <a:ext cx="762120" cy="2222640"/>
                <a:chOff x="8381880" y="48960"/>
                <a:chExt cx="762120" cy="222264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8632800" y="48960"/>
                  <a:ext cx="419040" cy="184320"/>
                  <a:chOff x="8632800" y="48960"/>
                  <a:chExt cx="419040" cy="184320"/>
                </a:xfrm>
              </p:grpSpPr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8632800" y="48960"/>
                    <a:ext cx="419040" cy="184320"/>
                    <a:chOff x="8632800" y="48960"/>
                    <a:chExt cx="419040" cy="1843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16200000">
                      <a:off x="8774640" y="-92880"/>
                      <a:ext cx="13500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16200000">
                      <a:off x="8765280" y="16560"/>
                      <a:ext cx="93600" cy="33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8" name=""/>
                  <p:cNvSpPr/>
                  <p:nvPr/>
                </p:nvSpPr>
                <p:spPr>
                  <a:xfrm rot="16200000">
                    <a:off x="8825040" y="123840"/>
                    <a:ext cx="17280" cy="396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6200000">
                    <a:off x="8729640" y="73080"/>
                    <a:ext cx="28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6200000">
                    <a:off x="8847000" y="73080"/>
                    <a:ext cx="432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6200000">
                    <a:off x="8933400" y="95760"/>
                    <a:ext cx="16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rot="16200000">
                    <a:off x="8841600" y="163800"/>
                    <a:ext cx="428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16200000">
                    <a:off x="8751600" y="139320"/>
                    <a:ext cx="25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5400000">
              <a:off x="4325400" y="3315960"/>
              <a:ext cx="6858000" cy="22572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720"/>
                <a:gd name="textAreaBottom" fmla="*/ 204120 h 22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dt" idx="3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ftr" idx="3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3012FAF-2689-4206-BAD0-E780B74BF3B6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3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D463E7-379C-483E-88E1-67D8107C7C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ftr" idx="4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B0DB22-F87C-40F9-B6C3-CBEF08E7D4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dt" idx="4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ftr" idx="4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C7C409-B27C-436E-B73A-2A5C0DB3D8C0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dt" idx="4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8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dt" idx="4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ftr" idx="4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130026-6932-4E8F-BA99-5701AA7D9392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"/>
          <p:cNvGrpSpPr/>
          <p:nvPr/>
        </p:nvGrpSpPr>
        <p:grpSpPr>
          <a:xfrm>
            <a:off x="6273360" y="-21600"/>
            <a:ext cx="2962800" cy="3333240"/>
            <a:chOff x="6273360" y="-21600"/>
            <a:chExt cx="2962800" cy="3333240"/>
          </a:xfrm>
        </p:grpSpPr>
        <p:grpSp>
          <p:nvGrpSpPr>
            <p:cNvPr id="95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95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927920" y="2828880"/>
                <a:ext cx="2412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95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159760" y="177336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95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689880" y="32868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6273360" y="-21600"/>
              <a:ext cx="2962800" cy="3333240"/>
              <a:chOff x="6273360" y="-21600"/>
              <a:chExt cx="2962800" cy="3333240"/>
            </a:xfrm>
          </p:grpSpPr>
          <p:grpSp>
            <p:nvGrpSpPr>
              <p:cNvPr id="96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562880" y="806400"/>
                  <a:ext cx="29700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6273360" y="-21600"/>
                <a:ext cx="2867400" cy="2267640"/>
                <a:chOff x="6273360" y="-21600"/>
                <a:chExt cx="2867400" cy="226764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7835400" y="843120"/>
                  <a:ext cx="1063440" cy="1140120"/>
                  <a:chOff x="7835400" y="843120"/>
                  <a:chExt cx="1063440" cy="114012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rot="2700000">
                    <a:off x="8404560" y="16009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rot="1080000">
                    <a:off x="7843320" y="823680"/>
                    <a:ext cx="86076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7854120" y="653760"/>
                  <a:ext cx="1224000" cy="422280"/>
                  <a:chOff x="7854120" y="653760"/>
                  <a:chExt cx="1224000" cy="42228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rot="480000">
                    <a:off x="7861320" y="707760"/>
                    <a:ext cx="7920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rot="480000">
                    <a:off x="8637120" y="796680"/>
                    <a:ext cx="4255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1480000">
                    <a:off x="7872120" y="649080"/>
                    <a:ext cx="7207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6537240" y="906480"/>
                  <a:ext cx="1066680" cy="1140120"/>
                  <a:chOff x="6537240" y="906480"/>
                  <a:chExt cx="1066680" cy="114012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 flipH="1" rot="18900000">
                    <a:off x="6791760" y="119556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H="1" rot="18900000">
                    <a:off x="6555960" y="16642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6339600" y="745920"/>
                  <a:ext cx="1222200" cy="419040"/>
                  <a:chOff x="6339600" y="745920"/>
                  <a:chExt cx="1222200" cy="41904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flipH="1" rot="21120000">
                    <a:off x="6761520" y="799920"/>
                    <a:ext cx="79236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H="1" rot="21120000">
                    <a:off x="6354360" y="887400"/>
                    <a:ext cx="4255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6866280" y="57240"/>
                  <a:ext cx="823680" cy="764280"/>
                  <a:chOff x="6866280" y="57240"/>
                  <a:chExt cx="823680" cy="76428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 flipH="1" rot="2700000">
                    <a:off x="7103520" y="501480"/>
                    <a:ext cx="6408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H="1" rot="2700000">
                    <a:off x="6876720" y="153720"/>
                    <a:ext cx="344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7287840" y="-21600"/>
                  <a:ext cx="465840" cy="810360"/>
                  <a:chOff x="7287840" y="-21600"/>
                  <a:chExt cx="465840" cy="81036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 flipH="1" rot="4140000">
                    <a:off x="7332480" y="460080"/>
                    <a:ext cx="544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7794000" y="272520"/>
                  <a:ext cx="961920" cy="462600"/>
                  <a:chOff x="7794000" y="272520"/>
                  <a:chExt cx="961920" cy="46260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 rot="20280000">
                    <a:off x="7791480" y="511200"/>
                    <a:ext cx="631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rot="20280000">
                    <a:off x="8395920" y="32976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H="1" rot="4560000">
                  <a:off x="743256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"/>
                <p:cNvGrpSpPr/>
                <p:nvPr/>
              </p:nvGrpSpPr>
              <p:grpSpPr>
                <a:xfrm>
                  <a:off x="7665840" y="-10080"/>
                  <a:ext cx="497880" cy="790560"/>
                  <a:chOff x="7665840" y="-10080"/>
                  <a:chExt cx="497880" cy="7905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 rot="17760000">
                    <a:off x="7554960" y="468360"/>
                    <a:ext cx="5443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rot="17760000">
                    <a:off x="7887240" y="7956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7662600" y="39600"/>
                  <a:ext cx="785160" cy="747360"/>
                  <a:chOff x="7662600" y="39600"/>
                  <a:chExt cx="785160" cy="74736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rot="18840000">
                    <a:off x="8101080" y="12060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7711560" y="2520"/>
                  <a:ext cx="175320" cy="742680"/>
                  <a:chOff x="7711560" y="2520"/>
                  <a:chExt cx="175320" cy="74268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680000">
                    <a:off x="7703280" y="101880"/>
                    <a:ext cx="2617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7016400" y="977400"/>
                  <a:ext cx="612360" cy="1249200"/>
                  <a:chOff x="7016400" y="977400"/>
                  <a:chExt cx="612360" cy="124920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 flipH="1" rot="17520000">
                    <a:off x="6991920" y="1306080"/>
                    <a:ext cx="817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H="1" rot="17520000">
                    <a:off x="6994800" y="1850040"/>
                    <a:ext cx="4399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7313400" y="1001520"/>
                  <a:ext cx="364680" cy="1216800"/>
                  <a:chOff x="7313400" y="1001520"/>
                  <a:chExt cx="364680" cy="121680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flipH="1" rot="16860000">
                    <a:off x="7138800" y="13284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 rot="16860000">
                    <a:off x="7254360" y="1876320"/>
                    <a:ext cx="42084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799400" y="909720"/>
                  <a:ext cx="951120" cy="1227600"/>
                  <a:chOff x="7799400" y="909720"/>
                  <a:chExt cx="951120" cy="122760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 rot="3120000">
                    <a:off x="7692480" y="1227240"/>
                    <a:ext cx="8845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7785720" y="954720"/>
                  <a:ext cx="734760" cy="1261080"/>
                  <a:chOff x="7785720" y="954720"/>
                  <a:chExt cx="734760" cy="12610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 rot="3720000">
                    <a:off x="7629120" y="1287000"/>
                    <a:ext cx="846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7754400" y="1005120"/>
                  <a:ext cx="515520" cy="1240920"/>
                  <a:chOff x="7754400" y="1005120"/>
                  <a:chExt cx="515520" cy="124092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rot="4260000">
                    <a:off x="7884360" y="190656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7739280" y="1058760"/>
                  <a:ext cx="285480" cy="1153440"/>
                  <a:chOff x="7739280" y="1058760"/>
                  <a:chExt cx="285480" cy="115344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 rot="4920000">
                    <a:off x="7476120" y="1378800"/>
                    <a:ext cx="7556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rot="4920000">
                    <a:off x="7695360" y="1898280"/>
                    <a:ext cx="405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63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90080 w 2179440"/>
                  <a:gd name="textAreaRight" fmla="*/ 2179800 w 2179440"/>
                  <a:gd name="textAreaTop" fmla="*/ 42840 h 2405160"/>
                  <a:gd name="textAreaBottom" fmla="*/ 122436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960 w 955800"/>
                  <a:gd name="textAreaRight" fmla="*/ 955800 w 9558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000 w 911160"/>
                  <a:gd name="textAreaRight" fmla="*/ 911160 w 91116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 rot="19680000">
                <a:off x="761184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20220000">
                <a:off x="7986600" y="7840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49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0EDACC-2B1E-437D-965E-DB98A8A452CC}" type="slidenum"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2011320" y="247320"/>
            <a:ext cx="7118280" cy="8012520"/>
            <a:chOff x="2011320" y="247320"/>
            <a:chExt cx="7118280" cy="8012520"/>
          </a:xfrm>
        </p:grpSpPr>
        <p:grpSp>
          <p:nvGrpSpPr>
            <p:cNvPr id="112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12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2011320" y="247320"/>
              <a:ext cx="7118280" cy="7783920"/>
              <a:chOff x="2011320" y="247320"/>
              <a:chExt cx="7118280" cy="778392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2011320" y="247320"/>
                <a:ext cx="6891120" cy="5449680"/>
                <a:chOff x="2011320" y="247320"/>
                <a:chExt cx="6891120" cy="5449680"/>
              </a:xfrm>
            </p:grpSpPr>
            <p:grpSp>
              <p:nvGrpSpPr>
                <p:cNvPr id="113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2011320" y="247320"/>
                  <a:ext cx="6891120" cy="5449680"/>
                  <a:chOff x="2011320" y="247320"/>
                  <a:chExt cx="6891120" cy="5449680"/>
                </a:xfrm>
              </p:grpSpPr>
              <p:grpSp>
                <p:nvGrpSpPr>
                  <p:cNvPr id="1136" name=""/>
                  <p:cNvGrpSpPr/>
                  <p:nvPr/>
                </p:nvGrpSpPr>
                <p:grpSpPr>
                  <a:xfrm>
                    <a:off x="5761080" y="2323440"/>
                    <a:ext cx="2562480" cy="2740320"/>
                    <a:chOff x="5761080" y="2323440"/>
                    <a:chExt cx="2562480" cy="2740320"/>
                  </a:xfrm>
                </p:grpSpPr>
                <p:sp>
                  <p:nvSpPr>
                    <p:cNvPr id="113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 rot="2700000">
                      <a:off x="7136640" y="414432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5788440" y="2148120"/>
                    <a:ext cx="3041280" cy="2528280"/>
                    <a:chOff x="5788440" y="2148120"/>
                    <a:chExt cx="3041280" cy="2528280"/>
                  </a:xfrm>
                </p:grpSpPr>
                <p:sp>
                  <p:nvSpPr>
                    <p:cNvPr id="1140" name=""/>
                    <p:cNvSpPr/>
                    <p:nvPr/>
                  </p:nvSpPr>
                  <p:spPr>
                    <a:xfrm rot="2100000">
                      <a:off x="5708160" y="2750760"/>
                      <a:ext cx="22370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 rot="2100000">
                      <a:off x="7545240" y="3720960"/>
                      <a:ext cx="12002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2" name=""/>
                  <p:cNvGrpSpPr/>
                  <p:nvPr/>
                </p:nvGrpSpPr>
                <p:grpSpPr>
                  <a:xfrm>
                    <a:off x="5774760" y="2071080"/>
                    <a:ext cx="3098520" cy="1983600"/>
                    <a:chOff x="5774760" y="2071080"/>
                    <a:chExt cx="3098520" cy="1983600"/>
                  </a:xfrm>
                </p:grpSpPr>
                <p:sp>
                  <p:nvSpPr>
                    <p:cNvPr id="1143" name=""/>
                    <p:cNvSpPr/>
                    <p:nvPr/>
                  </p:nvSpPr>
                  <p:spPr>
                    <a:xfrm rot="1560000">
                      <a:off x="5748480" y="252108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5768640" y="1968840"/>
                    <a:ext cx="3133800" cy="1609560"/>
                    <a:chOff x="5768640" y="1968840"/>
                    <a:chExt cx="3133800" cy="160956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 rot="1080000">
                      <a:off x="5781600" y="2278080"/>
                      <a:ext cx="206712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rot="1080000">
                      <a:off x="7718040" y="277452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14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1" name=""/>
                  <p:cNvGrpSpPr/>
                  <p:nvPr/>
                </p:nvGrpSpPr>
                <p:grpSpPr>
                  <a:xfrm>
                    <a:off x="5848920" y="1811160"/>
                    <a:ext cx="2663640" cy="454320"/>
                    <a:chOff x="5848920" y="1811160"/>
                    <a:chExt cx="2663640" cy="454320"/>
                  </a:xfrm>
                </p:grpSpPr>
                <p:sp>
                  <p:nvSpPr>
                    <p:cNvPr id="1152" name=""/>
                    <p:cNvSpPr/>
                    <p:nvPr/>
                  </p:nvSpPr>
                  <p:spPr>
                    <a:xfrm rot="21480000">
                      <a:off x="5852880" y="1852200"/>
                      <a:ext cx="17301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 rot="21480000">
                      <a:off x="7575120" y="182700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4" name=""/>
                  <p:cNvGrpSpPr/>
                  <p:nvPr/>
                </p:nvGrpSpPr>
                <p:grpSpPr>
                  <a:xfrm>
                    <a:off x="5788080" y="1299600"/>
                    <a:ext cx="2363760" cy="799560"/>
                    <a:chOff x="5788080" y="1299600"/>
                    <a:chExt cx="2363760" cy="799560"/>
                  </a:xfrm>
                </p:grpSpPr>
                <p:sp>
                  <p:nvSpPr>
                    <p:cNvPr id="115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 rot="20760000">
                      <a:off x="7297560" y="1391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115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0" name=""/>
                  <p:cNvGrpSpPr/>
                  <p:nvPr/>
                </p:nvGrpSpPr>
                <p:grpSpPr>
                  <a:xfrm>
                    <a:off x="2085840" y="2367720"/>
                    <a:ext cx="3042360" cy="2527920"/>
                    <a:chOff x="2085840" y="2367720"/>
                    <a:chExt cx="3042360" cy="2527920"/>
                  </a:xfrm>
                </p:grpSpPr>
                <p:sp>
                  <p:nvSpPr>
                    <p:cNvPr id="1161" name=""/>
                    <p:cNvSpPr/>
                    <p:nvPr/>
                  </p:nvSpPr>
                  <p:spPr>
                    <a:xfrm flipH="1" rot="19500000">
                      <a:off x="2971080" y="297036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3" name=""/>
                  <p:cNvGrpSpPr/>
                  <p:nvPr/>
                </p:nvGrpSpPr>
                <p:grpSpPr>
                  <a:xfrm>
                    <a:off x="2041920" y="2288160"/>
                    <a:ext cx="3098880" cy="1985760"/>
                    <a:chOff x="2041920" y="2288160"/>
                    <a:chExt cx="3098880" cy="1985760"/>
                  </a:xfrm>
                </p:grpSpPr>
                <p:sp>
                  <p:nvSpPr>
                    <p:cNvPr id="1164" name=""/>
                    <p:cNvSpPr/>
                    <p:nvPr/>
                  </p:nvSpPr>
                  <p:spPr>
                    <a:xfrm flipH="1" rot="20040000">
                      <a:off x="3025080" y="2738520"/>
                      <a:ext cx="21416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2011320" y="2187360"/>
                    <a:ext cx="3134160" cy="1608480"/>
                    <a:chOff x="2011320" y="2187360"/>
                    <a:chExt cx="3134160" cy="160848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flipH="1" rot="20520000">
                      <a:off x="2084040" y="299196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9" name=""/>
                  <p:cNvGrpSpPr/>
                  <p:nvPr/>
                </p:nvGrpSpPr>
                <p:grpSpPr>
                  <a:xfrm>
                    <a:off x="2164320" y="2093400"/>
                    <a:ext cx="2944440" cy="1008720"/>
                    <a:chOff x="2164320" y="2093400"/>
                    <a:chExt cx="2944440" cy="1008720"/>
                  </a:xfrm>
                </p:grpSpPr>
                <p:sp>
                  <p:nvSpPr>
                    <p:cNvPr id="117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 flipH="1" rot="21120000">
                      <a:off x="2201400" y="2430360"/>
                      <a:ext cx="10224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2" name=""/>
                  <p:cNvGrpSpPr/>
                  <p:nvPr/>
                </p:nvGrpSpPr>
                <p:grpSpPr>
                  <a:xfrm>
                    <a:off x="2400840" y="2030040"/>
                    <a:ext cx="2659320" cy="454320"/>
                    <a:chOff x="2400840" y="2030040"/>
                    <a:chExt cx="2659320" cy="454320"/>
                  </a:xfrm>
                </p:grpSpPr>
                <p:sp>
                  <p:nvSpPr>
                    <p:cNvPr id="1173" name=""/>
                    <p:cNvSpPr/>
                    <p:nvPr/>
                  </p:nvSpPr>
                  <p:spPr>
                    <a:xfrm flipH="1" rot="120000">
                      <a:off x="3325320" y="206964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flipH="1" rot="120000">
                      <a:off x="2407320" y="204588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H="1" rot="840000">
                      <a:off x="2796120" y="161100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8" name=""/>
                  <p:cNvGrpSpPr/>
                  <p:nvPr/>
                </p:nvGrpSpPr>
                <p:grpSpPr>
                  <a:xfrm>
                    <a:off x="2886120" y="1239120"/>
                    <a:ext cx="2328840" cy="1078560"/>
                    <a:chOff x="2886120" y="1239120"/>
                    <a:chExt cx="2328840" cy="1078560"/>
                  </a:xfrm>
                </p:grpSpPr>
                <p:sp>
                  <p:nvSpPr>
                    <p:cNvPr id="117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flipH="1" rot="1260000">
                      <a:off x="2933280" y="1371240"/>
                      <a:ext cx="8157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118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118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7" name=""/>
                  <p:cNvGrpSpPr/>
                  <p:nvPr/>
                </p:nvGrpSpPr>
                <p:grpSpPr>
                  <a:xfrm>
                    <a:off x="4024800" y="336960"/>
                    <a:ext cx="1464120" cy="1886040"/>
                    <a:chOff x="4024800" y="336960"/>
                    <a:chExt cx="1464120" cy="1886040"/>
                  </a:xfrm>
                </p:grpSpPr>
                <p:sp>
                  <p:nvSpPr>
                    <p:cNvPr id="1188" name=""/>
                    <p:cNvSpPr/>
                    <p:nvPr/>
                  </p:nvSpPr>
                  <p:spPr>
                    <a:xfrm flipH="1" rot="3480000">
                      <a:off x="4339080" y="144540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4449960" y="247320"/>
                    <a:ext cx="1118520" cy="1944000"/>
                    <a:chOff x="4449960" y="247320"/>
                    <a:chExt cx="1118520" cy="1944000"/>
                  </a:xfrm>
                </p:grpSpPr>
                <p:sp>
                  <p:nvSpPr>
                    <p:cNvPr id="119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 flipH="1" rot="4140000">
                      <a:off x="4417920" y="442080"/>
                      <a:ext cx="7034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3" name=""/>
                  <p:cNvGrpSpPr/>
                  <p:nvPr/>
                </p:nvGrpSpPr>
                <p:grpSpPr>
                  <a:xfrm>
                    <a:off x="5662080" y="952920"/>
                    <a:ext cx="2315880" cy="1112400"/>
                    <a:chOff x="5662080" y="952920"/>
                    <a:chExt cx="2315880" cy="1112400"/>
                  </a:xfrm>
                </p:grpSpPr>
                <p:sp>
                  <p:nvSpPr>
                    <p:cNvPr id="1194" name=""/>
                    <p:cNvSpPr/>
                    <p:nvPr/>
                  </p:nvSpPr>
                  <p:spPr>
                    <a:xfrm rot="20280000">
                      <a:off x="5656320" y="15253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 rot="20280000">
                      <a:off x="7113240" y="109044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6" name=""/>
                  <p:cNvGrpSpPr/>
                  <p:nvPr/>
                </p:nvGrpSpPr>
                <p:grpSpPr>
                  <a:xfrm>
                    <a:off x="5530320" y="626760"/>
                    <a:ext cx="2197080" cy="1451160"/>
                    <a:chOff x="5530320" y="626760"/>
                    <a:chExt cx="2197080" cy="1451160"/>
                  </a:xfrm>
                </p:grpSpPr>
                <p:sp>
                  <p:nvSpPr>
                    <p:cNvPr id="1197" name=""/>
                    <p:cNvSpPr/>
                    <p:nvPr/>
                  </p:nvSpPr>
                  <p:spPr>
                    <a:xfrm rot="19680000">
                      <a:off x="5484960" y="14299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9" name="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5353560" y="271440"/>
                    <a:ext cx="1198800" cy="1901160"/>
                    <a:chOff x="5353560" y="271440"/>
                    <a:chExt cx="1198800" cy="19011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rot="17760000">
                      <a:off x="5887800" y="486720"/>
                      <a:ext cx="7016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4" name=""/>
                  <p:cNvGrpSpPr/>
                  <p:nvPr/>
                </p:nvGrpSpPr>
                <p:grpSpPr>
                  <a:xfrm>
                    <a:off x="5344920" y="390960"/>
                    <a:ext cx="1892880" cy="1794960"/>
                    <a:chOff x="5344920" y="390960"/>
                    <a:chExt cx="1892880" cy="1794960"/>
                  </a:xfrm>
                </p:grpSpPr>
                <p:sp>
                  <p:nvSpPr>
                    <p:cNvPr id="120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rot="18840000">
                      <a:off x="6403320" y="586080"/>
                      <a:ext cx="76356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0" name=""/>
                  <p:cNvGrpSpPr/>
                  <p:nvPr/>
                </p:nvGrpSpPr>
                <p:grpSpPr>
                  <a:xfrm>
                    <a:off x="3062880" y="2533320"/>
                    <a:ext cx="2201040" cy="2998080"/>
                    <a:chOff x="3062880" y="2533320"/>
                    <a:chExt cx="2201040" cy="2998080"/>
                  </a:xfrm>
                </p:grpSpPr>
                <p:sp>
                  <p:nvSpPr>
                    <p:cNvPr id="121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flipH="1" rot="18360000">
                      <a:off x="3072240" y="459036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3" name=""/>
                  <p:cNvGrpSpPr/>
                  <p:nvPr/>
                </p:nvGrpSpPr>
                <p:grpSpPr>
                  <a:xfrm>
                    <a:off x="3794400" y="2647440"/>
                    <a:ext cx="1473120" cy="3002400"/>
                    <a:chOff x="3794400" y="2647440"/>
                    <a:chExt cx="1473120" cy="3002400"/>
                  </a:xfrm>
                </p:grpSpPr>
                <p:sp>
                  <p:nvSpPr>
                    <p:cNvPr id="1214" name=""/>
                    <p:cNvSpPr/>
                    <p:nvPr/>
                  </p:nvSpPr>
                  <p:spPr>
                    <a:xfrm flipH="1" rot="17520000">
                      <a:off x="3737160" y="3439080"/>
                      <a:ext cx="1967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flipH="1" rot="17520000">
                      <a:off x="3743640" y="474552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6" name=""/>
                  <p:cNvGrpSpPr/>
                  <p:nvPr/>
                </p:nvGrpSpPr>
                <p:grpSpPr>
                  <a:xfrm>
                    <a:off x="4513680" y="2702160"/>
                    <a:ext cx="868680" cy="2928600"/>
                    <a:chOff x="4513680" y="2702160"/>
                    <a:chExt cx="868680" cy="2928600"/>
                  </a:xfrm>
                </p:grpSpPr>
                <p:sp>
                  <p:nvSpPr>
                    <p:cNvPr id="1217" name=""/>
                    <p:cNvSpPr/>
                    <p:nvPr/>
                  </p:nvSpPr>
                  <p:spPr>
                    <a:xfrm flipH="1" rot="16860000">
                      <a:off x="4087800" y="3488400"/>
                      <a:ext cx="188784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flipH="1" rot="16860000">
                      <a:off x="4370760" y="4809240"/>
                      <a:ext cx="101268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5674320" y="2485440"/>
                    <a:ext cx="2287800" cy="2948760"/>
                    <a:chOff x="5674320" y="2485440"/>
                    <a:chExt cx="2287800" cy="294876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rot="3120000">
                      <a:off x="6802920" y="449640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2" name=""/>
                  <p:cNvGrpSpPr/>
                  <p:nvPr/>
                </p:nvGrpSpPr>
                <p:grpSpPr>
                  <a:xfrm>
                    <a:off x="5643000" y="2594880"/>
                    <a:ext cx="1765440" cy="3030120"/>
                    <a:chOff x="5643000" y="2594880"/>
                    <a:chExt cx="1765440" cy="3030120"/>
                  </a:xfrm>
                </p:grpSpPr>
                <p:sp>
                  <p:nvSpPr>
                    <p:cNvPr id="1223" name=""/>
                    <p:cNvSpPr/>
                    <p:nvPr/>
                  </p:nvSpPr>
                  <p:spPr>
                    <a:xfrm rot="3720000">
                      <a:off x="5265720" y="3394800"/>
                      <a:ext cx="20336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rot="3720000">
                      <a:off x="6351840" y="4718880"/>
                      <a:ext cx="10904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5" name=""/>
                  <p:cNvGrpSpPr/>
                  <p:nvPr/>
                </p:nvGrpSpPr>
                <p:grpSpPr>
                  <a:xfrm>
                    <a:off x="5572080" y="2711160"/>
                    <a:ext cx="1231920" cy="2985840"/>
                    <a:chOff x="5572080" y="2711160"/>
                    <a:chExt cx="1231920" cy="2985840"/>
                  </a:xfrm>
                </p:grpSpPr>
                <p:sp>
                  <p:nvSpPr>
                    <p:cNvPr id="1226" name=""/>
                    <p:cNvSpPr/>
                    <p:nvPr/>
                  </p:nvSpPr>
                  <p:spPr>
                    <a:xfrm rot="4260000">
                      <a:off x="5049720" y="3541680"/>
                      <a:ext cx="19731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123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34" name=""/>
              <p:cNvGrpSpPr/>
              <p:nvPr/>
            </p:nvGrpSpPr>
            <p:grpSpPr>
              <a:xfrm>
                <a:off x="2174760" y="682560"/>
                <a:ext cx="6954840" cy="7348680"/>
                <a:chOff x="2174760" y="682560"/>
                <a:chExt cx="6954840" cy="7348680"/>
              </a:xfrm>
            </p:grpSpPr>
            <p:grpSp>
              <p:nvGrpSpPr>
                <p:cNvPr id="1235" name=""/>
                <p:cNvGrpSpPr/>
                <p:nvPr/>
              </p:nvGrpSpPr>
              <p:grpSpPr>
                <a:xfrm>
                  <a:off x="2174760" y="682560"/>
                  <a:ext cx="6954840" cy="7348680"/>
                  <a:chOff x="2174760" y="682560"/>
                  <a:chExt cx="6954840" cy="7348680"/>
                </a:xfrm>
              </p:grpSpPr>
              <p:sp>
                <p:nvSpPr>
                  <p:cNvPr id="1236" name=""/>
                  <p:cNvSpPr/>
                  <p:nvPr/>
                </p:nvSpPr>
                <p:spPr>
                  <a:xfrm flipV="1">
                    <a:off x="5400720" y="858600"/>
                    <a:ext cx="3728880" cy="5045040"/>
                  </a:xfrm>
                  <a:custGeom>
                    <a:avLst/>
                    <a:gdLst>
                      <a:gd name="textAreaLeft" fmla="*/ 340920 w 3728880"/>
                      <a:gd name="textAreaRight" fmla="*/ 3505680 w 37288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H="1">
                    <a:off x="2562120" y="2270160"/>
                    <a:ext cx="3517920" cy="5761080"/>
                  </a:xfrm>
                  <a:custGeom>
                    <a:avLst/>
                    <a:gdLst>
                      <a:gd name="textAreaLeft" fmla="*/ 1032480 w 3517920"/>
                      <a:gd name="textAreaRight" fmla="*/ 3517920 w 35179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124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3384720" y="2476440"/>
                <a:ext cx="5232240" cy="5783400"/>
              </a:xfrm>
              <a:custGeom>
                <a:avLst/>
                <a:gdLst>
                  <a:gd name="textAreaLeft" fmla="*/ 2615760 w 5232240"/>
                  <a:gd name="textAreaRight" fmla="*/ 5232240 w 523224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2342520" y="1736640"/>
                <a:ext cx="3684600" cy="57610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 rot="1380000">
                <a:off x="4183200" y="2155320"/>
                <a:ext cx="54432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1588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52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3EE08C9-4548-42FD-818C-07F59821E6C5}" type="slidenum">
              <a:rPr b="0" lang="ru-RU" sz="14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9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00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993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3993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 type="dt" idx="55"/>
          </p:nvPr>
        </p:nvSpPr>
        <p:spPr>
          <a:xfrm>
            <a:off x="151920" y="6248160"/>
            <a:ext cx="1900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 type="ftr" idx="5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824A10-E08F-4BBA-983B-57A714C43A4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5120" cy="851040"/>
            <a:chOff x="-1440" y="6033960"/>
            <a:chExt cx="7845120" cy="85104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368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800" cy="851040"/>
              <a:chOff x="3944880" y="6033960"/>
              <a:chExt cx="3898800" cy="85104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800" y="6045120"/>
                <a:ext cx="157788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8000" y="6033960"/>
                <a:ext cx="29556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520" y="61945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1516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880" cy="8496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E133A2-A0AF-439A-81FB-063605C5C48A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44" name="PlaceHolder 1"/>
          <p:cNvSpPr>
            <a:spLocks noGrp="1"/>
          </p:cNvSpPr>
          <p:nvPr>
            <p:ph type="dt" idx="58"/>
          </p:nvPr>
        </p:nvSpPr>
        <p:spPr>
          <a:xfrm>
            <a:off x="3045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ftr" idx="5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sldNum" idx="60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C50F0D-7637-435D-A6AD-4889CAD7DF17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18680" cy="20559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8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388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40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6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6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E69DFE-4BCA-48C3-A0C5-27C7317F89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9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493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50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2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4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dt" idx="6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 type="ftr" idx="6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3BA041-CEC4-4DEB-9015-10613CCF1B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4" name=""/>
          <p:cNvGrpSpPr/>
          <p:nvPr/>
        </p:nvGrpSpPr>
        <p:grpSpPr>
          <a:xfrm>
            <a:off x="-85320" y="-92880"/>
            <a:ext cx="2772720" cy="6949440"/>
            <a:chOff x="-85320" y="-92880"/>
            <a:chExt cx="2772720" cy="6949440"/>
          </a:xfrm>
        </p:grpSpPr>
        <p:sp>
          <p:nvSpPr>
            <p:cNvPr id="159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14400" y="3991320"/>
              <a:ext cx="1003680" cy="606600"/>
              <a:chOff x="14400" y="3991320"/>
              <a:chExt cx="1003680" cy="606600"/>
            </a:xfrm>
          </p:grpSpPr>
          <p:sp>
            <p:nvSpPr>
              <p:cNvPr id="1597" name=""/>
              <p:cNvSpPr/>
              <p:nvPr/>
            </p:nvSpPr>
            <p:spPr>
              <a:xfrm flipH="1" rot="14940000">
                <a:off x="107640" y="3975840"/>
                <a:ext cx="182520" cy="326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rot="14940000">
                <a:off x="277920" y="4266360"/>
                <a:ext cx="312840" cy="273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rot="14940000">
                <a:off x="730800" y="4099320"/>
                <a:ext cx="326880" cy="138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1" name=""/>
            <p:cNvGrpSpPr/>
            <p:nvPr/>
          </p:nvGrpSpPr>
          <p:grpSpPr>
            <a:xfrm>
              <a:off x="-1440" y="2602080"/>
              <a:ext cx="2688840" cy="3119400"/>
              <a:chOff x="-1440" y="2602080"/>
              <a:chExt cx="2688840" cy="3119400"/>
            </a:xfrm>
          </p:grpSpPr>
          <p:sp>
            <p:nvSpPr>
              <p:cNvPr id="1602" name=""/>
              <p:cNvSpPr/>
              <p:nvPr/>
            </p:nvSpPr>
            <p:spPr>
              <a:xfrm flipH="1" rot="780000">
                <a:off x="385200" y="2698560"/>
                <a:ext cx="97452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 rot="780000">
                <a:off x="102600" y="2842920"/>
                <a:ext cx="815760" cy="1022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 rot="780000">
                <a:off x="357120" y="3053880"/>
                <a:ext cx="289080" cy="5180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 rot="780000">
                <a:off x="882720" y="379368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 rot="780000">
                <a:off x="805680" y="3854160"/>
                <a:ext cx="6516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851760" y="4052160"/>
                <a:ext cx="1835640" cy="1669320"/>
                <a:chOff x="851760" y="4052160"/>
                <a:chExt cx="1835640" cy="1669320"/>
              </a:xfrm>
            </p:grpSpPr>
            <p:sp>
              <p:nvSpPr>
                <p:cNvPr id="1608" name=""/>
                <p:cNvSpPr/>
                <p:nvPr/>
              </p:nvSpPr>
              <p:spPr>
                <a:xfrm flipH="1" rot="7140000">
                  <a:off x="1260720" y="3946320"/>
                  <a:ext cx="473400" cy="12146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 rot="7140000">
                  <a:off x="2325600" y="4975560"/>
                  <a:ext cx="109800" cy="4982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 rot="7140000">
                  <a:off x="2503080" y="5571720"/>
                  <a:ext cx="19872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1" name=""/>
            <p:cNvGrpSpPr/>
            <p:nvPr/>
          </p:nvGrpSpPr>
          <p:grpSpPr>
            <a:xfrm>
              <a:off x="435240" y="6211800"/>
              <a:ext cx="857520" cy="570240"/>
              <a:chOff x="435240" y="6211800"/>
              <a:chExt cx="857520" cy="570240"/>
            </a:xfrm>
          </p:grpSpPr>
          <p:sp>
            <p:nvSpPr>
              <p:cNvPr id="1612" name=""/>
              <p:cNvSpPr/>
              <p:nvPr/>
            </p:nvSpPr>
            <p:spPr>
              <a:xfrm rot="6240000">
                <a:off x="1046160" y="6188760"/>
                <a:ext cx="174960" cy="2840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6240000">
                <a:off x="800280" y="6490440"/>
                <a:ext cx="298440" cy="236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6240000">
                <a:off x="374760" y="6385320"/>
                <a:ext cx="312840" cy="120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314280" y="1776600"/>
              <a:ext cx="790560" cy="691560"/>
              <a:chOff x="314280" y="1776600"/>
              <a:chExt cx="790560" cy="691560"/>
            </a:xfrm>
          </p:grpSpPr>
          <p:sp>
            <p:nvSpPr>
              <p:cNvPr id="1616" name=""/>
              <p:cNvSpPr/>
              <p:nvPr/>
            </p:nvSpPr>
            <p:spPr>
              <a:xfrm rot="4980000">
                <a:off x="840960" y="1747800"/>
                <a:ext cx="20628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4980000">
                <a:off x="696600" y="2153880"/>
                <a:ext cx="35244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4980000">
                <a:off x="215280" y="2204640"/>
                <a:ext cx="36828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1293840" y="0"/>
              <a:ext cx="547560" cy="581040"/>
              <a:chOff x="1293840" y="0"/>
              <a:chExt cx="547560" cy="581040"/>
            </a:xfrm>
          </p:grpSpPr>
          <p:sp>
            <p:nvSpPr>
              <p:cNvPr id="1620" name=""/>
              <p:cNvSpPr/>
              <p:nvPr/>
            </p:nvSpPr>
            <p:spPr>
              <a:xfrm>
                <a:off x="1293840" y="0"/>
                <a:ext cx="173160" cy="219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544760" y="103320"/>
                <a:ext cx="296640" cy="180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484280" y="488880"/>
                <a:ext cx="30960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rot="840000">
              <a:off x="385920" y="540396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840000">
              <a:off x="423360" y="570240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rot="1560000">
              <a:off x="31320" y="64908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rot="1560000">
              <a:off x="383760" y="119808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560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1560000">
              <a:off x="376200" y="1143000"/>
              <a:ext cx="9864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1560000">
              <a:off x="930240" y="738000"/>
              <a:ext cx="114480" cy="64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1560000">
              <a:off x="88560" y="1314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67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6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B43850-C7B8-4CF9-A462-438EA68B7DF9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8" name=""/>
          <p:cNvGrpSpPr/>
          <p:nvPr/>
        </p:nvGrpSpPr>
        <p:grpSpPr>
          <a:xfrm>
            <a:off x="-19800" y="0"/>
            <a:ext cx="9060480" cy="6858000"/>
            <a:chOff x="-19800" y="0"/>
            <a:chExt cx="9060480" cy="6858000"/>
          </a:xfrm>
        </p:grpSpPr>
        <p:grpSp>
          <p:nvGrpSpPr>
            <p:cNvPr id="1679" name=""/>
            <p:cNvGrpSpPr/>
            <p:nvPr/>
          </p:nvGrpSpPr>
          <p:grpSpPr>
            <a:xfrm>
              <a:off x="5394240" y="59760"/>
              <a:ext cx="3646440" cy="6134040"/>
              <a:chOff x="5394240" y="59760"/>
              <a:chExt cx="3646440" cy="6134040"/>
            </a:xfrm>
          </p:grpSpPr>
          <p:sp>
            <p:nvSpPr>
              <p:cNvPr id="1680" name=""/>
              <p:cNvSpPr/>
              <p:nvPr/>
            </p:nvSpPr>
            <p:spPr>
              <a:xfrm flipV="1" rot="12000000">
                <a:off x="6585120" y="34992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V="1" rot="12000000">
                <a:off x="7424280" y="196272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 rot="12000000">
                <a:off x="6828840" y="259560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 rot="12000000">
                <a:off x="7254000" y="6764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 rot="12000000">
                <a:off x="7156800" y="2646360"/>
                <a:ext cx="16416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 rot="12000000">
                <a:off x="7142040" y="1240560"/>
                <a:ext cx="19080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 rot="12000000">
                <a:off x="5937840" y="2933640"/>
                <a:ext cx="523800" cy="32691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 flipH="1" rot="360000">
              <a:off x="32400" y="3107880"/>
              <a:ext cx="51264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rot="360000">
              <a:off x="1425240" y="453348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 rot="360000">
              <a:off x="1266480" y="473040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3" name=""/>
            <p:cNvGrpSpPr/>
            <p:nvPr/>
          </p:nvGrpSpPr>
          <p:grpSpPr>
            <a:xfrm>
              <a:off x="4114080" y="1043640"/>
              <a:ext cx="1044360" cy="1260000"/>
              <a:chOff x="4114080" y="1043640"/>
              <a:chExt cx="1044360" cy="1260000"/>
            </a:xfrm>
          </p:grpSpPr>
          <p:sp>
            <p:nvSpPr>
              <p:cNvPr id="1694" name=""/>
              <p:cNvSpPr/>
              <p:nvPr/>
            </p:nvSpPr>
            <p:spPr>
              <a:xfrm rot="3240000">
                <a:off x="4605480" y="1064520"/>
                <a:ext cx="262080" cy="4129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3240000">
                <a:off x="4663080" y="1573920"/>
                <a:ext cx="448920" cy="343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3240000">
                <a:off x="4087440" y="1974600"/>
                <a:ext cx="469800" cy="174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5703120" y="262440"/>
              <a:ext cx="717120" cy="925920"/>
              <a:chOff x="5703120" y="262440"/>
              <a:chExt cx="717120" cy="925920"/>
            </a:xfrm>
          </p:grpSpPr>
          <p:sp>
            <p:nvSpPr>
              <p:cNvPr id="1698" name=""/>
              <p:cNvSpPr/>
              <p:nvPr/>
            </p:nvSpPr>
            <p:spPr>
              <a:xfrm rot="14880000">
                <a:off x="5829840" y="894240"/>
                <a:ext cx="250920" cy="258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14880000">
                <a:off x="5668200" y="460440"/>
                <a:ext cx="428760" cy="214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14880000">
                <a:off x="6061680" y="435240"/>
                <a:ext cx="447480" cy="109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957600" y="5280480"/>
              <a:ext cx="1059840" cy="836280"/>
              <a:chOff x="957600" y="5280480"/>
              <a:chExt cx="1059840" cy="836280"/>
            </a:xfrm>
          </p:grpSpPr>
          <p:sp>
            <p:nvSpPr>
              <p:cNvPr id="1702" name=""/>
              <p:cNvSpPr/>
              <p:nvPr/>
            </p:nvSpPr>
            <p:spPr>
              <a:xfrm rot="8520000">
                <a:off x="1699920" y="5551200"/>
                <a:ext cx="252360" cy="298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8520000">
                <a:off x="1183680" y="5762520"/>
                <a:ext cx="430200" cy="247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8520000">
                <a:off x="948960" y="5405040"/>
                <a:ext cx="44928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78360" y="425520"/>
              <a:ext cx="1659600" cy="1175400"/>
              <a:chOff x="378360" y="425520"/>
              <a:chExt cx="1659600" cy="1175400"/>
            </a:xfrm>
          </p:grpSpPr>
          <p:sp>
            <p:nvSpPr>
              <p:cNvPr id="1706" name=""/>
              <p:cNvSpPr/>
              <p:nvPr/>
            </p:nvSpPr>
            <p:spPr>
              <a:xfrm flipH="1" rot="4140000">
                <a:off x="1547640" y="1079280"/>
                <a:ext cx="368640" cy="5140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 rot="4140000">
                <a:off x="987480" y="581760"/>
                <a:ext cx="628560" cy="426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 rot="4140000">
                <a:off x="268920" y="1084680"/>
                <a:ext cx="657360" cy="21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7396560" y="3696840"/>
              <a:ext cx="1157040" cy="1608120"/>
              <a:chOff x="7396560" y="3696840"/>
              <a:chExt cx="1157040" cy="1608120"/>
            </a:xfrm>
          </p:grpSpPr>
          <p:sp>
            <p:nvSpPr>
              <p:cNvPr id="1710" name=""/>
              <p:cNvSpPr/>
              <p:nvPr/>
            </p:nvSpPr>
            <p:spPr>
              <a:xfrm flipH="1" rot="10020000">
                <a:off x="7451640" y="4741200"/>
                <a:ext cx="35568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rot="10020000">
                <a:off x="7902000" y="4442040"/>
                <a:ext cx="609480" cy="441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 rot="10020000">
                <a:off x="7598880" y="3765600"/>
                <a:ext cx="636840" cy="225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 rot="9840000">
              <a:off x="3427200" y="164160"/>
              <a:ext cx="1081080" cy="94104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 rot="9840000">
              <a:off x="3171600" y="1361520"/>
              <a:ext cx="523800" cy="4413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 rot="9840000">
              <a:off x="3531960" y="1284480"/>
              <a:ext cx="19512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9840000">
              <a:off x="34527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0" name="PlaceHolder 1"/>
          <p:cNvSpPr>
            <a:spLocks noGrp="1"/>
          </p:cNvSpPr>
          <p:nvPr>
            <p:ph type="dt" idx="7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ftr" idx="7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F3EEC0-6703-4F24-AEF7-9465C1972EC4}" type="slidenum">
              <a:rPr b="0" lang="ru-RU" sz="1400" spc="-1" strike="noStrike">
                <a:solidFill>
                  <a:srgbClr val="006699"/>
                </a:solidFill>
                <a:latin typeface="Verdan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1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F1EAD-9B58-4739-9168-7AADFF7856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97BA1-C10A-40BE-BCB7-0B380E0EC4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4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9B6233-7B29-4065-9E3C-1C5C561CE3E7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61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114DBD-8B77-4071-8B5B-47F0892793EA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53C712-4D85-422E-BF89-96204E60CD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3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7FF4F6-6280-433E-B29A-C17C3913BB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9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0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427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25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20FFD2-C1E5-4AAF-8CF6-8DC8EF9C8245}" type="slidenum">
              <a:rPr b="0" lang="ru-RU" sz="1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Давление газ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первой категор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баз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лена Иван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434880"/>
            <a:ext cx="8229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Verdana"/>
              </a:rPr>
              <a:t>Давление газа увеличится, если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226692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1. увеличить массу газ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2. увеличить температуру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3. уменьшить объем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те качественные задачи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при проколе камеры велосипедного колеса давление воздуха в ней уменьшает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при закачивании воздуха в шину автомобиля с каждым разом становится все труднее двигать ручку насос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мяч, вынесенный из комнаты на улицу зимой, становится слабо надут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тоги уро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Что вы узнали нового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1280" indent="-3412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Чему научились на уроке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1280" indent="-3412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Что показалось особенно трудным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438280" y="2271240"/>
            <a:ext cx="6400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.35, конспект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Тайна сокровищ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1042920" y="2276280"/>
            <a:ext cx="734544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щущение тайны - наиболее прекрасное из доступных нам переживаний. Именно это чувство стоит у колыбели настоящей на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берт Эйнштей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авление га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ить причину существования давления в газах с точки зрения молекулярного строения ве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чего зависит давление г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можно его измен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тветьте на вопрос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такое давлени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 чего зависит давление твердого тел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давление зависит от силы, приложенной перпендикулярно опоре? Каков характер этой зависимост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давление зависит от площади опоры? Каков характер этой зависимост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-54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чем причина давления твердого тела на опор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полните зад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ой физической величине найдите соответствующие ей условное обозначение и единицы измер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в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ощад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корение свободного пад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/с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н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ирин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 fill="hold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 fill="hold"/>
                                        <p:tgtEl>
                                          <p:spTgt spid="1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 fill="hold"/>
                                        <p:tgtEl>
                                          <p:spTgt spid="1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 fill="hold"/>
                                        <p:tgtEl>
                                          <p:spTgt spid="1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 fill="hold"/>
                                        <p:tgtEl>
                                          <p:spTgt spid="1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 fill="hold"/>
                                        <p:tgtEl>
                                          <p:spTgt spid="1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 fill="hold"/>
                                        <p:tgtEl>
                                          <p:spTgt spid="1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 fill="hold"/>
                                        <p:tgtEl>
                                          <p:spTgt spid="1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 fill="hold"/>
                                        <p:tgtEl>
                                          <p:spTgt spid="1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-112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те карточки с формулами, которые относятся к теме: «Давление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m=</a:t>
            </a:r>
            <a:r>
              <a:rPr b="0" lang="el-GR" sz="4800" spc="-1" strike="noStrike">
                <a:solidFill>
                  <a:srgbClr val="ffffff"/>
                </a:solidFill>
                <a:latin typeface="Verdana"/>
                <a:ea typeface="Arial"/>
              </a:rPr>
              <a:t>ρ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p=F/S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упр=к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=gm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R=F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+F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=ab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ешите качественные задач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чему человек, идущий на лыжах, не проваливается в снег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динаковое ли давление мы оказываем на карандаш, затачивая его тупым и острым ножом, если прикладываемая сила одна и та же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о, что солдат со снаряжением оказывает такое же давление на землю, как и средний по весу танк. Почему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 какой целью опорную площадь у плоскогубцев делают больше, чем у кусаче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акой из двух одинаковых по объему цилиндров –алюминиевый или железный(латунный) – оказывает на опору меньшее давление? Почему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Экспериментальное за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67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определить давление, производимое деревянным бруском на пар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орудова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деревянный брусок, динамометр, линей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од рабо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мерьте вес бруска динамометр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мерьте длину и ширину той грани бруска, на которой он стоит, выразив эти значения в метр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числите площадь этой гр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числите производимое бруском да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уйте полученные результаты и сделайте выв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Чем  .  .  .  площадь поверх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м  .  .  .  дав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99ff"/>
                </a:solidFill>
                <a:latin typeface="Arial"/>
              </a:rPr>
              <a:t>Давление га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чина давления газ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дары молекул о стенки сос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вление газа определяется силой и частотой ударов молекул о стенки сос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7:27:43Z</dcterms:created>
  <dc:creator>German</dc:creator>
  <dc:description/>
  <dc:language>en-US</dc:language>
  <cp:lastModifiedBy>Галкины</cp:lastModifiedBy>
  <dcterms:modified xsi:type="dcterms:W3CDTF">2012-01-28T18:27:02Z</dcterms:modified>
  <cp:revision>11</cp:revision>
  <dc:subject/>
  <dc:title>Слайд 1</dc:title>
</cp:coreProperties>
</file>