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33.jpeg" ContentType="image/jpeg"/>
  <Override PartName="/ppt/media/image21.gif" ContentType="image/gif"/>
  <Override PartName="/ppt/media/image14.png" ContentType="image/png"/>
  <Override PartName="/ppt/media/image23.png" ContentType="image/png"/>
  <Override PartName="/ppt/media/image20.gif" ContentType="image/gif"/>
  <Override PartName="/ppt/media/image19.jpeg" ContentType="image/jpeg"/>
  <Override PartName="/ppt/media/image18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8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38.jpeg" ContentType="image/jpeg"/>
  <Override PartName="/ppt/media/image41.gif" ContentType="image/gif"/>
  <Override PartName="/ppt/media/image42.gif" ContentType="image/gif"/>
  <Override PartName="/ppt/media/image6.png" ContentType="image/png"/>
  <Override PartName="/ppt/media/image13.gif" ContentType="image/gif"/>
  <Override PartName="/ppt/media/image16.jpeg" ContentType="image/jpeg"/>
  <Override PartName="/ppt/media/image40.gif" ContentType="image/gif"/>
  <Override PartName="/ppt/media/image3.png" ContentType="image/png"/>
  <Override PartName="/ppt/media/image12.gif" ContentType="image/gif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8B61-58D8-4CA8-918C-F1C82A0E61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42EA-FC4F-412C-9F88-793643F5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B52B-104F-414F-93B1-5EF36CD1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598B-2124-4CAB-A657-CDCE76480F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6EC7-58A1-4F81-8AD8-66C76C9A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A27D-3CC1-4C4F-9C3C-EFB47C22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28AD8-8E3B-4D79-B48A-1FE9B904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545AF-F811-4ECD-9B38-0D35713C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20320"/>
            <a:ext cx="822636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515F-05E4-44B7-87BB-9E411807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5509-673F-4DB9-8A1F-C33D0720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B70E-9E61-4262-84C0-CD0548E4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8FD4-FBF0-4AD9-A89A-9AF37363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480" cy="390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1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0480" cy="390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53504-7734-450E-A74D-125759A24A6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5.jpeg"/><Relationship Id="rId3" Type="http://schemas.openxmlformats.org/officeDocument/2006/relationships/image" Target="../media/image30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06800" y="85680"/>
            <a:ext cx="429732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14360" y="1298520"/>
            <a:ext cx="7845480" cy="2835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81360" y="5502240"/>
            <a:ext cx="557028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2971800" cy="4000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39640" y="1916280"/>
            <a:ext cx="3251160" cy="23619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826920" y="4508640"/>
            <a:ext cx="276372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рабл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 Васко да Г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50920"/>
            <a:ext cx="81374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Calibri"/>
              </a:rPr>
              <a:t>Третий этап исследования Африки — путешествия XV - XVII в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5516640"/>
            <a:ext cx="44654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ско да Гам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ртугальский путешествен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33480"/>
            <a:ext cx="50720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045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6000840" cy="478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516640"/>
            <a:ext cx="8785440" cy="1234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1498 году португальский путешественник Васко да Гама, завершая открытие морского пути в Индию, обогнул Южную Африку,  прошел вдоль восточного побережья материка, впервые из европейцев пересек Индийский Океан и достиг побережья Ин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181160" cy="1166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3640" y="189000"/>
            <a:ext cx="62658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Impact"/>
              </a:rPr>
              <a:t>Маршрут Васко да Г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709 0.03102 C 0.27032 0.03194 0.26302 0.03055 0.25677 0.03426 C 0.25417 0.03588 0.25434 0.04143 0.25209 0.04375 C 0.25139 0.04444 0.2441 0.04676 0.24375 0.04699 C 0.24219 0.05 0.23924 0.05162 0.23785 0.05486 C 0.23403 0.06319 0.23386 0.07523 0.22587 0.0787 C 0.22552 0.08032 0.22552 0.08217 0.22466 0.08356 C 0.22379 0.08495 0.22188 0.08495 0.22118 0.08657 C 0.21806 0.09328 0.21858 0.10046 0.21511 0.10717 C 0.21407 0.11713 0.21372 0.12152 0.20921 0.12939 C 0.20643 0.14398 0.20938 0.13958 0.2033 0.14537 C 0.20087 0.15 0.19966 0.15486 0.1974 0.15972 C 0.19601 0.16643 0.19427 0.17129 0.19132 0.17708 C 0.18907 0.18588 0.19098 0.19004 0.18421 0.19305 C 0.18247 0.19953 0.18282 0.20324 0.1783 0.20717 C 0.17674 0.21319 0.17153 0.21967 0.16754 0.22314 C 0.16719 0.22477 0.16476 0.23819 0.16407 0.23912 C 0.1632 0.24027 0.16164 0.24004 0.16042 0.24051 C 0.15608 0.25787 0.15834 0.24722 0.16042 0.28657 C 0.16146 0.30416 0.16181 0.31435 0.16875 0.32801 C 0.16962 0.33217 0.17032 0.33634 0.17118 0.34051 C 0.17171 0.34328 0.17136 0.34629 0.1724 0.34861 C 0.17344 0.35092 0.17552 0.35162 0.17709 0.35324 C 0.1724 0.37731 0.17622 0.35463 0.17344 0.38819 C 0.17327 0.38981 0.17327 0.39189 0.1724 0.39305 C 0.17153 0.39421 0.16997 0.39421 0.16875 0.39467 C 0.16389 0.40393 0.16441 0.41041 0.16285 0.42314 C 0.16389 0.43912 0.16389 0.44259 0.16875 0.45486 C 0.16927 0.45856 0.1724 0.48125 0.17466 0.48495 C 0.17639 0.48773 0.17934 0.48865 0.18177 0.48981 C 0.18542 0.49467 0.18837 0.49537 0.19254 0.4993 C 0.19341 0.50139 0.19375 0.50393 0.19497 0.50578 C 0.19584 0.50717 0.19775 0.50717 0.19844 0.50879 C 0.20087 0.51389 0.19983 0.51921 0.2033 0.52314 C 0.20573 0.52592 0.20886 0.52708 0.21164 0.52939 C 0.21841 0.54282 0.20886 0.52615 0.21875 0.53588 C 0.22448 0.54143 0.22605 0.54514 0.22952 0.55162 C 0.23212 0.56203 0.22865 0.55208 0.23421 0.5581 C 0.23525 0.55926 0.23542 0.56203 0.23664 0.56273 C 0.24462 0.56759 0.25434 0.56875 0.26285 0.57245 C 0.27171 0.58842 0.28125 0.59074 0.29497 0.59305 C 0.30313 0.59583 0.31164 0.59652 0.31997 0.5993 C 0.32552 0.60301 0.33108 0.6037 0.33664 0.60717 C 0.34427 0.62268 0.3408 0.64352 0.34375 0.66134 C 0.34462 0.66597 0.34358 0.67199 0.34618 0.67546 C 0.35157 0.68264 0.36875 0.68032 0.36875 0.68055 C 0.37622 0.67986 0.38386 0.67939 0.39132 0.6787 C 0.39445 0.67847 0.39844 0.67986 0.40087 0.67708 C 0.40608 0.67083 0.40087 0.65926 0.40921 0.65162 C 0.41198 0.64074 0.40782 0.65347 0.41511 0.64375 C 0.41841 0.63935 0.4158 0.63449 0.42344 0.63102 C 0.42726 0.62407 0.42987 0.61689 0.43542 0.61203 C 0.43993 0.59305 0.43473 0.56365 0.44948 0.55324 C 0.45278 0.54143 0.44809 0.55602 0.45452 0.54537 C 0.45695 0.5412 0.4573 0.52916 0.45799 0.52477 C 0.45938 0.5118 0.46129 0.49953 0.46285 0.48657 C 0.46337 0.48078 0.46424 0.475 0.46511 0.46921 C 0.46546 0.46713 0.46511 0.46435 0.46632 0.46273 C 0.46719 0.46134 0.46858 0.4618 0.46997 0.46134 C 0.47153 0.45277 0.47414 0.44676 0.47709 0.43912 C 0.47709 0.43889 0.47865 0.425 0.47952 0.42314 C 0.48247 0.41713 0.48941 0.41435 0.49375 0.41041 C 0.49462 0.40879 0.49514 0.40717 0.49618 0.40578 C 0.49723 0.40439 0.49879 0.40393 0.49966 0.40254 C 0.50209 0.39838 0.5033 0.38634 0.50452 0.38194 C 0.50556 0.37801 0.50868 0.37592 0.51042 0.37245 C 0.51216 0.36527 0.51059 0.3625 0.51632 0.35972 C 0.51893 0.35254 0.52032 0.35115 0.52587 0.34861 C 0.52674 0.34699 0.52709 0.3449 0.5283 0.34375 C 0.53039 0.34189 0.53334 0.34236 0.53542 0.34051 C 0.54115 0.33588 0.54688 0.33449 0.5533 0.33264 C 0.55921 0.32708 0.56684 0.32291 0.57344 0.31828 C 0.57761 0.31018 0.5816 0.31319 0.58664 0.30879 C 0.5948 0.30162 0.59098 0.3037 0.5974 0.30092 C 0.59862 0.29977 0.59966 0.29838 0.60087 0.29768 C 0.60313 0.29629 0.60799 0.29467 0.60799 0.2949 C 0.61181 0.28703 0.60903 0.29051 0.61754 0.28657 C 0.61875 0.28611 0.62118 0.28495 0.62118 0.28518 C 0.62188 0.28333 0.62223 0.28125 0.62344 0.28032 C 0.6257 0.27847 0.6283 0.27824 0.63073 0.27708 C 0.63768 0.27407 0.63802 0.26967 0.64618 0.26759 C 0.65191 0.26435 0.65677 0.26296 0.66285 0.26134 C 0.66441 0.26088 0.66598 0.26041 0.66754 0.25972 C 0.66927 0.25879 0.6724 0.25648 0.6724 0.25671 E">
                                      <p:cBhvr>
                                        <p:cTn id="191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00160" y="1125360"/>
            <a:ext cx="383220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ДАВИД ЛЕВИНГСТОН (1813-18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72360" y="692280"/>
            <a:ext cx="2070000" cy="273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08000" y="1700280"/>
            <a:ext cx="5759280" cy="4800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Исследовать внутренние районы Африки европейцы начали только в конце 19 века, когда быстро развивающимся странам Европы потребовались земли, где можно было бы добывать дешевое промышленное сырье и выгодно сбывать готовые тов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В середине 19 века несколько путешествий вглубь материка совершил английский исследователь Давид Левингстон.  Он пересек  Южную Африку с запада на восток, исследовал реку Замбези, открыл на ней большой красивый водопад, названный им в честь королевы Англии Вик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Он дал описание верхнего течения реки Конго, озера Нья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12000" y="4962600"/>
            <a:ext cx="3024000" cy="17208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038240" y="333360"/>
            <a:ext cx="528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Georgia"/>
              </a:rPr>
              <a:t>Четвертый этап - соврем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dur="indefinite" fill="hold">
                      <p:stCondLst>
                        <p:cond delay="0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411280" y="285840"/>
            <a:ext cx="45345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Исследование Африки русс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путешественниками и уче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357200"/>
            <a:ext cx="8856720" cy="960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Большой вклад в изучение природы и жизни народов  Африки внесли русские исследователи. Они ставили перед собой цель – изучить далекие, неизведанные страны и собранные научные материалы сделать достоянием всего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4464000" cy="3424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732640" y="3141720"/>
            <a:ext cx="2482560" cy="338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2800440" cy="4105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76720" y="907920"/>
            <a:ext cx="5616360" cy="205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Путешествовал по Центральной и Восточной Африке  в конце 19 века. Собрал интересные сведения о природе и жизни населения этих районов матер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Проводил топографические работы, вел гидрологические  и метеорологические наблюдения. Написал книгу «Путешествия по Африк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500720" y="3643200"/>
            <a:ext cx="2214360" cy="2928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564000" y="189000"/>
            <a:ext cx="5048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 ВАСИЛЬЕВИЧ  ЮНК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4000" y="214200"/>
            <a:ext cx="8569080" cy="10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Значительный вклад  в изучение северо-восточной части материка  внесли Егор Петрович Ковалевский,  Александр Васильевич Елисеев и другие русские исследова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3752640" cy="39463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1297440" y="6086520"/>
            <a:ext cx="2475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Ковалевский Е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508720" y="1700280"/>
            <a:ext cx="2950920" cy="39607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6173640" y="6067440"/>
            <a:ext cx="1834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Елисеев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333360"/>
            <a:ext cx="8424720" cy="227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В 1926-1927 гг. была организована экспедиция в северо-восточную часть материка для изучения культурных растений Африки. Ее возглавил крупнейший ученый Николай Иванович Вави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Было собрано более 6000 образцов культурных растений. Вавилов установил, что Эфиопия является родиной ценных (твердых) сортов пше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143000" y="3222720"/>
            <a:ext cx="2062080" cy="30859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003640" y="3213000"/>
            <a:ext cx="2486160" cy="309564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360360"/>
            <a:ext cx="8424720" cy="653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Закрепление:«Закончить предложение 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Африка посередине пересекается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Нулевой меридиан пересекает Африку с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Африку омывают океан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С севера Африка омывается морем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Крайняя восточная точка Африк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Гвинейский залив расположен на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Дальше всех материков от Африки расположен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Самый большой остров близ берегов Африк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2349360"/>
            <a:ext cx="8569080" cy="25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marL="343080" indent="-339840">
              <a:lnSpc>
                <a:spcPct val="13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1. Параграф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3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2. Самостоятельно проработать материал об открытии и изучении мате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3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3. Знать и уметь показывать объекты, записанные в тет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3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666720" cy="542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708360" y="5013360"/>
            <a:ext cx="1523880" cy="1504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89000"/>
            <a:ext cx="4680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ccff"/>
                </a:solidFill>
                <a:latin typeface="Georgia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1341360"/>
            <a:ext cx="8496000" cy="53175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      </a:t>
            </a: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Изначально словом «афри» жители древнего </a:t>
            </a:r>
            <a:r>
              <a:rPr b="1" lang="ru-RU" sz="2800" spc="-1" strike="noStrike" u="sng">
                <a:solidFill>
                  <a:srgbClr val="984807"/>
                </a:solidFill>
                <a:uFillTx/>
                <a:latin typeface="Georgia"/>
              </a:rPr>
              <a:t>Карфагена</a:t>
            </a: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 называли людей, обитавших недалеко от города. Это название обычно относят к финикийскому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afar</a:t>
            </a: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, что значит «пыль». Когда Карфаген стал Римской провинцией</a:t>
            </a:r>
            <a:r>
              <a:rPr b="0" lang="ru-RU" sz="2800" spc="-1" strike="noStrike">
                <a:solidFill>
                  <a:srgbClr val="984807"/>
                </a:solidFill>
                <a:latin typeface="Georgia"/>
              </a:rPr>
              <a:t>, </a:t>
            </a: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римляне сохранили это слово и добавили суффикс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«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-ca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»</a:t>
            </a: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 , что означало «страна» или «кра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Позднее Африкой стали называть и все известные регионы этого континента, а потом и сам контин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189000"/>
            <a:ext cx="626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33"/>
                </a:solidFill>
                <a:latin typeface="Georgia"/>
              </a:rPr>
              <a:t>Происхождение наз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1155600"/>
            <a:ext cx="8928000" cy="544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259080" y="5526000"/>
            <a:ext cx="308160" cy="61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84360" y="69840"/>
            <a:ext cx="418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изическая карта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2852640"/>
            <a:ext cx="93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Аф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02 -0.03308 L 0.14687 -0.32686 E">
                                      <p:cBhvr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5840" y="1454040"/>
            <a:ext cx="8643960" cy="5214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60000" y="179280"/>
            <a:ext cx="69015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1ec"/>
                </a:solidFill>
                <a:latin typeface="Calibri"/>
              </a:rPr>
              <a:t>Африка на карте ми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900000"/>
            <a:ext cx="4319640" cy="50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    </a:t>
            </a: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А́фрика-континент  , расположенный к югу от Средиземного и Красного  морей,к востоку от Атлантического океана  и к западу от Индийского океана . Это второй по величине континент после  Евразии. Африкой называется также часть света , состоящая из материка Африка и прилегающих островов. Площадь Африки составляет 30,3 млн. км², покрывая, таким образом, 6 % общей площади поверхности Земли и 20,4 % поверхности суш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0"/>
            <a:ext cx="3571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Impact"/>
              </a:rPr>
              <a:t>Физическая карта Аф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8680" y="1268280"/>
            <a:ext cx="464508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500040"/>
            <a:ext cx="5235480" cy="6143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64000" y="1268280"/>
            <a:ext cx="3600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Verdana"/>
              </a:rPr>
              <a:t>1. Африка почти посере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Verdana"/>
              </a:rPr>
              <a:t>пересекается эква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857240" y="3357720"/>
            <a:ext cx="3000600" cy="161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64000" y="2708280"/>
            <a:ext cx="360072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Georgia"/>
              </a:rPr>
              <a:t>2. Большая часть лежит между тропиками, поэтому Африка самый жаркий матер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2920" y="1857240"/>
            <a:ext cx="4786200" cy="5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2920" y="4929120"/>
            <a:ext cx="4786200" cy="54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92720" y="4653000"/>
            <a:ext cx="36720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Georgia"/>
              </a:rPr>
              <a:t>3. Крайняя северная и крайняя южная точки почти одинаково удалены от экв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071800" y="92880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2643120" y="5500800"/>
            <a:ext cx="285840" cy="28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15920"/>
            <a:ext cx="8713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Impact"/>
              </a:rPr>
              <a:t>ОСОБЕННОСТИ ГЕОГРАФИЧЕСКОГО ПО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97280" y="333360"/>
            <a:ext cx="5141880" cy="640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491080" y="62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35440" y="2060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880416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356520" y="5661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20940000">
            <a:off x="3848040" y="3216240"/>
            <a:ext cx="2232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ЙНИЕ   ТОЧК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473040"/>
            <a:ext cx="3384360" cy="747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верная – мыс      Рас-Энге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265400"/>
            <a:ext cx="3384360" cy="685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еографические координ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7гр.  с.ш. и 10 гр. в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057400"/>
            <a:ext cx="3384360" cy="442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. Южная – мыс Игольный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849400"/>
            <a:ext cx="3384360" cy="685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cap="rnd" w="9360">
            <a:solidFill>
              <a:srgbClr val="ff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Географические координ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5 гр.  ю.ш. и 20 гр. в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570120"/>
            <a:ext cx="3384360" cy="4424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3. Западная – мыс Альм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4359240"/>
            <a:ext cx="3384360" cy="685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cap="rnd" w="9360">
            <a:solidFill>
              <a:srgbClr val="333399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Calibri"/>
              </a:rPr>
              <a:t>Географические координ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15 гр. с.ш и 17 гр. з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156280"/>
            <a:ext cx="3384360" cy="747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4. Восточная – мыс    Рас-Хаф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946840"/>
            <a:ext cx="3384360" cy="685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cap="rnd" w="9360">
            <a:solidFill>
              <a:srgbClr val="8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Географические координ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10 гр. с.ш и 52 гр. в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7640" y="115920"/>
            <a:ext cx="5166000" cy="662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08000" y="115920"/>
            <a:ext cx="388764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Определить размеры мате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760" y="857160"/>
            <a:ext cx="36115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1. Расстояние с севера на ю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в градусах и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500880" y="571680"/>
            <a:ext cx="380880" cy="438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1320" y="1785960"/>
            <a:ext cx="23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37 + 35 = 72 (граду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72 х 111 =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Calibri"/>
              </a:rPr>
              <a:t>7992(к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2920" y="2928960"/>
            <a:ext cx="34923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2. Расстояние с запада на восток по 10 параллели в градусах и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43200" y="2286000"/>
            <a:ext cx="438120" cy="380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00040" y="4286160"/>
            <a:ext cx="30002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17 + 52 = 69 (граду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69 х 109 =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Calibri"/>
              </a:rPr>
              <a:t>7521 (к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1680" y="5429160"/>
            <a:ext cx="25639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3. Сравнить расстоя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сделать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0.03817 L -0.01128 0.73074 E">
                                      <p:cBhvr>
                                        <p:cTn id="15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39 0.00231 L 0.55017 0.00231 E">
                                      <p:cBhvr>
                                        <p:cTn id="17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6789600" cy="197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2-11-13T17:06:48Z</dcterms:modified>
  <cp:revision>8</cp:revision>
  <dc:subject/>
  <dc:title/>
</cp:coreProperties>
</file>