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504-7CE6-4512-9348-E2F56A8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CC4-A6A6-485F-8EB9-CB786F8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ABA-C63D-4A87-BE41-4FB41B67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BFB-5CC2-4E71-B96A-DAE7AABE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CB50-DAC3-43C7-A1F5-5F049BC6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8CD0-663E-4F06-82CC-DEAD2A90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0448-4AFD-4F2D-AE72-81BF42F3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EAB3-2610-4BB7-B4A3-DC08F26B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7E8C-2712-4201-8299-9FBE078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FED-440A-4031-AF3F-C3CCE2BC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1DC4-BB4E-4F08-BCA3-E5DCDE3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E01-C817-4E96-A9B7-9B2533B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2993-0FDC-4C1A-8464-A2E974C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D6E1-825F-4186-A0D0-F5728D0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ACB6-6CC7-4EA6-9447-45580F96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1163-BBE1-4F4D-B16C-815BE70B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6E5D-6B34-454B-ACC6-490BFA91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FD3D-6269-44DC-A49D-B9600109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1B6B-5DE7-4293-83D4-2A945C1D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3B4E-A249-4E91-8890-B3997BBD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014F-95F2-4380-8A47-9DD7028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752D-8C03-44F2-882E-84510BD0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48F-B5CB-4470-8447-175C492E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832C-D51F-4E8C-AAEC-F77C668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50A8-5EE3-4566-9151-939BAC2B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3CE9-1CF4-4365-BB68-7ADCAEC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2C11-F4B5-45A3-8A2C-359AE2B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E275-BC32-4CF3-B5FD-162B074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2E99-1FCB-49E6-9721-5C086017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B409-9C76-44A6-B372-8BA3A3EF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3A5D-82BA-412A-84DD-0CC8EDC8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830B-A476-48DC-AC37-A3CAF44D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8AC82-540F-4CF6-9AA8-6ED69F8D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7AD-2C7B-4F86-84B5-49B5418D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0D54-9DAD-4892-BA7B-2D7B0A3B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4369-DBC7-4365-8DC1-44AC455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A6CE-3BE0-409A-9C96-DB3AEA4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373E-5822-4E17-91C8-839DB04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8D0B-C604-40E0-9B59-37FE9F60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9811-CA01-4EF3-AF56-7D31C95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89DB-14A2-49C6-B6C6-5AFBF13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AADC-DA37-4D6A-ADF1-481DC20B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5A1F4-7A97-488C-90AC-738C0B49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EA2-0766-41CC-85E2-7609CB2D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1C5-D497-44B6-A768-4010E6C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99B-0B19-46AA-9940-EC1F79C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1B8-A59A-4AB4-A797-8BFFD15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BFE-BCBB-4399-A1FD-C6CA7E8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A6B8-099D-49C2-935F-88B922B8F7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1B2E-2887-4C25-B3D6-20D449B991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0151-5A86-4F0D-93F7-40FCAB0695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D4E4-08EC-4EA6-907C-A1280A638A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86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… Быть может, каждый атом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ленная, где сто плане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м все, что здесь, в объеме сжатом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также то, чего здесь нет".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алерий Брюсов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7"/>
          <p:cNvSpPr/>
          <p:nvPr/>
        </p:nvSpPr>
        <p:spPr>
          <a:xfrm>
            <a:off x="755640" y="1557360"/>
            <a:ext cx="5113440" cy="1511280"/>
          </a:xfrm>
          <a:custGeom>
            <a:avLst/>
            <a:gdLst>
              <a:gd name="textAreaLeft" fmla="*/ 177840 w 5113440"/>
              <a:gd name="textAreaRight" fmla="*/ 4935600 w 511344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730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9472" y="21600"/>
                </a:lnTo>
                <a:arcTo wR="3600" hR="3600" stAng="10800000" swAng="5400000"/>
                <a:lnTo>
                  <a:pt x="73072" y="3600"/>
                </a:lnTo>
                <a:arcTo wR="3600" hR="3600" stAng="5400000" swAng="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Arial"/>
              </a:rPr>
              <a:t>Плотно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это физическая величина, равная отношению массы вещества к его объему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547640" y="1700280"/>
            <a:ext cx="244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Плотнос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067280" y="1557360"/>
            <a:ext cx="13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924360" y="234936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бъ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3995640" y="2133720"/>
            <a:ext cx="1440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435600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41128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2124000" y="4365720"/>
            <a:ext cx="6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51640" y="1268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971640" y="4076640"/>
            <a:ext cx="151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0066"/>
                </a:solidFill>
                <a:latin typeface="Tahoma"/>
              </a:rPr>
              <a:t>ρ</a:t>
            </a:r>
            <a:r>
              <a:rPr b="1" lang="el-GR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2124000" y="4437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4356000" y="3429000"/>
            <a:ext cx="4319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ква греческого алфавита «ро»)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2043720" y="3645000"/>
            <a:ext cx="77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больше масса тела, тем больше его плот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больше объем тела, тем меньше его плот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ig82981245324893"/>
          <p:cNvPicPr/>
          <p:nvPr/>
        </p:nvPicPr>
        <p:blipFill>
          <a:blip r:embed="rId1"/>
          <a:stretch/>
        </p:blipFill>
        <p:spPr>
          <a:xfrm>
            <a:off x="1116000" y="4581360"/>
            <a:ext cx="2627280" cy="179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vata1"/>
          <p:cNvPicPr/>
          <p:nvPr/>
        </p:nvPicPr>
        <p:blipFill>
          <a:blip r:embed="rId2"/>
          <a:srcRect l="36015" t="0" r="0" b="0"/>
          <a:stretch/>
        </p:blipFill>
        <p:spPr>
          <a:xfrm>
            <a:off x="6084720" y="4221000"/>
            <a:ext cx="18702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Единица измерения плотности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в системе С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42920" y="1600200"/>
            <a:ext cx="259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       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г/м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34000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619280" y="321300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1692360" y="378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124000" y="3860640"/>
            <a:ext cx="3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627280" y="3141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0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771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771640" y="39337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00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93128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567108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999040" y="350028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,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7133400" y="350028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/см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248436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24000" y="350028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г/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1178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1333080" y="357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2752560"/>
            <a:ext cx="8686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золота равна 19300 кг/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еревести плотность в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дерева равна 0,4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едставить эту плотность в кг/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блицы составлены отдельно для твердых тел, жидкостей и газов? От чего это зависи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j0336396"/>
          <p:cNvPicPr/>
          <p:nvPr/>
        </p:nvPicPr>
        <p:blipFill>
          <a:blip r:embed="rId1"/>
          <a:stretch/>
        </p:blipFill>
        <p:spPr>
          <a:xfrm>
            <a:off x="324000" y="404640"/>
            <a:ext cx="1511280" cy="1511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217160" y="411120"/>
            <a:ext cx="72090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таблицы плотностей, ответьте на вопросы: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инакова ли  плотность одного и того же вещества в твердом, жидком, и газообразном состояниях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0200301"/>
          <p:cNvPicPr/>
          <p:nvPr/>
        </p:nvPicPr>
        <p:blipFill>
          <a:blip r:embed="rId1"/>
          <a:stretch/>
        </p:blipFill>
        <p:spPr>
          <a:xfrm>
            <a:off x="971640" y="2108160"/>
            <a:ext cx="7704000" cy="3148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166760" y="5388120"/>
            <a:ext cx="743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лотность одного и того же вещества в твердом, жидком, и газообразном состояниях различ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692360" y="1989000"/>
            <a:ext cx="5298840" cy="336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обираетесь в турпоход. И вы не знаете сколько вещей с собой взять. Но знаете что параметры чемодана таковы 50 см*40 см*20 см. Уложить вы должны вещи с плотностью 9 кг/м3. Какой массы вещей можно погрузить в чемода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обрат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Закрепим!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4000" y="1341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Какая жидкость налита в сосуд объёмом 62,5 л, если ее масса равна 50 кг? (нефть, керосин, спир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Масса пустой бутылки равна 520 г. Определите объем стекла, которое пошло на изготовление этой бутылки. (2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Чугунная болванка имеет объем 1,8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акой объем будет иметь алюминиевое тело такой же массы? (4,67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териал урока мн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узнал для себ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е настроен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лан работы с новой величино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для  рас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пр. 7 (1,4). Упр. 8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пр. 7 (3,5). Упр. 8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пр. 7(5). Упр. 8(3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116000" y="549360"/>
            <a:ext cx="61261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question-mark1"/>
          <p:cNvPicPr/>
          <p:nvPr/>
        </p:nvPicPr>
        <p:blipFill>
          <a:blip r:embed="rId1"/>
          <a:stretch/>
        </p:blipFill>
        <p:spPr>
          <a:xfrm>
            <a:off x="2771640" y="1341360"/>
            <a:ext cx="35989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олах у вас лежат бруски. С помощью весов определите, какой из брусков легче всего, какой тяже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Весы школьные двучашечные с разновесами"/>
          <p:cNvPicPr/>
          <p:nvPr/>
        </p:nvPicPr>
        <p:blipFill>
          <a:blip r:embed="rId1"/>
          <a:stretch/>
        </p:blipFill>
        <p:spPr>
          <a:xfrm>
            <a:off x="324000" y="4869000"/>
            <a:ext cx="2016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 задани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легч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big82981245324893"/>
          <p:cNvPicPr/>
          <p:nvPr/>
        </p:nvPicPr>
        <p:blipFill>
          <a:blip r:embed="rId1"/>
          <a:stretch/>
        </p:blipFill>
        <p:spPr>
          <a:xfrm>
            <a:off x="0" y="2133720"/>
            <a:ext cx="5327640" cy="3632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vata1"/>
          <p:cNvPicPr/>
          <p:nvPr/>
        </p:nvPicPr>
        <p:blipFill>
          <a:blip r:embed="rId2"/>
          <a:srcRect l="36015" t="0" r="0" b="0"/>
          <a:stretch/>
        </p:blipFill>
        <p:spPr>
          <a:xfrm>
            <a:off x="5292720" y="2133720"/>
            <a:ext cx="300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лотность вещества. Расчет массы и объема тела по его пло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 задани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легч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big82981245324893"/>
          <p:cNvPicPr/>
          <p:nvPr/>
        </p:nvPicPr>
        <p:blipFill>
          <a:blip r:embed="rId1"/>
          <a:stretch/>
        </p:blipFill>
        <p:spPr>
          <a:xfrm>
            <a:off x="0" y="2133720"/>
            <a:ext cx="5327640" cy="3632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vata1"/>
          <p:cNvPicPr/>
          <p:nvPr/>
        </p:nvPicPr>
        <p:blipFill>
          <a:blip r:embed="rId2"/>
          <a:srcRect l="36015" t="0" r="0" b="0"/>
          <a:stretch/>
        </p:blipFill>
        <p:spPr>
          <a:xfrm>
            <a:off x="5292720" y="2133720"/>
            <a:ext cx="300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труктура молекул ваты и кирпич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molect"/>
          <p:cNvPicPr/>
          <p:nvPr/>
        </p:nvPicPr>
        <p:blipFill>
          <a:blip r:embed="rId1"/>
          <a:stretch/>
        </p:blipFill>
        <p:spPr>
          <a:xfrm>
            <a:off x="1258920" y="1989000"/>
            <a:ext cx="3743280" cy="374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SchemIce"/>
          <p:cNvPicPr/>
          <p:nvPr/>
        </p:nvPicPr>
        <p:blipFill>
          <a:blip r:embed="rId2"/>
          <a:stretch/>
        </p:blipFill>
        <p:spPr>
          <a:xfrm>
            <a:off x="5148360" y="2781360"/>
            <a:ext cx="32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48000" y="333360"/>
            <a:ext cx="5338800" cy="57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лотность показывает, чему равна масса вещества в единице объе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900000" y="1628640"/>
            <a:ext cx="1582920" cy="266544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=1м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= 780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4500720" y="4653000"/>
            <a:ext cx="914400" cy="13683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ahoma"/>
              </a:rPr>
              <a:t>V</a:t>
            </a:r>
            <a:r>
              <a:rPr b="1" lang="ru-RU" sz="1400" spc="-1" strike="noStrike">
                <a:solidFill>
                  <a:srgbClr val="ff0066"/>
                </a:solidFill>
                <a:latin typeface="Tahoma"/>
              </a:rPr>
              <a:t>=1см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1" lang="ru-RU" sz="1400" spc="-1" strike="noStrike">
                <a:solidFill>
                  <a:srgbClr val="ff0066"/>
                </a:solidFill>
                <a:latin typeface="Tahoma"/>
              </a:rPr>
              <a:t>= 7,8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35:36Z</dcterms:created>
  <dc:creator>Виталик</dc:creator>
  <dc:description/>
  <dc:language>en-US</dc:language>
  <cp:lastModifiedBy>Пользователь</cp:lastModifiedBy>
  <dcterms:modified xsi:type="dcterms:W3CDTF">2012-10-31T09:46:14Z</dcterms:modified>
  <cp:revision>18</cp:revision>
  <dc:subject/>
  <dc:title>Плотность вещества</dc:title>
</cp:coreProperties>
</file>