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B0E-608A-45E2-8C22-6142FD13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EA7-7084-409C-BAAA-AA0CB32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194-528B-4EB6-AEF8-DD1AB7AD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421-5605-4AFA-BFDD-2E4FD05E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4FF2-31E8-475A-B867-8F782193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79FB-CD62-495A-B7EE-B4186621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872E-6E97-4FC5-B4A3-34A01F8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9C40-3F11-4FBA-BAD7-1B310AD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2946-8CE0-4EED-BFA9-D1F49B33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8B5C-8220-4AE1-BE35-F9CE7B07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2654-B26B-4F9D-9285-00A8E09F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17A-B7C3-49CD-B608-A4492006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EAB-8BA9-4CB6-A277-1DEBE9AC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1CDC-3D5E-42B1-B2EB-F3F036A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DAB1-6689-4AF5-855E-E64281F4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041A-C57D-4B52-8B26-2428C005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56A6-90B7-4D7B-841A-B21E9510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D04D6-F903-4367-800B-A6266705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DB8A-921A-4EE9-B8B4-DF65A659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8D4D-74E4-4BCF-BD9A-12DB96A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91DA-6041-4AB7-8F29-AA272611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E29D-2CCF-4542-9192-8981337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30F-3D6E-4C76-878D-51B20E9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790E-42CE-46A0-88F4-70ADBB32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0B7F-5967-465D-9A22-C7DC221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33A5-D415-4C40-AD51-A8CAC5E9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45C3-4455-4E65-B504-5BCD141B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7916-488A-4222-B7C6-7001A7F8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0278-8D05-4008-9448-E89B8405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DEDF-10E6-4FFF-82F0-D6B01915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59A99-D7D9-4B65-8899-21EC6D6C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D2722-911A-464A-8599-1E197465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391C-B68F-4465-9A40-93E58F53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CBA-A0AA-46BA-A104-83260BD0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F85E-0F2D-4AEC-B152-45E1BC9F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33D5-03BF-4070-9191-38E9E3AA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C86D-09BF-4CCB-9667-D7B1BC25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3690-2020-4D03-97D8-34C5511E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3C97-5821-4086-B039-93F3BEC5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2AB33-2D71-4AF4-AC9B-1E2778A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6099-F739-4992-85EE-5888AE35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AD69-E8D4-46E3-AB7E-8EF7CE18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4C2F-6F17-4FFD-B239-CC62F7BE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70C-D06F-4B0E-8270-7184A07D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44E-7E62-433C-874B-C22A740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780-4F0B-443E-9671-1F7EC591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85A-3A8D-4012-ADD7-F21C5C3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56B-CE95-4494-91DC-2FE9FE9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E91-9FFE-4F01-A9DE-4D927F2E3A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AB47-116B-4E99-84E2-855E84F719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F9C-D293-4CE5-9905-24525C16D4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281-46C4-4467-BFBD-601A32B424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86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… Быть может, каждый атом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ленная, где сто плане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м все, что здесь, в объеме сжатом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также то, чего здесь нет".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алерий Брюсов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7"/>
          <p:cNvSpPr/>
          <p:nvPr/>
        </p:nvSpPr>
        <p:spPr>
          <a:xfrm>
            <a:off x="755640" y="1557360"/>
            <a:ext cx="5113440" cy="1511280"/>
          </a:xfrm>
          <a:custGeom>
            <a:avLst/>
            <a:gdLst>
              <a:gd name="textAreaLeft" fmla="*/ 177840 w 5113440"/>
              <a:gd name="textAreaRight" fmla="*/ 4935600 w 511344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730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9472" y="21600"/>
                </a:lnTo>
                <a:arcTo wR="3600" hR="3600" stAng="10800000" swAng="5400000"/>
                <a:lnTo>
                  <a:pt x="73072" y="3600"/>
                </a:lnTo>
                <a:arcTo wR="3600" hR="3600" stAng="5400000" swAng="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Arial"/>
              </a:rPr>
              <a:t>Плотно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это физическая величина, равная отношению массы вещества к его объему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547640" y="1700280"/>
            <a:ext cx="244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Плотнос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067280" y="1557360"/>
            <a:ext cx="13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924360" y="234936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бъ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3995640" y="2133720"/>
            <a:ext cx="1440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435600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2411280" y="486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2124000" y="4365720"/>
            <a:ext cx="6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51640" y="1268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971640" y="4076640"/>
            <a:ext cx="1511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0066"/>
                </a:solidFill>
                <a:latin typeface="Tahoma"/>
              </a:rPr>
              <a:t>ρ</a:t>
            </a:r>
            <a:r>
              <a:rPr b="1" lang="el-GR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>
            <a:off x="2124000" y="4437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4356000" y="3429000"/>
            <a:ext cx="4319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ква греческого алфавита «ро»)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2043720" y="3645000"/>
            <a:ext cx="77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больше масса тела, тем больше его плот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больше объем тела, тем меньше его плот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big82981245324893"/>
          <p:cNvPicPr/>
          <p:nvPr/>
        </p:nvPicPr>
        <p:blipFill>
          <a:blip r:embed="rId1"/>
          <a:stretch/>
        </p:blipFill>
        <p:spPr>
          <a:xfrm>
            <a:off x="1116000" y="4581360"/>
            <a:ext cx="2627280" cy="179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vata1"/>
          <p:cNvPicPr/>
          <p:nvPr/>
        </p:nvPicPr>
        <p:blipFill>
          <a:blip r:embed="rId2"/>
          <a:srcRect l="36015" t="0" r="0" b="0"/>
          <a:stretch/>
        </p:blipFill>
        <p:spPr>
          <a:xfrm>
            <a:off x="6084720" y="4221000"/>
            <a:ext cx="18702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Единица измерения плотности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в системе СИ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42920" y="1600200"/>
            <a:ext cx="259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                   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г/м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34000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619280" y="3213000"/>
            <a:ext cx="38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1692360" y="378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124000" y="3860640"/>
            <a:ext cx="3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627280" y="3141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0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771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2771640" y="39337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00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93128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567108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999040" y="350028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0,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7133400" y="350028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/см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248436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24000" y="350028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кг/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1178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1333080" y="357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2752560"/>
            <a:ext cx="8686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золота равна 19300 кг/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еревести плотность в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дерева равна 0,4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едставить эту плотность в кг/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блицы составлены отдельно для твердых тел, жидкостей и газов? От чего это зависи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j0336396"/>
          <p:cNvPicPr/>
          <p:nvPr/>
        </p:nvPicPr>
        <p:blipFill>
          <a:blip r:embed="rId1"/>
          <a:stretch/>
        </p:blipFill>
        <p:spPr>
          <a:xfrm>
            <a:off x="324000" y="404640"/>
            <a:ext cx="1511280" cy="1511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217160" y="411120"/>
            <a:ext cx="72090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таблицы плотностей, ответьте на вопросы: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инакова ли  плотность одного и того же вещества в твердом, жидком, и газообразном состояниях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0200301"/>
          <p:cNvPicPr/>
          <p:nvPr/>
        </p:nvPicPr>
        <p:blipFill>
          <a:blip r:embed="rId1"/>
          <a:stretch/>
        </p:blipFill>
        <p:spPr>
          <a:xfrm>
            <a:off x="971640" y="2108160"/>
            <a:ext cx="7704000" cy="3148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1166760" y="5388120"/>
            <a:ext cx="743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лотность одного и того же вещества в твердом, жидком, и газообразном состояниях различ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692360" y="1989000"/>
            <a:ext cx="5298840" cy="336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собираетесь в турпоход. И вы не знаете сколько вещей с собой взять. Но знаете что параметры чемодана таковы 50 см*40 см*20 см. Уложить вы должны вещи с плотностью 9 кг/м3. Какой массы вещей можно погрузить в чемода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обратную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Закрепим!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4000" y="1341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Какая жидкость налита в сосуд объёмом 62,5 л, если ее масса равна 50 кг? (нефть, керосин, спир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Масса пустой бутылки равна 520 г. Определите объем стекла, которое пошло на изготовление этой бутылки. (2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Чугунная болванка имеет объем 1,8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акой объем будет иметь алюминиевое тело такой же массы? (4,67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атериал урока мн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Я узнал для себ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е настроени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лан работы с новой величино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для  рас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1,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пр. 7 (1,4). Упр. 8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пр. 7 (3,5). Упр. 8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пр. 7(5). Упр. 8(3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116000" y="549360"/>
            <a:ext cx="61261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question-mark1"/>
          <p:cNvPicPr/>
          <p:nvPr/>
        </p:nvPicPr>
        <p:blipFill>
          <a:blip r:embed="rId1"/>
          <a:stretch/>
        </p:blipFill>
        <p:spPr>
          <a:xfrm>
            <a:off x="2771640" y="1341360"/>
            <a:ext cx="35989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олах у вас лежат бруски. С помощью весов определите, какой из брусков легче всего, какой тяже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Весы школьные двучашечные с разновесами"/>
          <p:cNvPicPr/>
          <p:nvPr/>
        </p:nvPicPr>
        <p:blipFill>
          <a:blip r:embed="rId1"/>
          <a:stretch/>
        </p:blipFill>
        <p:spPr>
          <a:xfrm>
            <a:off x="324000" y="4869000"/>
            <a:ext cx="2016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 задание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легч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big82981245324893"/>
          <p:cNvPicPr/>
          <p:nvPr/>
        </p:nvPicPr>
        <p:blipFill>
          <a:blip r:embed="rId1"/>
          <a:stretch/>
        </p:blipFill>
        <p:spPr>
          <a:xfrm>
            <a:off x="0" y="2133720"/>
            <a:ext cx="5327640" cy="3632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vata1"/>
          <p:cNvPicPr/>
          <p:nvPr/>
        </p:nvPicPr>
        <p:blipFill>
          <a:blip r:embed="rId2"/>
          <a:srcRect l="36015" t="0" r="0" b="0"/>
          <a:stretch/>
        </p:blipFill>
        <p:spPr>
          <a:xfrm>
            <a:off x="5292720" y="2133720"/>
            <a:ext cx="300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лотность вещества. Расчет массы и объема тела по его пло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 задание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легч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big82981245324893"/>
          <p:cNvPicPr/>
          <p:nvPr/>
        </p:nvPicPr>
        <p:blipFill>
          <a:blip r:embed="rId1"/>
          <a:stretch/>
        </p:blipFill>
        <p:spPr>
          <a:xfrm>
            <a:off x="0" y="2133720"/>
            <a:ext cx="5327640" cy="3632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vata1"/>
          <p:cNvPicPr/>
          <p:nvPr/>
        </p:nvPicPr>
        <p:blipFill>
          <a:blip r:embed="rId2"/>
          <a:srcRect l="36015" t="0" r="0" b="0"/>
          <a:stretch/>
        </p:blipFill>
        <p:spPr>
          <a:xfrm>
            <a:off x="5292720" y="2133720"/>
            <a:ext cx="300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труктура молекул ваты и кирпич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molect"/>
          <p:cNvPicPr/>
          <p:nvPr/>
        </p:nvPicPr>
        <p:blipFill>
          <a:blip r:embed="rId1"/>
          <a:stretch/>
        </p:blipFill>
        <p:spPr>
          <a:xfrm>
            <a:off x="1258920" y="1989000"/>
            <a:ext cx="3743280" cy="374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SchemIce"/>
          <p:cNvPicPr/>
          <p:nvPr/>
        </p:nvPicPr>
        <p:blipFill>
          <a:blip r:embed="rId2"/>
          <a:stretch/>
        </p:blipFill>
        <p:spPr>
          <a:xfrm>
            <a:off x="5148360" y="2781360"/>
            <a:ext cx="324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48000" y="333360"/>
            <a:ext cx="5338800" cy="57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лотность показывает, чему равна масса вещества в единице объе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900000" y="1628640"/>
            <a:ext cx="1582920" cy="266544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=1м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m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= 7800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4500720" y="4653000"/>
            <a:ext cx="914400" cy="13683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ahoma"/>
              </a:rPr>
              <a:t>V</a:t>
            </a:r>
            <a:r>
              <a:rPr b="1" lang="ru-RU" sz="1400" spc="-1" strike="noStrike">
                <a:solidFill>
                  <a:srgbClr val="ff0066"/>
                </a:solidFill>
                <a:latin typeface="Tahoma"/>
              </a:rPr>
              <a:t>=1см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ahoma"/>
              </a:rPr>
              <a:t>m</a:t>
            </a:r>
            <a:r>
              <a:rPr b="1" lang="ru-RU" sz="1400" spc="-1" strike="noStrike">
                <a:solidFill>
                  <a:srgbClr val="ff0066"/>
                </a:solidFill>
                <a:latin typeface="Tahoma"/>
              </a:rPr>
              <a:t>= 7,8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9:35:36Z</dcterms:created>
  <dc:creator>Виталик</dc:creator>
  <dc:description/>
  <dc:language>en-US</dc:language>
  <cp:lastModifiedBy>Пользователь</cp:lastModifiedBy>
  <dcterms:modified xsi:type="dcterms:W3CDTF">2012-10-31T09:46:14Z</dcterms:modified>
  <cp:revision>18</cp:revision>
  <dc:subject/>
  <dc:title>Плотность вещества</dc:title>
</cp:coreProperties>
</file>