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ылева Оксана Викторовна, учитель обществознания МКОУ СОШ с. Сластуха Екатериновского района Саратов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0D4D-88AD-4AED-8A51-B2E1AE0870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ылева Оксана Викторовна, учитель обществознания МКОУ СОШ с. Сластуха Екатериновского района Саратов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D94A-A97D-45ED-8EDF-7473AC5767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B03-C3D1-4A45-8D6A-86D94F4A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006-3E4E-47BE-82C1-F583C119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196-0160-4B48-BE72-7ABA70C7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AC5-664B-40C2-81A2-43A1A9BF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FAF0-82D2-4919-847D-F3CA9A9A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4748-139C-4D1E-B534-3003695D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C088-B65B-4DCE-AF4F-46F8E107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E8CC-49AC-4B57-90D0-08BA3F74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CAC8-8BC4-475A-97CF-2A0949EF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52BA-7FB5-47C4-9165-51E9AF40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181E-A1F3-4570-8543-77D54C52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C8E4-93AC-4EDF-9D80-ECCF1CC5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7969-951C-4483-93AB-F615AC1A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368A-E423-464E-A888-7AF33371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2D81-0944-4F34-8255-EC9C0E44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77F9-D2C4-47EF-8B94-592A3D53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893C-F55E-4168-AEA5-5CDB8EDB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5C8-9AF6-49DD-B3DE-B371F905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646-1111-4BFF-A451-5B7D762D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CA9-4A8C-4E4F-A705-5A6AA9E2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B14-9EEF-4240-95BB-C1EE7114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0FA-81AB-46C8-B3BC-9B306C17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E41-DF7F-49A7-AADA-92A8DE79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736-0BC5-4B50-B034-07E09266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3AB4-9470-4B49-BD38-886C7C5CB27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84E9-7FB7-468E-9FEC-88977B90DA5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10_RUB_(2009).png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://ru.wikipedia.org/wiki/&#1060;&#1072;&#1081;&#1083;:Banknote_1000_rubles_2004_front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ru.wikipedia.org/wiki/&#1060;&#1072;&#1081;&#1083;:Banknote_1000_rubles_2004_back.jpg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5100-141A-43F5-BCAE-182410B68F7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213372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33"/>
                </a:solidFill>
                <a:latin typeface="Garamond"/>
              </a:rPr>
              <a:t>Деньги, их функции.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DDC5-B3EA-4324-94F3-E65DDE0361F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619280" y="4005360"/>
            <a:ext cx="1676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Купю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692360" y="2997360"/>
            <a:ext cx="167616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Мон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940360" y="4149720"/>
            <a:ext cx="2376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нные карт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867280" y="2997360"/>
            <a:ext cx="244980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바탕"/>
                <a:ea typeface="Times New Roman"/>
              </a:rPr>
              <a:t>Банковский 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5867280" y="1557360"/>
            <a:ext cx="20178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ff"/>
                </a:solidFill>
                <a:latin typeface="Times New Roman"/>
                <a:ea typeface="바탕"/>
              </a:rPr>
              <a:t>Безна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H="1">
            <a:off x="2771280" y="620640"/>
            <a:ext cx="110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 flipH="1">
            <a:off x="5866920" y="620640"/>
            <a:ext cx="10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H="1">
            <a:off x="5435640" y="1628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5435640" y="1628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 flipH="1">
            <a:off x="3419640" y="1700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 flipV="1">
            <a:off x="3780000" y="169992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5435640" y="3141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5508720" y="4292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6"/>
          <p:cNvSpPr/>
          <p:nvPr/>
        </p:nvSpPr>
        <p:spPr>
          <a:xfrm flipH="1">
            <a:off x="3348000" y="3213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7"/>
          <p:cNvSpPr/>
          <p:nvPr/>
        </p:nvSpPr>
        <p:spPr>
          <a:xfrm>
            <a:off x="6877080" y="62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 flipH="1">
            <a:off x="3348000" y="4076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2771640" y="62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0" y="222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0" y="222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1763640" y="1557360"/>
            <a:ext cx="16765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ff"/>
                </a:solidFill>
                <a:latin typeface="Times New Roman"/>
                <a:ea typeface="바탕"/>
              </a:rPr>
              <a:t>На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3059280" y="40464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ды де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F16A-629D-4B77-83D7-312057C74DA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нквей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052280"/>
            <a:ext cx="76932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Одно слово</a:t>
            </a:r>
            <a:r>
              <a:rPr b="1" lang="ru-RU" sz="2100" spc="-1" strike="noStrike">
                <a:solidFill>
                  <a:srgbClr val="ff7c80"/>
                </a:solidFill>
                <a:latin typeface="Arial"/>
              </a:rPr>
              <a:t>.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уществительное или местоимение, обозначающее предмет, о котором идет реч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Два слова.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илагательные или причастия, описывающие признаки и свойства выбранного предме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Три слова.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Глаголы, описывающие совершаемые предметом или объектом действ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Фраза из четырех слов.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ыражает личное отношение автора к предмету или объект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Одно слово.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Характеризует суть предмета или объек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108000" y="115920"/>
            <a:ext cx="1584360" cy="1368360"/>
            <a:chOff x="108000" y="115920"/>
            <a:chExt cx="1584360" cy="1368360"/>
          </a:xfrm>
        </p:grpSpPr>
        <p:sp>
          <p:nvSpPr>
            <p:cNvPr id="202" name="Puzzle3"/>
            <p:cNvSpPr/>
            <p:nvPr/>
          </p:nvSpPr>
          <p:spPr>
            <a:xfrm>
              <a:off x="879480" y="115920"/>
              <a:ext cx="622800" cy="7272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Puzzle2"/>
            <p:cNvSpPr/>
            <p:nvPr/>
          </p:nvSpPr>
          <p:spPr>
            <a:xfrm>
              <a:off x="698400" y="645480"/>
              <a:ext cx="993960" cy="6624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Puzzle4"/>
            <p:cNvSpPr/>
            <p:nvPr/>
          </p:nvSpPr>
          <p:spPr>
            <a:xfrm>
              <a:off x="313560" y="637560"/>
              <a:ext cx="599040" cy="8467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uzzle1"/>
            <p:cNvSpPr/>
            <p:nvPr/>
          </p:nvSpPr>
          <p:spPr>
            <a:xfrm>
              <a:off x="108000" y="335880"/>
              <a:ext cx="1006200" cy="50472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AutoShape 9">
            <a:hlinkClick r:id="rId1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EA7C-C3E4-422A-97B3-CB3117A70EF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Деньги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cc"/>
                </a:solidFill>
                <a:latin typeface="Arial"/>
              </a:rPr>
              <a:t>Красивые, бумажны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8000"/>
                </a:solidFill>
                <a:latin typeface="Arial"/>
              </a:rPr>
              <a:t>Тратят, копят, зарабатываю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Хочу быть богатым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0066"/>
                </a:solidFill>
                <a:latin typeface="Arial"/>
              </a:rPr>
              <a:t>Жела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DBC6-0BEB-4B9A-B197-7628AF4BA5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Параграф 17, задание в тетр. №2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4FD9-7064-4D82-B1BB-7A3D6E7E826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908000" y="33336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11280" y="1197000"/>
            <a:ext cx="8064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e2.uco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lori.ru/4627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lm.livememory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cirot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vladivostok.ol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Н. Боголюбов, Н.Ф. Виноградова, Н.И.Тородецкая. Обществоведение. 7класс - М.: Просвещение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0B56-AA50-46AF-9299-C4ED870000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«Пушистые деньг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«Морские деньг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Ско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Металлические день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Бумажные день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Электронные день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ost-7-1206055580"/>
          <p:cNvPicPr/>
          <p:nvPr/>
        </p:nvPicPr>
        <p:blipFill>
          <a:blip r:embed="rId1"/>
          <a:stretch/>
        </p:blipFill>
        <p:spPr>
          <a:xfrm>
            <a:off x="395280" y="443700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202"/>
          <p:cNvPicPr/>
          <p:nvPr/>
        </p:nvPicPr>
        <p:blipFill>
          <a:blip r:embed="rId2"/>
          <a:stretch/>
        </p:blipFill>
        <p:spPr>
          <a:xfrm>
            <a:off x="539640" y="260280"/>
            <a:ext cx="1728720" cy="115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394321"/>
          <p:cNvPicPr/>
          <p:nvPr/>
        </p:nvPicPr>
        <p:blipFill>
          <a:blip r:embed="rId3"/>
          <a:stretch/>
        </p:blipFill>
        <p:spPr>
          <a:xfrm>
            <a:off x="2268360" y="1484280"/>
            <a:ext cx="1729080" cy="1227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karti_1648"/>
          <p:cNvPicPr/>
          <p:nvPr/>
        </p:nvPicPr>
        <p:blipFill>
          <a:blip r:embed="rId4"/>
          <a:stretch/>
        </p:blipFill>
        <p:spPr>
          <a:xfrm>
            <a:off x="468360" y="2565360"/>
            <a:ext cx="1511280" cy="1133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1236839633_rakushki006"/>
          <p:cNvPicPr/>
          <p:nvPr/>
        </p:nvPicPr>
        <p:blipFill>
          <a:blip r:embed="rId5"/>
          <a:stretch/>
        </p:blipFill>
        <p:spPr>
          <a:xfrm>
            <a:off x="2627280" y="4941720"/>
            <a:ext cx="1305000" cy="1689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images4"/>
          <p:cNvPicPr/>
          <p:nvPr/>
        </p:nvPicPr>
        <p:blipFill>
          <a:blip r:embed="rId6"/>
          <a:stretch/>
        </p:blipFill>
        <p:spPr>
          <a:xfrm>
            <a:off x="2556000" y="3284640"/>
            <a:ext cx="1726920" cy="1098360"/>
          </a:xfrm>
          <a:prstGeom prst="rect">
            <a:avLst/>
          </a:prstGeom>
          <a:ln w="0">
            <a:noFill/>
          </a:ln>
        </p:spPr>
      </p:pic>
      <p:sp>
        <p:nvSpPr>
          <p:cNvPr id="103" name="Line 16"/>
          <p:cNvSpPr/>
          <p:nvPr/>
        </p:nvSpPr>
        <p:spPr>
          <a:xfrm flipH="1">
            <a:off x="1834920" y="620640"/>
            <a:ext cx="2881080" cy="381636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 flipH="1">
            <a:off x="3635280" y="1700280"/>
            <a:ext cx="1154160" cy="324144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 flipH="1" flipV="1">
            <a:off x="3995640" y="2133720"/>
            <a:ext cx="720720" cy="5745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9"/>
          <p:cNvSpPr/>
          <p:nvPr/>
        </p:nvSpPr>
        <p:spPr>
          <a:xfrm flipH="1" flipV="1">
            <a:off x="2339640" y="1197000"/>
            <a:ext cx="2376360" cy="251928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H="1" flipV="1">
            <a:off x="4211280" y="4221000"/>
            <a:ext cx="57636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1"/>
          <p:cNvSpPr/>
          <p:nvPr/>
        </p:nvSpPr>
        <p:spPr>
          <a:xfrm flipH="1" flipV="1">
            <a:off x="1979640" y="3357360"/>
            <a:ext cx="2736720" cy="23763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C859-E457-43E6-BF20-6C6EA39E31A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</a:rPr>
              <a:t>Язык моне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cc"/>
                </a:solidFill>
                <a:uFillTx/>
                <a:latin typeface="Times New Roman"/>
              </a:rPr>
              <a:t>Монетный тип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 – устойчивая композиция изображаемых элементов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cc"/>
                </a:solidFill>
                <a:uFillTx/>
                <a:latin typeface="Times New Roman"/>
              </a:rPr>
              <a:t>Аверс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- лицевая сторона монеты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cc"/>
                </a:solidFill>
                <a:uFillTx/>
                <a:latin typeface="Times New Roman"/>
              </a:rPr>
              <a:t>Реверс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 – оборотная сторона монеты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cc"/>
                </a:solidFill>
                <a:uFillTx/>
                <a:latin typeface="Times New Roman"/>
              </a:rPr>
              <a:t>Легенда 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– надпись на монете,                    </a:t>
            </a:r>
            <a:r>
              <a:rPr b="0" lang="ru-RU" sz="1900" spc="-1" strike="noStrike" u="sng">
                <a:solidFill>
                  <a:srgbClr val="0000cc"/>
                </a:solidFill>
                <a:uFillTx/>
                <a:latin typeface="Times New Roman"/>
              </a:rPr>
              <a:t>Номинал 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– официально объявленна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стоимость ценных бумаг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бумажных денег, банкнот, монет…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cc"/>
                </a:solidFill>
                <a:uFillTx/>
                <a:latin typeface="Times New Roman"/>
              </a:rPr>
              <a:t>Гурт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 - боковая поверхность монеты</a:t>
            </a:r>
            <a:r>
              <a:rPr b="0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10 RUB (2009)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981000"/>
            <a:ext cx="3960720" cy="2232000"/>
          </a:xfrm>
          <a:prstGeom prst="rect">
            <a:avLst/>
          </a:prstGeom>
          <a:ln w="0">
            <a:noFill/>
          </a:ln>
        </p:spPr>
      </p:pic>
      <p:sp>
        <p:nvSpPr>
          <p:cNvPr id="112" name="Line 15"/>
          <p:cNvSpPr/>
          <p:nvPr/>
        </p:nvSpPr>
        <p:spPr>
          <a:xfrm>
            <a:off x="1042920" y="907920"/>
            <a:ext cx="720720" cy="108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476360" y="907920"/>
            <a:ext cx="151128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3276720" y="1052640"/>
            <a:ext cx="2016000" cy="10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042920" y="2636640"/>
            <a:ext cx="2089080" cy="1152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H="1">
            <a:off x="1619280" y="1413000"/>
            <a:ext cx="3240000" cy="86364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 flipV="1">
            <a:off x="1187280" y="2133360"/>
            <a:ext cx="3600720" cy="172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1" descr=""/>
          <p:cNvPicPr/>
          <p:nvPr/>
        </p:nvPicPr>
        <p:blipFill>
          <a:blip r:embed="rId3"/>
          <a:stretch/>
        </p:blipFill>
        <p:spPr>
          <a:xfrm>
            <a:off x="5796000" y="5300640"/>
            <a:ext cx="2857320" cy="1320840"/>
          </a:xfrm>
          <a:prstGeom prst="rect">
            <a:avLst/>
          </a:prstGeom>
          <a:ln w="0">
            <a:noFill/>
          </a:ln>
        </p:spPr>
      </p:pic>
      <p:sp>
        <p:nvSpPr>
          <p:cNvPr id="119" name="Line 22"/>
          <p:cNvSpPr/>
          <p:nvPr/>
        </p:nvSpPr>
        <p:spPr>
          <a:xfrm>
            <a:off x="5148360" y="5229360"/>
            <a:ext cx="1224000" cy="86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3" descr="Banknote 1000 rubles 2004 front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4076640"/>
            <a:ext cx="4033800" cy="194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4" descr="Banknote 1000 rubles 2004 back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00720" y="1700280"/>
            <a:ext cx="4392360" cy="1873080"/>
          </a:xfrm>
          <a:prstGeom prst="rect">
            <a:avLst/>
          </a:prstGeom>
          <a:ln w="0">
            <a:noFill/>
          </a:ln>
        </p:spPr>
      </p:pic>
      <p:sp>
        <p:nvSpPr>
          <p:cNvPr id="122" name="Line 25"/>
          <p:cNvSpPr/>
          <p:nvPr/>
        </p:nvSpPr>
        <p:spPr>
          <a:xfrm>
            <a:off x="971640" y="836640"/>
            <a:ext cx="1152360" cy="381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>
            <a:off x="1908000" y="907920"/>
            <a:ext cx="4319640" cy="17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H="1">
            <a:off x="2700360" y="1125360"/>
            <a:ext cx="2519280" cy="3672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1403280" y="4005360"/>
            <a:ext cx="1873440" cy="215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5219640" y="1557360"/>
            <a:ext cx="1081080" cy="79200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H="1">
            <a:off x="1547280" y="3933720"/>
            <a:ext cx="3240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 flipV="1">
            <a:off x="5292720" y="3284640"/>
            <a:ext cx="208764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88E7-96AD-4048-98A0-7535FFCCE9B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5003640" y="2060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Банкн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1226-3CB2-4993-98A8-482125D8520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238720" cy="6800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292720" y="21337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Ассигн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85F5-1809-4AE6-96BF-EEBD6F7F832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4608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2627280" y="53737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Банковский 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C1A5-1731-473F-9521-B78C5A49508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4176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2556000" y="465300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Электронные  пластиковые кар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343F-E001-47DD-80EE-59ECB5403F0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Times New Roman"/>
              </a:rPr>
              <a:t>Монет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Номина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Кла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Авер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Золот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 rot="16200000">
            <a:off x="-107280" y="314424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Символ богат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 rot="16200000">
            <a:off x="5742360" y="294876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bf39"/>
                </a:solidFill>
                <a:latin typeface="Arial"/>
              </a:rPr>
              <a:t>Средство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 flipV="1">
            <a:off x="5148360" y="2492280"/>
            <a:ext cx="2087640" cy="1657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5508720" y="1916280"/>
            <a:ext cx="1727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 flipH="1" flipV="1">
            <a:off x="1476000" y="4005000"/>
            <a:ext cx="2376360" cy="10810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 flipH="1" flipV="1">
            <a:off x="1476000" y="2781000"/>
            <a:ext cx="2590920" cy="730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A0DC-E801-484B-8CED-A2F5EC7EDD2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24000" y="260280"/>
            <a:ext cx="324036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33"/>
                </a:solidFill>
                <a:latin typeface="Times New Roman"/>
              </a:rPr>
              <a:t>Функции денег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009120" y="383544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ера сто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578920" y="282744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редство обра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943240" y="4987800"/>
            <a:ext cx="2324880" cy="39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ировые день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362920" y="1989000"/>
            <a:ext cx="29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редство нако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650560" y="11001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редство плат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 flipH="1">
            <a:off x="8027640" y="5157720"/>
            <a:ext cx="57636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 flipH="1">
            <a:off x="7956360" y="1341360"/>
            <a:ext cx="64764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 flipH="1">
            <a:off x="7956360" y="4005360"/>
            <a:ext cx="64764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 flipH="1">
            <a:off x="8317080" y="2997360"/>
            <a:ext cx="28728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 flipH="1">
            <a:off x="8317080" y="2133720"/>
            <a:ext cx="28728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0" descr="untitled"/>
          <p:cNvPicPr/>
          <p:nvPr/>
        </p:nvPicPr>
        <p:blipFill>
          <a:blip r:embed="rId1"/>
          <a:stretch/>
        </p:blipFill>
        <p:spPr>
          <a:xfrm>
            <a:off x="3203640" y="5229360"/>
            <a:ext cx="1689120" cy="1266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1" descr="presentation"/>
          <p:cNvPicPr/>
          <p:nvPr/>
        </p:nvPicPr>
        <p:blipFill>
          <a:blip r:embed="rId2"/>
          <a:stretch/>
        </p:blipFill>
        <p:spPr>
          <a:xfrm>
            <a:off x="0" y="4437000"/>
            <a:ext cx="2522520" cy="2063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3" descr="big_investitsii_lichnyie_dengi_dragotsennyie_metallyi_1"/>
          <p:cNvPicPr/>
          <p:nvPr/>
        </p:nvPicPr>
        <p:blipFill>
          <a:blip r:embed="rId3"/>
          <a:stretch/>
        </p:blipFill>
        <p:spPr>
          <a:xfrm>
            <a:off x="2987640" y="3141720"/>
            <a:ext cx="1695600" cy="156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4" descr="resizef"/>
          <p:cNvPicPr/>
          <p:nvPr/>
        </p:nvPicPr>
        <p:blipFill>
          <a:blip r:embed="rId4"/>
          <a:stretch/>
        </p:blipFill>
        <p:spPr>
          <a:xfrm>
            <a:off x="611280" y="260280"/>
            <a:ext cx="1860480" cy="1265400"/>
          </a:xfrm>
          <a:prstGeom prst="rect">
            <a:avLst/>
          </a:prstGeom>
          <a:ln w="0">
            <a:noFill/>
          </a:ln>
        </p:spPr>
      </p:pic>
      <p:sp>
        <p:nvSpPr>
          <p:cNvPr id="166" name="Line 26"/>
          <p:cNvSpPr/>
          <p:nvPr/>
        </p:nvSpPr>
        <p:spPr>
          <a:xfrm>
            <a:off x="6084720" y="836640"/>
            <a:ext cx="2519640" cy="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8604360" y="836640"/>
            <a:ext cx="0" cy="432108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AutoShape 38"/>
          <p:cNvCxnSpPr>
            <a:stCxn id="154" idx="1"/>
          </p:cNvCxnSpPr>
          <p:nvPr/>
        </p:nvCxnSpPr>
        <p:spPr>
          <a:xfrm flipH="1" flipV="1">
            <a:off x="4682880" y="3925080"/>
            <a:ext cx="1257840" cy="1266120"/>
          </a:xfrm>
          <a:prstGeom prst="straightConnector1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</p:cxnSp>
      <p:sp>
        <p:nvSpPr>
          <p:cNvPr id="169" name="Line 39"/>
          <p:cNvSpPr/>
          <p:nvPr/>
        </p:nvSpPr>
        <p:spPr>
          <a:xfrm flipH="1">
            <a:off x="2556000" y="4005360"/>
            <a:ext cx="3528720" cy="1152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0"/>
          <p:cNvSpPr/>
          <p:nvPr/>
        </p:nvSpPr>
        <p:spPr>
          <a:xfrm flipH="1">
            <a:off x="4858920" y="2276640"/>
            <a:ext cx="792360" cy="374472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2" descr="C42F4FE9"/>
          <p:cNvPicPr/>
          <p:nvPr/>
        </p:nvPicPr>
        <p:blipFill>
          <a:blip r:embed="rId5"/>
          <a:stretch/>
        </p:blipFill>
        <p:spPr>
          <a:xfrm>
            <a:off x="3276720" y="189000"/>
            <a:ext cx="2016000" cy="1655640"/>
          </a:xfrm>
          <a:prstGeom prst="rect">
            <a:avLst/>
          </a:prstGeom>
          <a:ln w="0">
            <a:noFill/>
          </a:ln>
        </p:spPr>
      </p:pic>
      <p:cxnSp>
        <p:nvCxnSpPr>
          <p:cNvPr id="172" name="AutoShape 43"/>
          <p:cNvCxnSpPr/>
          <p:nvPr/>
        </p:nvCxnSpPr>
        <p:spPr>
          <a:xfrm flipH="1" flipV="1">
            <a:off x="2471400" y="893880"/>
            <a:ext cx="3108960" cy="21322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3" name="AutoShape 44"/>
          <p:cNvCxnSpPr/>
          <p:nvPr/>
        </p:nvCxnSpPr>
        <p:spPr>
          <a:xfrm flipH="1" flipV="1">
            <a:off x="5218920" y="1844280"/>
            <a:ext cx="405720" cy="11469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pic>
        <p:nvPicPr>
          <p:cNvPr id="174" name="Picture 46" descr="5BF7C502"/>
          <p:cNvPicPr/>
          <p:nvPr/>
        </p:nvPicPr>
        <p:blipFill>
          <a:blip r:embed="rId6"/>
          <a:stretch/>
        </p:blipFill>
        <p:spPr>
          <a:xfrm>
            <a:off x="826920" y="1844640"/>
            <a:ext cx="2124360" cy="1943280"/>
          </a:xfrm>
          <a:prstGeom prst="rect">
            <a:avLst/>
          </a:prstGeom>
          <a:ln w="0">
            <a:noFill/>
          </a:ln>
        </p:spPr>
      </p:pic>
      <p:sp>
        <p:nvSpPr>
          <p:cNvPr id="175" name="Line 47"/>
          <p:cNvSpPr/>
          <p:nvPr/>
        </p:nvSpPr>
        <p:spPr>
          <a:xfrm flipH="1">
            <a:off x="2842920" y="1341360"/>
            <a:ext cx="2881080" cy="93528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7:15:42Z</dcterms:created>
  <dc:creator>USER</dc:creator>
  <dc:description/>
  <dc:language>en-US</dc:language>
  <cp:lastModifiedBy>Динара</cp:lastModifiedBy>
  <dcterms:modified xsi:type="dcterms:W3CDTF">2013-01-14T03:44:10Z</dcterms:modified>
  <cp:revision>24</cp:revision>
  <dc:subject/>
  <dc:title>Деньги, их функции. </dc:title>
</cp:coreProperties>
</file>