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48.wmf" ContentType="image/x-wmf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wmf" ContentType="image/x-wmf"/>
  <Override PartName="/ppt/media/image55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7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2D0-36EE-49DB-8547-39AC3236FE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B14-1389-492B-996C-88A4E16153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B9B-F981-4543-8A1F-915D1213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74A-B8AF-4162-9444-4183DCB9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2FD-E44B-41F4-8F27-202DBE6C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299-5365-423B-8F98-8FEB11DE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666-B91D-43FE-AECA-1D0F7B87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E34B-2AFB-4267-835F-78ABE140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A3A-D325-4933-BA6A-421485B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A68-D0B9-4453-8942-E3FB24E9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7F5-BB3A-4B87-91F9-18EE999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2251-95E6-4CFE-9D99-8362D4C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D741-4645-449A-AC49-43BCD57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C50-BD88-436B-97DF-C404BD9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3188-5236-4797-819E-BEB2CD5F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43BD-6955-4651-A533-50D525C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208B-E2DE-4015-A078-57200EF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82BF-91D2-42E5-8CD2-F010987A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A874-E6FD-417E-8AC6-A964D0EE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C428-9B2D-45DD-9F36-3D623B3B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92AA-E5AF-41B1-A645-7E958C24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B542-89CA-4D99-AC23-279AA24E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DFE8-97D5-4EE5-869A-39DB4DB0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F9D2-AC88-4E7A-8BE0-F59EE403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A02-4579-425D-A74B-5AD4C806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05AE-1F1D-431D-8643-64625A8F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E28E-5A4A-4C5A-A489-F4A981D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1EB1-3075-4681-B2D8-0A32796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927A-97B9-48F6-9C5A-E42DFB84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0D92-9763-4C0A-B61F-F5D6D892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4E29-98C2-49ED-B9D2-B6785129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5A43-862F-4A1D-9179-3B932FCD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A5A9-806D-4FDB-A120-B9FCC2C8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7176-1981-4263-BBD1-6CD6A5A7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6A45-6DE1-4C92-8D08-323A91BC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A90-45DF-4F79-9A85-ACCFA20E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496B-2BB0-41E1-8EF8-2FC8CF82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C95F-E732-4D39-9633-EBF7C2C8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24BB-D78A-4AC6-A89A-3E33AE0E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7A30-BBB4-446D-BB39-877EEF8B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FFB80-897D-4694-A55B-D926CD4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C60EF-3E72-4480-9779-E4E50D8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409A-4AC0-4B84-B16F-DF6816DE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871E-3A8D-47FA-B90B-FD204865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592A-D36F-4F18-82F0-955C3FCD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1633E-7DA4-4361-9A06-6D201795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8E7-4C2E-44AF-8317-7A51173B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8019C-4624-46C4-8EF6-C39FEDD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17D4-DDD0-4036-956B-53C43F43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CCA1-3757-4A7C-8E8C-9940A3E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DD27-3E28-4719-98DC-920E285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E587-10B3-4464-B2BC-C1E7932F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DF2BD-523D-405B-95AB-1A6CA44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B118B-C592-4EBD-9011-DCF9BA7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5D5DA-3CFC-4CAD-85F5-0387F98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4129-E92B-4472-AE4C-BBFA2408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CF4B-CC3F-4213-9C64-38A3D882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7CA-D6ED-4EE2-B28D-340B545E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F099-3467-4813-BE8A-D515E952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7172C-BD6C-48C9-B6EC-C615FA59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79EEA-C109-4457-AAFC-6FD4F7F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D239-CD0B-40EA-8B3A-43547BFD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E6C5-3B2A-49CC-AE01-E157B52A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CE3E-8B74-416B-8BDF-38A2C732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CBCB-768B-4AA2-9D59-B0972221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AFD4-D4BD-4194-8BCA-519E489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463E4-EA7F-47F6-AD16-6C3FFDE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08C1-C399-4944-949D-09B7A6C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6FC-E321-4B56-A43F-EE77FB7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2CCF4-D111-464E-B6EE-71C69DF8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01F86-8C79-4A4E-B9C2-5388394D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7C459-DA22-4266-BFC0-89F6A17A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3E205-0B0F-45C8-91CE-4802152A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2195-1AA5-4642-98A8-0B6CF0D7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DA9E-EC34-48EA-AAEF-333E692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D3094-1C76-402A-A92E-3F9792CA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F2676-C9EC-4F88-947F-B12099F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644C7-DF97-4D62-AA5A-BCB79A98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1E34-50BA-4A18-B77A-3FFE5793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D7D-E58B-4E61-A1DC-F615B5F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4F75-108C-4D63-8613-A59D1D3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FFE6F-0C78-4B9D-80E8-D3E078C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928E-9EA2-4BE7-BF22-4434E7C6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9D35-F248-4C83-927B-77D64506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51044-7498-4714-80C2-0EE25590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C1A-8DE7-42CB-8111-B907CD3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99A9-A227-4276-B0BB-2B2782862D33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EB22-DF1E-40C0-A436-81A2EC34E1CE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D18F-BB76-47CD-99CA-3BB9D51F357E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6AC0-1945-4ADB-B1CA-FC09EBEA6A65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EC6C-49F3-4F83-A039-B9E1E70307A1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22B-9BC0-4585-8E0C-245250BB5040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ABC3-0C2C-47E3-921D-AB9856C40B75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14288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Обрывная аппликация </a:t>
            </a:r>
            <a:br>
              <a:rPr sz="3900"/>
            </a:b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из бумаги на бумажной  основе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714480" y="5214600"/>
            <a:ext cx="51562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206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3"/>
          <p:cNvSpPr/>
          <p:nvPr/>
        </p:nvSpPr>
        <p:spPr>
          <a:xfrm>
            <a:off x="1000080" y="48578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грудный узор женского чувашского национального костюма: аппликация из тка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4" descr="C:\Documents and Settings\Admin\Рабочий стол\clip_image003.jpg"/>
          <p:cNvPicPr/>
          <p:nvPr/>
        </p:nvPicPr>
        <p:blipFill>
          <a:blip r:embed="rId1"/>
          <a:stretch/>
        </p:blipFill>
        <p:spPr>
          <a:xfrm>
            <a:off x="1500120" y="1071720"/>
            <a:ext cx="2584440" cy="353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6" name="Рисунок 5" descr="http://artyx.ru/books/item/f00/s00/z0000039/pic/000184.jpg"/>
          <p:cNvPicPr/>
          <p:nvPr/>
        </p:nvPicPr>
        <p:blipFill>
          <a:blip r:embed="rId2"/>
          <a:stretch/>
        </p:blipFill>
        <p:spPr>
          <a:xfrm>
            <a:off x="5357880" y="1071720"/>
            <a:ext cx="2571840" cy="35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7" name="Rectangle 1"/>
          <p:cNvSpPr/>
          <p:nvPr/>
        </p:nvSpPr>
        <p:spPr>
          <a:xfrm>
            <a:off x="5143680" y="4862160"/>
            <a:ext cx="3357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дежда мужская. Х/б ткань, шёлк.                                                    Вышивка, аппликация. Удэгейц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571320"/>
            <a:ext cx="7934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недалёком прошлом в России была очень популярна аппликация, вырезанная из чёрной бумаг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3" descr="C:\Documents and Settings\Admin\Рабочий стол\S1051685_0.jpg"/>
          <p:cNvPicPr/>
          <p:nvPr/>
        </p:nvPicPr>
        <p:blipFill>
          <a:blip r:embed="rId1"/>
          <a:stretch/>
        </p:blipFill>
        <p:spPr>
          <a:xfrm rot="21300000">
            <a:off x="1571400" y="2428920"/>
            <a:ext cx="242892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0" name="Рисунок 4" descr="Картинка 304 из 12951"/>
          <p:cNvPicPr/>
          <p:nvPr/>
        </p:nvPicPr>
        <p:blipFill>
          <a:blip r:embed="rId2"/>
          <a:stretch/>
        </p:blipFill>
        <p:spPr>
          <a:xfrm rot="300000">
            <a:off x="5429160" y="2428560"/>
            <a:ext cx="250056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22ea4"/>
                </a:solidFill>
                <a:latin typeface="Corbel"/>
              </a:rPr>
              <a:t>Одинаковый ли материал используется для выполнения аппликации?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62" name="Рисунок 3" descr="http://s49.radikal.ru/i126/0909/0b/cc66d91501ea.jpg"/>
          <p:cNvPicPr/>
          <p:nvPr/>
        </p:nvPicPr>
        <p:blipFill>
          <a:blip r:embed="rId1"/>
          <a:stretch/>
        </p:blipFill>
        <p:spPr>
          <a:xfrm>
            <a:off x="1571760" y="2286000"/>
            <a:ext cx="2857320" cy="256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3" name="Прямоугольник 4"/>
          <p:cNvSpPr/>
          <p:nvPr/>
        </p:nvSpPr>
        <p:spPr>
          <a:xfrm>
            <a:off x="1560960" y="507204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природный матери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5" descr="Картинка 115 из 1231"/>
          <p:cNvPicPr/>
          <p:nvPr/>
        </p:nvPicPr>
        <p:blipFill>
          <a:blip r:embed="rId2"/>
          <a:stretch/>
        </p:blipFill>
        <p:spPr>
          <a:xfrm>
            <a:off x="5429160" y="2286000"/>
            <a:ext cx="2857680" cy="25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5" name="Rectangle 1"/>
          <p:cNvSpPr/>
          <p:nvPr/>
        </p:nvSpPr>
        <p:spPr>
          <a:xfrm>
            <a:off x="6545880" y="51444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Calibri"/>
              </a:rPr>
              <a:t>(в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" descr="Картинка 174 из 1714"/>
          <p:cNvPicPr/>
          <p:nvPr/>
        </p:nvPicPr>
        <p:blipFill>
          <a:blip r:embed="rId1"/>
          <a:stretch/>
        </p:blipFill>
        <p:spPr>
          <a:xfrm>
            <a:off x="1571760" y="285840"/>
            <a:ext cx="22143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7" name="Прямоугольник 4"/>
          <p:cNvSpPr/>
          <p:nvPr/>
        </p:nvSpPr>
        <p:spPr>
          <a:xfrm>
            <a:off x="1529280" y="3714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фоль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5" descr="http://ds55.centerstart.ru/sites/ds55.centerstart.ru/files/ob-cvety1.jpg"/>
          <p:cNvPicPr/>
          <p:nvPr/>
        </p:nvPicPr>
        <p:blipFill>
          <a:blip r:embed="rId2"/>
          <a:stretch/>
        </p:blipFill>
        <p:spPr>
          <a:xfrm>
            <a:off x="5857920" y="285840"/>
            <a:ext cx="221436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9" name="Rectangle 1"/>
          <p:cNvSpPr/>
          <p:nvPr/>
        </p:nvSpPr>
        <p:spPr>
          <a:xfrm>
            <a:off x="6614280" y="371556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Calibri"/>
              </a:rPr>
              <a:t>(цветная бума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7" descr="C:\Documents and Settings\Admin\Рабочий стол\8787336.jpg"/>
          <p:cNvPicPr/>
          <p:nvPr/>
        </p:nvPicPr>
        <p:blipFill>
          <a:blip r:embed="rId3"/>
          <a:stretch/>
        </p:blipFill>
        <p:spPr>
          <a:xfrm>
            <a:off x="3143160" y="3857760"/>
            <a:ext cx="3175200" cy="266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1" name="Rectangle 2"/>
          <p:cNvSpPr/>
          <p:nvPr/>
        </p:nvSpPr>
        <p:spPr>
          <a:xfrm>
            <a:off x="6394320" y="614448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Calibri"/>
              </a:rPr>
              <a:t>ткань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Виды аппликаций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00080" y="1285920"/>
            <a:ext cx="79344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b83d68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содержанию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мет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Рисунок 4" descr="10e9bf6f7c95e5803acaeb03c17cf33b.jpg"/>
          <p:cNvPicPr/>
          <p:nvPr/>
        </p:nvPicPr>
        <p:blipFill>
          <a:blip r:embed="rId1"/>
          <a:stretch/>
        </p:blipFill>
        <p:spPr>
          <a:xfrm>
            <a:off x="1714680" y="2786040"/>
            <a:ext cx="235728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5" name="Rectangle 1"/>
          <p:cNvSpPr/>
          <p:nvPr/>
        </p:nvSpPr>
        <p:spPr>
          <a:xfrm>
            <a:off x="4786200" y="2616480"/>
            <a:ext cx="400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alibri"/>
              </a:rPr>
              <a:t>Предметная аппликация представляет собой наклеенные на фон отдельные предметные изображения, передающие обобщенный, условный образ окружающих предм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000080" y="571320"/>
            <a:ext cx="7934400" cy="7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южет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Рисунок 3" descr="C:\Documents and Settings\Admin\Рабочий стол\image238.jpg"/>
          <p:cNvPicPr/>
          <p:nvPr/>
        </p:nvPicPr>
        <p:blipFill>
          <a:blip r:embed="rId1"/>
          <a:stretch/>
        </p:blipFill>
        <p:spPr>
          <a:xfrm>
            <a:off x="2000160" y="1285920"/>
            <a:ext cx="25718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8" name="Рисунок 4" descr="C:\Documents and Settings\Admin\Рабочий стол\applikacia5.jpg"/>
          <p:cNvPicPr/>
          <p:nvPr/>
        </p:nvPicPr>
        <p:blipFill>
          <a:blip r:embed="rId2"/>
          <a:stretch/>
        </p:blipFill>
        <p:spPr>
          <a:xfrm>
            <a:off x="5429160" y="1285920"/>
            <a:ext cx="25718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9" name="Прямоугольник 5"/>
          <p:cNvSpPr/>
          <p:nvPr/>
        </p:nvSpPr>
        <p:spPr>
          <a:xfrm>
            <a:off x="1000080" y="521496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стоят из нескольких разных  фигур, часто в движении, служат для создания панно, карт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00080" y="642600"/>
            <a:ext cx="7934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рнамента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Рисунок 3" descr="http://aplikacii.ru/wp-content/uploads/2011/09/%D0%BE%D1%80%D0%BD%D0%B0%D0%BC%D0%B5%D0%BD%D1%82.jpg"/>
          <p:cNvPicPr/>
          <p:nvPr/>
        </p:nvPicPr>
        <p:blipFill>
          <a:blip r:embed="rId1"/>
          <a:stretch/>
        </p:blipFill>
        <p:spPr>
          <a:xfrm>
            <a:off x="1643040" y="2000160"/>
            <a:ext cx="2857680" cy="250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2" name="Рисунок 4" descr="C:\Documents and Settings\Admin\Рабочий стол\0501-w.jpg"/>
          <p:cNvPicPr/>
          <p:nvPr/>
        </p:nvPicPr>
        <p:blipFill>
          <a:blip r:embed="rId2"/>
          <a:stretch/>
        </p:blipFill>
        <p:spPr>
          <a:xfrm>
            <a:off x="5500800" y="2000160"/>
            <a:ext cx="2857320" cy="250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3" name="Прямоугольник 5"/>
          <p:cNvSpPr/>
          <p:nvPr/>
        </p:nvSpPr>
        <p:spPr>
          <a:xfrm>
            <a:off x="1000080" y="542916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меняют для оформления альбомов, пригласительных билетов, украшения одеж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000080" y="785880"/>
            <a:ext cx="7934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рифтов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Рисунок 3" descr="C:\Documents and Settings\Admin\Рабочий стол\448470.jpg"/>
          <p:cNvPicPr/>
          <p:nvPr/>
        </p:nvPicPr>
        <p:blipFill>
          <a:blip r:embed="rId1"/>
          <a:stretch/>
        </p:blipFill>
        <p:spPr>
          <a:xfrm>
            <a:off x="1428840" y="1857240"/>
            <a:ext cx="285264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6" name="Прямоугольник 4"/>
          <p:cNvSpPr/>
          <p:nvPr/>
        </p:nvSpPr>
        <p:spPr>
          <a:xfrm>
            <a:off x="4572000" y="2286000"/>
            <a:ext cx="4143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рифтовые – это буквы, которые используют для заголовков стенгазет, написания лозунгов, плак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00080" y="642600"/>
            <a:ext cx="7934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23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мметричная -  представляет собой наклеенные на фон изображения предметов, имеющие симметричное строение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Рисунок 4" descr="http://im7-tub-ru.yandex.net/i?id=325651170-58-72"/>
          <p:cNvPicPr/>
          <p:nvPr/>
        </p:nvPicPr>
        <p:blipFill>
          <a:blip r:embed="rId1"/>
          <a:stretch/>
        </p:blipFill>
        <p:spPr>
          <a:xfrm>
            <a:off x="1928880" y="2000160"/>
            <a:ext cx="2643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9" name="Рисунок 5" descr="http://im2-tub-ru.yandex.net/i?id=204368350-10-72"/>
          <p:cNvPicPr/>
          <p:nvPr/>
        </p:nvPicPr>
        <p:blipFill>
          <a:blip r:embed="rId2"/>
          <a:stretch/>
        </p:blipFill>
        <p:spPr>
          <a:xfrm>
            <a:off x="5357880" y="2000160"/>
            <a:ext cx="228600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0" name="Прямоугольник 6"/>
          <p:cNvSpPr/>
          <p:nvPr/>
        </p:nvSpPr>
        <p:spPr>
          <a:xfrm>
            <a:off x="1000080" y="5214960"/>
            <a:ext cx="8143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зображения предметов могут быть выполнены с использованием приема складывания бумаги пополам или в несколько раз перед вырезанием с целью одновременной передачи формы повторяющихся ча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000080" y="713880"/>
            <a:ext cx="79344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ск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Рисунок 3" descr="C:\Documents and Settings\Admin\Рабочий стол\16137362.jpg"/>
          <p:cNvPicPr/>
          <p:nvPr/>
        </p:nvPicPr>
        <p:blipFill>
          <a:blip r:embed="rId1"/>
          <a:stretch/>
        </p:blipFill>
        <p:spPr>
          <a:xfrm>
            <a:off x="1785960" y="1500120"/>
            <a:ext cx="2571840" cy="300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3" name="Рисунок 4" descr="C:\Documents and Settings\Admin\Рабочий стол\anya_k2.gif"/>
          <p:cNvPicPr/>
          <p:nvPr/>
        </p:nvPicPr>
        <p:blipFill>
          <a:blip r:embed="rId2"/>
          <a:stretch/>
        </p:blipFill>
        <p:spPr>
          <a:xfrm>
            <a:off x="5500800" y="1571760"/>
            <a:ext cx="264312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4" name="Прямоугольник 5"/>
          <p:cNvSpPr/>
          <p:nvPr/>
        </p:nvSpPr>
        <p:spPr>
          <a:xfrm>
            <a:off x="1571760" y="53578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ображения предметов крепятся на плоскость всего ф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В какой технике выполнены эти работы?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28" name="Рисунок 3" descr="Картинка 35 из 1231"/>
          <p:cNvPicPr/>
          <p:nvPr/>
        </p:nvPicPr>
        <p:blipFill>
          <a:blip r:embed="rId1"/>
          <a:stretch/>
        </p:blipFill>
        <p:spPr>
          <a:xfrm>
            <a:off x="1285920" y="1643040"/>
            <a:ext cx="221436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9" name="Рисунок 4" descr="Картинка 17 из 1231"/>
          <p:cNvPicPr/>
          <p:nvPr/>
        </p:nvPicPr>
        <p:blipFill>
          <a:blip r:embed="rId2"/>
          <a:stretch/>
        </p:blipFill>
        <p:spPr>
          <a:xfrm>
            <a:off x="6286680" y="1571760"/>
            <a:ext cx="228600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0" name="Рисунок 5" descr="http://im4-tub-ru.yandex.net/i?id=35624575-40-72"/>
          <p:cNvPicPr/>
          <p:nvPr/>
        </p:nvPicPr>
        <p:blipFill>
          <a:blip r:embed="rId3"/>
          <a:stretch/>
        </p:blipFill>
        <p:spPr>
          <a:xfrm>
            <a:off x="3714840" y="4000680"/>
            <a:ext cx="228600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1" name="Прямоугольник 7" descr=""/>
          <p:cNvPicPr/>
          <p:nvPr/>
        </p:nvPicPr>
        <p:blipFill>
          <a:blip r:embed="rId4"/>
          <a:stretch/>
        </p:blipFill>
        <p:spPr>
          <a:xfrm>
            <a:off x="1828800" y="4780080"/>
            <a:ext cx="629748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000080" y="713880"/>
            <a:ext cx="79344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ъём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Рисунок 3" descr="C:\Documents and Settings\Admin\Рабочий стол\1208954439_kadr_22.jpg"/>
          <p:cNvPicPr/>
          <p:nvPr/>
        </p:nvPicPr>
        <p:blipFill>
          <a:blip r:embed="rId1"/>
          <a:stretch/>
        </p:blipFill>
        <p:spPr>
          <a:xfrm>
            <a:off x="1714680" y="1643040"/>
            <a:ext cx="307152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7" name="Рисунок 4" descr="http://ngkir2007.narod.ru/0708/1_form/19_05_08/nar3.gif"/>
          <p:cNvPicPr/>
          <p:nvPr/>
        </p:nvPicPr>
        <p:blipFill>
          <a:blip r:embed="rId2"/>
          <a:stretch/>
        </p:blipFill>
        <p:spPr>
          <a:xfrm>
            <a:off x="5643720" y="1643040"/>
            <a:ext cx="242856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8" name="Прямоугольник 5"/>
          <p:cNvSpPr/>
          <p:nvPr/>
        </p:nvSpPr>
        <p:spPr>
          <a:xfrm>
            <a:off x="1000080" y="53578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ъемная аппликация предусматривает, что изображения предметов или их деталей крепятся на фон только частью плоскости, создавая видимость объ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000080" y="713880"/>
            <a:ext cx="793440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зан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Рисунок 3" descr="Ёлочка"/>
          <p:cNvPicPr/>
          <p:nvPr/>
        </p:nvPicPr>
        <p:blipFill>
          <a:blip r:embed="rId1"/>
          <a:stretch/>
        </p:blipFill>
        <p:spPr>
          <a:xfrm>
            <a:off x="1857240" y="1428840"/>
            <a:ext cx="27147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1" name="Рисунок 4" descr="Здравствуй, это я!"/>
          <p:cNvPicPr/>
          <p:nvPr/>
        </p:nvPicPr>
        <p:blipFill>
          <a:blip r:embed="rId2"/>
          <a:stretch/>
        </p:blipFill>
        <p:spPr>
          <a:xfrm>
            <a:off x="5214960" y="1785960"/>
            <a:ext cx="321480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2" name="Rectangle 1"/>
          <p:cNvSpPr/>
          <p:nvPr/>
        </p:nvSpPr>
        <p:spPr>
          <a:xfrm>
            <a:off x="1000080" y="54316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alibri"/>
              </a:rPr>
              <a:t>Выполняется из бумаги традиционным способом – вырез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000080" y="713880"/>
            <a:ext cx="79344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 algn="ctr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 зависимости от техники, в которой выполнена работ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 algn="ctr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делки из бумаги техникой “гармошка”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Рисунок 3" descr="Поделки с детьми"/>
          <p:cNvPicPr/>
          <p:nvPr/>
        </p:nvPicPr>
        <p:blipFill>
          <a:blip r:embed="rId1"/>
          <a:stretch/>
        </p:blipFill>
        <p:spPr>
          <a:xfrm>
            <a:off x="1857240" y="3214800"/>
            <a:ext cx="235764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5" name="Рисунок 4" descr="http://www.babylessons.ru/wp-content/uploads/2009/11/2.jpg"/>
          <p:cNvPicPr/>
          <p:nvPr/>
        </p:nvPicPr>
        <p:blipFill>
          <a:blip r:embed="rId2"/>
          <a:stretch/>
        </p:blipFill>
        <p:spPr>
          <a:xfrm>
            <a:off x="5572080" y="3214800"/>
            <a:ext cx="2357640" cy="293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000080" y="785520"/>
            <a:ext cx="7934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Звезда» - выполнена в технике – «мозаики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Рисунок 3" descr="Открытка  к празднику 23 февраля"/>
          <p:cNvPicPr/>
          <p:nvPr/>
        </p:nvPicPr>
        <p:blipFill>
          <a:blip r:embed="rId1"/>
          <a:stretch/>
        </p:blipFill>
        <p:spPr>
          <a:xfrm>
            <a:off x="3714840" y="2071800"/>
            <a:ext cx="2571840" cy="351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Обрывная аппликация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142880" y="1447560"/>
            <a:ext cx="47912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 получаются такие аппликации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Такие аппликации получаются, если бумагу не резать, а обрывать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 получить неровные края?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Такие края можно получить путём обрывания, то есть все детали аппликации мы будем вырывать из листа бумаги, а не вырезать ножницам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0" name="Рисунок 3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292896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Рассмотрим образец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2880" y="1357200"/>
            <a:ext cx="5000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ие особенности в изготовлении аппликации вы отметил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Необходимо оставить белую полосу при обрывании бумаг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нужно располагать пальцы, чтобы обрывание шло по нарисованной лини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При обрывании по заранее нарисованному контуру пальцы должны располагаться вплотную к контуру с двух сторон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3" name="Рисунок 4" descr=""/>
          <p:cNvPicPr/>
          <p:nvPr/>
        </p:nvPicPr>
        <p:blipFill>
          <a:blip r:embed="rId1"/>
          <a:stretch/>
        </p:blipFill>
        <p:spPr>
          <a:xfrm>
            <a:off x="1000080" y="1357200"/>
            <a:ext cx="2928960" cy="528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414" name="Прямая со стрелкой 8"/>
          <p:cNvCxnSpPr/>
          <p:nvPr/>
        </p:nvCxnSpPr>
        <p:spPr>
          <a:xfrm flipH="1" flipV="1">
            <a:off x="3142440" y="2571120"/>
            <a:ext cx="107244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Прямая со стрелкой 12"/>
          <p:cNvCxnSpPr/>
          <p:nvPr/>
        </p:nvCxnSpPr>
        <p:spPr>
          <a:xfrm flipH="1">
            <a:off x="3142800" y="3071880"/>
            <a:ext cx="1000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7934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Давайте потренируемся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000080" y="1071360"/>
            <a:ext cx="7786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озьмите небольшой кусочек цветной бумаги и разорвите её в разных направлениях (вдоль и поперёк).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Что получилось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Рисунок 3" descr=""/>
          <p:cNvPicPr/>
          <p:nvPr/>
        </p:nvPicPr>
        <p:blipFill>
          <a:blip r:embed="rId1"/>
          <a:stretch/>
        </p:blipFill>
        <p:spPr>
          <a:xfrm>
            <a:off x="1571760" y="3000240"/>
            <a:ext cx="285732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9" name="Рисунок 4" descr=""/>
          <p:cNvPicPr/>
          <p:nvPr/>
        </p:nvPicPr>
        <p:blipFill>
          <a:blip r:embed="rId2"/>
          <a:stretch/>
        </p:blipFill>
        <p:spPr>
          <a:xfrm>
            <a:off x="5072040" y="3000240"/>
            <a:ext cx="29289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0" name="Rectangle 1"/>
          <p:cNvSpPr/>
          <p:nvPr/>
        </p:nvSpPr>
        <p:spPr>
          <a:xfrm>
            <a:off x="1000080" y="553464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alibri"/>
              </a:rPr>
              <a:t>Если рвать бумагу по волокну, край будет более гладкий, если поперек – более «стихийный», с белым оре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934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актическая    работ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00080" y="1071360"/>
            <a:ext cx="79344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дактическая игра «Снежный к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1000080" y="18615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alibri"/>
              </a:rPr>
              <a:t>Как маленький комочек снега превращается в большой снежный ком, так и ваша аппликация превратится в красивую законченн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000080" y="42148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83d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процессе игры нам нужно назвать последовательность выполнения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000080" y="350028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83d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имательно посмотрите на аппл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5214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2ea4"/>
                </a:solidFill>
                <a:latin typeface="Corbel"/>
              </a:rPr>
              <a:t>Описание работ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22ea4"/>
                </a:solidFill>
                <a:latin typeface="Corbel"/>
              </a:rPr>
              <a:t>Для изготовления работы  приготовь </a:t>
            </a:r>
            <a:br>
              <a:rPr sz="2000"/>
            </a:br>
            <a:r>
              <a:rPr b="0" lang="ru-RU" sz="2000" spc="-1" strike="noStrike">
                <a:solidFill>
                  <a:srgbClr val="c22ea4"/>
                </a:solidFill>
                <a:latin typeface="Corbel"/>
              </a:rPr>
              <a:t>картон, цветную бумагу,  ножницы и кле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22ea4"/>
                </a:solidFill>
                <a:latin typeface="Corbel"/>
              </a:rPr>
              <a:t>На картон  нанеси рисунок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22ea4"/>
                </a:solidFill>
                <a:latin typeface="Corbel"/>
              </a:rPr>
              <a:t> Затем  нарви (нарежь)  цветную бумагу разных цветов мелкими кусочка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22ea4"/>
                </a:solidFill>
                <a:latin typeface="Corbel"/>
              </a:rPr>
              <a:t>Нанеси на каждый элемент мозаики клей и приклей кусочки бумаги к картону. </a:t>
            </a:r>
            <a:br>
              <a:rPr sz="2000"/>
            </a:br>
            <a:endParaRPr b="0" lang="en-US" sz="20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4928760"/>
            <a:ext cx="64008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770f62"/>
              </a:solidFill>
              <a:latin typeface="Corbel"/>
            </a:endParaRPr>
          </a:p>
        </p:txBody>
      </p:sp>
      <p:pic>
        <p:nvPicPr>
          <p:cNvPr id="428" name="Picture 2" descr="&amp;Mcy;&amp;ocy;&amp;zcy;&amp;acy;&amp;icy;&amp;kcy;&amp;acy;"/>
          <p:cNvPicPr/>
          <p:nvPr/>
        </p:nvPicPr>
        <p:blipFill>
          <a:blip r:embed="rId1"/>
          <a:stretch/>
        </p:blipFill>
        <p:spPr>
          <a:xfrm>
            <a:off x="357120" y="357120"/>
            <a:ext cx="1800360" cy="1714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&amp;Mcy;&amp;ocy;&amp;zcy;&amp;acy;&amp;icy;&amp;kcy;&amp;acy;"/>
          <p:cNvPicPr/>
          <p:nvPr/>
        </p:nvPicPr>
        <p:blipFill>
          <a:blip r:embed="rId2"/>
          <a:stretch/>
        </p:blipFill>
        <p:spPr>
          <a:xfrm>
            <a:off x="357120" y="2571840"/>
            <a:ext cx="1619280" cy="1752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&amp;Mcy;&amp;ocy;&amp;zcy;&amp;acy;&amp;icy;&amp;kcy;&amp;acy;"/>
          <p:cNvPicPr/>
          <p:nvPr/>
        </p:nvPicPr>
        <p:blipFill>
          <a:blip r:embed="rId3"/>
          <a:stretch/>
        </p:blipFill>
        <p:spPr>
          <a:xfrm>
            <a:off x="7286760" y="2643120"/>
            <a:ext cx="1562040" cy="1866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&amp;Mcy;&amp;ocy;&amp;zcy;&amp;acy;&amp;icy;&amp;kcy;&amp;acy;"/>
          <p:cNvPicPr/>
          <p:nvPr/>
        </p:nvPicPr>
        <p:blipFill>
          <a:blip r:embed="rId4"/>
          <a:stretch/>
        </p:blipFill>
        <p:spPr>
          <a:xfrm>
            <a:off x="7286760" y="357120"/>
            <a:ext cx="1476360" cy="1676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&amp;Mcy;&amp;ocy;&amp;zcy;&amp;acy;&amp;icy;&amp;kcy;&amp;acy;"/>
          <p:cNvPicPr/>
          <p:nvPr/>
        </p:nvPicPr>
        <p:blipFill>
          <a:blip r:embed="rId5"/>
          <a:stretch/>
        </p:blipFill>
        <p:spPr>
          <a:xfrm>
            <a:off x="2357280" y="4857840"/>
            <a:ext cx="2533680" cy="1724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&amp;Mcy;&amp;ocy;&amp;zcy;&amp;acy;&amp;icy;&amp;kcy;&amp;acy;"/>
          <p:cNvPicPr/>
          <p:nvPr/>
        </p:nvPicPr>
        <p:blipFill>
          <a:blip r:embed="rId6"/>
          <a:stretch/>
        </p:blipFill>
        <p:spPr>
          <a:xfrm>
            <a:off x="5000760" y="4786200"/>
            <a:ext cx="1828800" cy="1762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&amp;Mcy;&amp;ocy;&amp;zcy;&amp;acy;&amp;icy;&amp;kcy;&amp;acy;"/>
          <p:cNvPicPr/>
          <p:nvPr/>
        </p:nvPicPr>
        <p:blipFill>
          <a:blip r:embed="rId7"/>
          <a:stretch/>
        </p:blipFill>
        <p:spPr>
          <a:xfrm>
            <a:off x="6929280" y="4786200"/>
            <a:ext cx="1762200" cy="17906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6" descr="&amp;Mcy;&amp;ocy;&amp;zcy;&amp;acy;&amp;icy;&amp;kcy;&amp;acy;"/>
          <p:cNvPicPr/>
          <p:nvPr/>
        </p:nvPicPr>
        <p:blipFill>
          <a:blip r:embed="rId8"/>
          <a:stretch/>
        </p:blipFill>
        <p:spPr>
          <a:xfrm>
            <a:off x="357120" y="4786200"/>
            <a:ext cx="174312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934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оверь себя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00080" y="1447920"/>
            <a:ext cx="5214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Изготовление рисунка из наклеенных или нашитых кусков цветной бумаги, матери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то означает с латинского слово «аппликация»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пределите вид аппликации: изображение предметов и их деталей крепятся на фон только частью плоскости, создавая видимость объём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акую новую технику работы с бумагой вы сегодня осваивали?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Прямоугольник 3"/>
          <p:cNvSpPr/>
          <p:nvPr/>
        </p:nvSpPr>
        <p:spPr>
          <a:xfrm>
            <a:off x="6533280" y="17146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п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6284520" y="26431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клад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5"/>
          <p:cNvSpPr/>
          <p:nvPr/>
        </p:nvSpPr>
        <p:spPr>
          <a:xfrm>
            <a:off x="6683400" y="40006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ъё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6"/>
          <p:cNvSpPr/>
          <p:nvPr/>
        </p:nvSpPr>
        <p:spPr>
          <a:xfrm>
            <a:off x="6604920" y="56437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7"/>
          <p:cNvSpPr/>
          <p:nvPr/>
        </p:nvSpPr>
        <p:spPr>
          <a:xfrm>
            <a:off x="6500880" y="1571760"/>
            <a:ext cx="2071800" cy="64296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8"/>
          <p:cNvSpPr/>
          <p:nvPr/>
        </p:nvSpPr>
        <p:spPr>
          <a:xfrm>
            <a:off x="6500880" y="2571840"/>
            <a:ext cx="2071800" cy="64296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9"/>
          <p:cNvSpPr/>
          <p:nvPr/>
        </p:nvSpPr>
        <p:spPr>
          <a:xfrm>
            <a:off x="6500880" y="3929040"/>
            <a:ext cx="2071800" cy="64296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10"/>
          <p:cNvSpPr/>
          <p:nvPr/>
        </p:nvSpPr>
        <p:spPr>
          <a:xfrm>
            <a:off x="6500880" y="5572080"/>
            <a:ext cx="2071800" cy="64296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5549E-006 L 0.50399 0.02104 E">
                                      <p:cBhvr>
                                        <p:cTn id="277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9711E-006 L 0.48819 0.03144 E">
                                      <p:cBhvr>
                                        <p:cTn id="281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4971E-006 L 0.51181 -0.08393 E">
                                      <p:cBhvr>
                                        <p:cTn id="28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3237E-006 L 0.56701 -0.11538 E">
                                      <p:cBhvr>
                                        <p:cTn id="289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Аппликация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переводе с латинского языка означает «прикладывание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ревний вид искусства, интересный вид художественной деятельности, когда из кусочков кожи, ткани или бумаги вырезают фигурки, а затем наклеивают на основу – фон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ратимся к словарю С.И. Ожегова и узнаем лексическое значение этого сло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1000080" y="214308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«Аппликация» - изготовление рисунка из наклеенных или нашитых кусков цветной бумаги, мате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право 4"/>
          <p:cNvSpPr/>
          <p:nvPr/>
        </p:nvSpPr>
        <p:spPr>
          <a:xfrm>
            <a:off x="7000920" y="5286240"/>
            <a:ext cx="57132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934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Рефлексия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годня на уроке было интересно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понял, что 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не захотелось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научился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лодцы!   Спасибо за урок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356840" y="3857760"/>
            <a:ext cx="7497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пробуй выполнить способом обрывания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цветы и укрась ими своё чудо-дерево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ре, когда на нём штиль, шторм, ряб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0" name="Picture 2" descr="http://im2-tub-ru.yandex.net/i?id=374133815-69-72"/>
          <p:cNvPicPr/>
          <p:nvPr/>
        </p:nvPicPr>
        <p:blipFill>
          <a:blip r:embed="rId1"/>
          <a:stretch/>
        </p:blipFill>
        <p:spPr>
          <a:xfrm>
            <a:off x="3929040" y="1500120"/>
            <a:ext cx="202716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Используемая литератур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Уроки творчества. Учебник дл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-го класса. - Самара: Корпорация «Федоров», Издательство «Учебная литература»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еляков Н.Д., Покровская А.И., Цейтлин Н.Е. Кружок "Умелые руки" в школе. - М.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. - с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8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огатеева З.А., Занятия аппликацией. - М.: Просвещение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Из истории аппликации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ди издавна использовали аппликацию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на появилась как способ украшени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деж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Рисунок 3" descr="http://aplikacii.ru/wp-content/uploads/2012/03/%D0%B3%D0%BE%D1%82%D0%BE%D0%B2%D0%B0%D1%8F-%D0%B0%D0%BF%D0%BF%D0%BB%D0%B8%D0%BA%D0%B0%D1%86%D0%B8%D1%8F-%D0%BC%D0%B8%D1%88%D0%BA%D0%B0-240x300.jpg"/>
          <p:cNvPicPr/>
          <p:nvPr/>
        </p:nvPicPr>
        <p:blipFill>
          <a:blip r:embed="rId1"/>
          <a:stretch/>
        </p:blipFill>
        <p:spPr>
          <a:xfrm rot="21271800">
            <a:off x="1642680" y="3285720"/>
            <a:ext cx="250020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9" name="Рисунок 4" descr="http://forum.sibmama.ru/usrpx/18757/18757_337x456_1_3.jpg"/>
          <p:cNvPicPr/>
          <p:nvPr/>
        </p:nvPicPr>
        <p:blipFill>
          <a:blip r:embed="rId2"/>
          <a:stretch/>
        </p:blipFill>
        <p:spPr>
          <a:xfrm rot="300000">
            <a:off x="5500440" y="3357720"/>
            <a:ext cx="2500200" cy="307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71360" y="499680"/>
            <a:ext cx="74977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ув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http://s39.radikal.ru/i083/0906/cc/c6baef848d72.jpg"/>
          <p:cNvPicPr/>
          <p:nvPr/>
        </p:nvPicPr>
        <p:blipFill>
          <a:blip r:embed="rId1"/>
          <a:stretch/>
        </p:blipFill>
        <p:spPr>
          <a:xfrm>
            <a:off x="1571760" y="2214720"/>
            <a:ext cx="250020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2" name="Рисунок 4" descr="http://is.adlabs-retail.ru/images/o/350/532615_4009.jpg"/>
          <p:cNvPicPr/>
          <p:nvPr/>
        </p:nvPicPr>
        <p:blipFill>
          <a:blip r:embed="rId2"/>
          <a:stretch/>
        </p:blipFill>
        <p:spPr>
          <a:xfrm>
            <a:off x="4500720" y="214200"/>
            <a:ext cx="250020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3" name="Рисунок 5" descr="http://is.adlabs-retail.ru/images/o/350/538827_793.jpg"/>
          <p:cNvPicPr/>
          <p:nvPr/>
        </p:nvPicPr>
        <p:blipFill>
          <a:blip r:embed="rId3"/>
          <a:stretch/>
        </p:blipFill>
        <p:spPr>
          <a:xfrm>
            <a:off x="6286680" y="3357720"/>
            <a:ext cx="257148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00080" y="356760"/>
            <a:ext cx="79344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машней утвари и орудий труда, интерьера своего жилищ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Рисунок 3" descr="http://img1.liveinternet.ru/images/attach/c/4/81/369/81369445_ven.jpg"/>
          <p:cNvPicPr/>
          <p:nvPr/>
        </p:nvPicPr>
        <p:blipFill>
          <a:blip r:embed="rId1"/>
          <a:stretch/>
        </p:blipFill>
        <p:spPr>
          <a:xfrm rot="21300000">
            <a:off x="1428480" y="2071800"/>
            <a:ext cx="278604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6" name="Рисунок 4" descr="http://img0.liveinternet.ru/images/attach/c/2/72/938/72938252_2656788770_d95a636c84_o.jpg"/>
          <p:cNvPicPr/>
          <p:nvPr/>
        </p:nvPicPr>
        <p:blipFill>
          <a:blip r:embed="rId2"/>
          <a:stretch/>
        </p:blipFill>
        <p:spPr>
          <a:xfrm rot="300000">
            <a:off x="5357520" y="2143080"/>
            <a:ext cx="300024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209600" y="642960"/>
            <a:ext cx="79344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ликацией из войлока древние кочевники украшали дорожные сумки, конскую сбрую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3" descr="C:\Documents and Settings\Admin\Рабочий стол\Pazyryk_felt_carpetPazirikskii_fetrovii_kover_V_vek_do_n_e.jpg"/>
          <p:cNvPicPr/>
          <p:nvPr/>
        </p:nvPicPr>
        <p:blipFill>
          <a:blip r:embed="rId1"/>
          <a:stretch/>
        </p:blipFill>
        <p:spPr>
          <a:xfrm>
            <a:off x="2428920" y="2143080"/>
            <a:ext cx="48308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00080" y="857160"/>
            <a:ext cx="79344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ители Севера на своих юртах выполняли аппликацию из берес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http://im6-tub-ru.yandex.net/i?id=483339230-50-72"/>
          <p:cNvPicPr/>
          <p:nvPr/>
        </p:nvPicPr>
        <p:blipFill>
          <a:blip r:embed="rId1"/>
          <a:stretch/>
        </p:blipFill>
        <p:spPr>
          <a:xfrm>
            <a:off x="3357720" y="2286000"/>
            <a:ext cx="2624040" cy="32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00080" y="928440"/>
            <a:ext cx="7934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енские татарские сапоги украшали аппликацией из цветной кож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Рисунок 3" descr="C:\Documents and Settings\Admin\Рабочий стол\sapogi-zh-tatarskie.jpg"/>
          <p:cNvPicPr/>
          <p:nvPr/>
        </p:nvPicPr>
        <p:blipFill>
          <a:blip r:embed="rId1"/>
          <a:stretch/>
        </p:blipFill>
        <p:spPr>
          <a:xfrm rot="21300000">
            <a:off x="1644480" y="2390400"/>
            <a:ext cx="2571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3" name="Рисунок 4" descr="http://im8-tub-ru.yandex.net/i?id=457411656-36-72"/>
          <p:cNvPicPr/>
          <p:nvPr/>
        </p:nvPicPr>
        <p:blipFill>
          <a:blip r:embed="rId2"/>
          <a:stretch/>
        </p:blipFill>
        <p:spPr>
          <a:xfrm rot="300000">
            <a:off x="5214960" y="2357280"/>
            <a:ext cx="2571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17:20:39Z</dcterms:created>
  <dc:creator>Admin</dc:creator>
  <dc:description/>
  <dc:language>en-US</dc:language>
  <cp:lastModifiedBy>Юра</cp:lastModifiedBy>
  <dcterms:modified xsi:type="dcterms:W3CDTF">2013-02-04T14:08:32Z</dcterms:modified>
  <cp:revision>91</cp:revision>
  <dc:subject/>
  <dc:title>Слайд 1</dc:title>
</cp:coreProperties>
</file>