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gif" ContentType="image/gif"/>
  <Override PartName="/ppt/media/image1.png" ContentType="image/png"/>
  <Override PartName="/ppt/media/image14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5DF9-8FEE-4BBA-A898-19D6048A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BB6C-53AA-4A8B-813D-F8D073E4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6A64-ECD4-4BF8-96BB-CDE96EBA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1093-BC85-4207-A6C0-C84B47F7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22BE-2D1B-4F00-935F-9F16FF01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5BBD-9D63-497A-A8E7-2DA3565F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746-DB3A-4E06-B6C6-C8C98767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84B-735A-4483-A009-4883F5B8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8E8A-320E-4C61-9C25-E0AC47E0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E49-66E7-4F82-B034-9D1AFE2C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FA2-1B66-43B8-B36B-55DA7CA2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FBFB-1803-4F67-B1D6-D223B32F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8E8A-ECC2-4480-BA43-74D717F465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Густова Ольга Александро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99"/>
                </a:solidFill>
                <a:latin typeface="Arial"/>
              </a:rPr>
              <a:t>Кодирование растровой графической информации в десятичной системе счисления</a:t>
            </a:r>
            <a:endParaRPr b="0" lang="en-US" sz="35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4360" y="1844640"/>
          <a:ext cx="4319280" cy="4846680"/>
        </p:xfrm>
        <a:graphic>
          <a:graphicData uri="http://schemas.openxmlformats.org/drawingml/2006/table">
            <a:tbl>
              <a:tblPr/>
              <a:tblGrid>
                <a:gridCol w="2087280"/>
                <a:gridCol w="22320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Десятичный к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Двоичный к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000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00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0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1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111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1111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0001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0001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0001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0001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111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Picture 43" descr=""/>
          <p:cNvPicPr/>
          <p:nvPr/>
        </p:nvPicPr>
        <p:blipFill>
          <a:blip r:embed="rId1"/>
          <a:stretch/>
        </p:blipFill>
        <p:spPr>
          <a:xfrm>
            <a:off x="5148360" y="2781360"/>
            <a:ext cx="3744720" cy="3270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2" descr=""/>
          <p:cNvPicPr/>
          <p:nvPr/>
        </p:nvPicPr>
        <p:blipFill>
          <a:blip r:embed="rId2"/>
          <a:stretch/>
        </p:blipFill>
        <p:spPr>
          <a:xfrm>
            <a:off x="5148360" y="2708280"/>
            <a:ext cx="3751200" cy="332424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45"/>
          <p:cNvSpPr/>
          <p:nvPr/>
        </p:nvSpPr>
        <p:spPr>
          <a:xfrm>
            <a:off x="5584680" y="1730520"/>
            <a:ext cx="3019680" cy="403200"/>
          </a:xfrm>
          <a:prstGeom prst="borderCallout1">
            <a:avLst>
              <a:gd name="adj1" fmla="val 18750"/>
              <a:gd name="adj2" fmla="val -8333"/>
              <a:gd name="adj3" fmla="val 221259"/>
              <a:gd name="adj4" fmla="val -6487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Незначащие ну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46"/>
          <p:cNvSpPr/>
          <p:nvPr/>
        </p:nvSpPr>
        <p:spPr>
          <a:xfrm>
            <a:off x="0" y="1197000"/>
            <a:ext cx="68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015F-8AB1-420E-9689-AB5EAAD9AC02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Густова Ольга Александро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РТ: №39 (1), стр. 31.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 десятичных кодов перейдите к двоичным и нарисуйте соответствующие им черно-белые изображения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1697040"/>
          <a:ext cx="8856720" cy="4971960"/>
        </p:xfrm>
        <a:graphic>
          <a:graphicData uri="http://schemas.openxmlformats.org/drawingml/2006/table">
            <a:tbl>
              <a:tblPr/>
              <a:tblGrid>
                <a:gridCol w="1728720"/>
                <a:gridCol w="2159280"/>
                <a:gridCol w="620640"/>
                <a:gridCol w="620640"/>
                <a:gridCol w="620640"/>
                <a:gridCol w="622440"/>
                <a:gridCol w="620640"/>
                <a:gridCol w="620640"/>
                <a:gridCol w="621000"/>
                <a:gridCol w="6220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Десятич-ный к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Двоичный к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Рисун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 Box 115"/>
          <p:cNvSpPr/>
          <p:nvPr/>
        </p:nvSpPr>
        <p:spPr>
          <a:xfrm>
            <a:off x="0" y="1197000"/>
            <a:ext cx="68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5DD8-5278-477A-89A7-BD28C246F615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16"/>
          <p:cNvSpPr/>
          <p:nvPr/>
        </p:nvSpPr>
        <p:spPr>
          <a:xfrm>
            <a:off x="1908000" y="249228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000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1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17"/>
          <p:cNvSpPr/>
          <p:nvPr/>
        </p:nvSpPr>
        <p:spPr>
          <a:xfrm>
            <a:off x="1908000" y="299736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000000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18"/>
          <p:cNvSpPr/>
          <p:nvPr/>
        </p:nvSpPr>
        <p:spPr>
          <a:xfrm>
            <a:off x="1908000" y="357336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00000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19"/>
          <p:cNvSpPr/>
          <p:nvPr/>
        </p:nvSpPr>
        <p:spPr>
          <a:xfrm>
            <a:off x="1908000" y="407664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0000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20"/>
          <p:cNvSpPr/>
          <p:nvPr/>
        </p:nvSpPr>
        <p:spPr>
          <a:xfrm>
            <a:off x="1908000" y="46465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000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21"/>
          <p:cNvSpPr/>
          <p:nvPr/>
        </p:nvSpPr>
        <p:spPr>
          <a:xfrm>
            <a:off x="1908000" y="51577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00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22"/>
          <p:cNvSpPr/>
          <p:nvPr/>
        </p:nvSpPr>
        <p:spPr>
          <a:xfrm>
            <a:off x="1908000" y="566100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0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23"/>
          <p:cNvSpPr/>
          <p:nvPr/>
        </p:nvSpPr>
        <p:spPr>
          <a:xfrm>
            <a:off x="1908000" y="623088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0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Густова Ольга Александро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РТ: №39 (1), стр. 31.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 десятичных кодов перейдите к двоичным и нарисуйте соответствующие им черно-белые изображения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79280" y="1697040"/>
          <a:ext cx="8856720" cy="4971960"/>
        </p:xfrm>
        <a:graphic>
          <a:graphicData uri="http://schemas.openxmlformats.org/drawingml/2006/table">
            <a:tbl>
              <a:tblPr/>
              <a:tblGrid>
                <a:gridCol w="1728720"/>
                <a:gridCol w="2159280"/>
                <a:gridCol w="620640"/>
                <a:gridCol w="620640"/>
                <a:gridCol w="620640"/>
                <a:gridCol w="622440"/>
                <a:gridCol w="620640"/>
                <a:gridCol w="620640"/>
                <a:gridCol w="621000"/>
                <a:gridCol w="6220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Десятич-ный к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Двоичный к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Рисун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00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00000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0000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000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00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0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115"/>
          <p:cNvSpPr/>
          <p:nvPr/>
        </p:nvSpPr>
        <p:spPr>
          <a:xfrm>
            <a:off x="0" y="1197000"/>
            <a:ext cx="68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61DA-C28C-4E86-A2BC-0D384682437C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Густова Ольга Александро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Растровое кодирование цветных изображений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2701800" cy="2951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rcRect l="19148" t="18013" r="5390" b="8179"/>
          <a:stretch/>
        </p:blipFill>
        <p:spPr>
          <a:xfrm>
            <a:off x="3564000" y="3429000"/>
            <a:ext cx="5325840" cy="325908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10"/>
          <p:cNvGrpSpPr/>
          <p:nvPr/>
        </p:nvGrpSpPr>
        <p:grpSpPr>
          <a:xfrm>
            <a:off x="468360" y="5877000"/>
            <a:ext cx="2808360" cy="792000"/>
            <a:chOff x="468360" y="5877000"/>
            <a:chExt cx="2808360" cy="792000"/>
          </a:xfrm>
        </p:grpSpPr>
        <p:sp>
          <p:nvSpPr>
            <p:cNvPr id="108" name="AutoShape 8"/>
            <p:cNvSpPr/>
            <p:nvPr/>
          </p:nvSpPr>
          <p:spPr>
            <a:xfrm>
              <a:off x="468360" y="5877000"/>
              <a:ext cx="2808360" cy="792000"/>
            </a:xfrm>
            <a:prstGeom prst="wedgeRoundRectCallout">
              <a:avLst>
                <a:gd name="adj1" fmla="val 63060"/>
                <a:gd name="adj2" fmla="val -154009"/>
                <a:gd name="adj3" fmla="val 16667"/>
              </a:avLst>
            </a:prstGeom>
            <a:solidFill>
              <a:srgbClr val="0064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AutoShape 9"/>
            <p:cNvSpPr/>
            <p:nvPr/>
          </p:nvSpPr>
          <p:spPr>
            <a:xfrm>
              <a:off x="468360" y="5877000"/>
              <a:ext cx="2808360" cy="792000"/>
            </a:xfrm>
            <a:prstGeom prst="wedgeRoundRectCallout">
              <a:avLst>
                <a:gd name="adj1" fmla="val 64074"/>
                <a:gd name="adj2" fmla="val -109717"/>
                <a:gd name="adj3" fmla="val 16667"/>
              </a:avLst>
            </a:prstGeom>
            <a:solidFill>
              <a:srgbClr val="0064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Пиксели разных цвето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Text Box 13"/>
          <p:cNvSpPr/>
          <p:nvPr/>
        </p:nvSpPr>
        <p:spPr>
          <a:xfrm>
            <a:off x="0" y="1197000"/>
            <a:ext cx="68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4815-63CD-47F2-B020-9FFB96CCB635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Густова Ольга Александро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Растровое кодирование цветных изображений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1827360"/>
            <a:ext cx="7993080" cy="20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ждый пиксель имеет цве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е цвета можно пронумеровать, а каждый номер перевести в двоичный к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1847880" cy="2017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2"/>
          <a:srcRect l="19148" t="18013" r="5390" b="8179"/>
          <a:stretch/>
        </p:blipFill>
        <p:spPr>
          <a:xfrm>
            <a:off x="3564000" y="3429000"/>
            <a:ext cx="5327640" cy="326088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8"/>
          <p:cNvSpPr/>
          <p:nvPr/>
        </p:nvSpPr>
        <p:spPr>
          <a:xfrm>
            <a:off x="468360" y="5877000"/>
            <a:ext cx="2808360" cy="792000"/>
          </a:xfrm>
          <a:prstGeom prst="wedgeRoundRectCallout">
            <a:avLst>
              <a:gd name="adj1" fmla="val 63060"/>
              <a:gd name="adj2" fmla="val -154009"/>
              <a:gd name="adj3" fmla="val 16667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468360" y="5877000"/>
            <a:ext cx="2808360" cy="792000"/>
          </a:xfrm>
          <a:prstGeom prst="wedgeRoundRectCallout">
            <a:avLst>
              <a:gd name="adj1" fmla="val 64074"/>
              <a:gd name="adj2" fmla="val -109717"/>
              <a:gd name="adj3" fmla="val 16667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Пиксели разных цве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Густова Ольга Александро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Палитра современных компьютеров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84360" y="1557360"/>
            <a:ext cx="845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Более 16 миллионов цветовых оттенков (16 777 21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Wingdings"/>
                <a:ea typeface="Wingdings"/>
              </a:rPr>
              <a:t>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84360" y="2421000"/>
            <a:ext cx="84596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Черно-белое изображение: 1 бит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Каждый пиксель кодируется цепочкой из 24 нулей и единиц (24 бита)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Wingdings"/>
                <a:ea typeface="Wingdings"/>
              </a:rPr>
              <a:t>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84360" y="3933720"/>
            <a:ext cx="8459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Различные оттенки получаются из смешения в определенных пропорциях трех цветов: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красного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,  </a:t>
            </a: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зеленого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синего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11000101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01000111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01111111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палитра"/>
          <p:cNvPicPr/>
          <p:nvPr/>
        </p:nvPicPr>
        <p:blipFill>
          <a:blip r:embed="rId1"/>
          <a:stretch/>
        </p:blipFill>
        <p:spPr>
          <a:xfrm>
            <a:off x="179280" y="4508640"/>
            <a:ext cx="2521080" cy="14349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684360" y="595008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Каждый цвет позволяет закодировать 256 различных оттенков: 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256*256*256= </a:t>
            </a: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16 777 2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0" y="1197000"/>
            <a:ext cx="68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399D-C890-4779-93D0-F6711CAA8F8B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2" descr="1-0-мигающие"/>
          <p:cNvPicPr/>
          <p:nvPr/>
        </p:nvPicPr>
        <p:blipFill>
          <a:blip r:embed="rId2"/>
          <a:stretch/>
        </p:blipFill>
        <p:spPr>
          <a:xfrm>
            <a:off x="7667640" y="234936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Густова Ольга Александро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Компьютерный эксперимент в программе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Pain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1197000"/>
            <a:ext cx="68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AC55-D84C-4086-AE83-1A92526482F3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993080" cy="487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Густова Ольга Александро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Результаты эксперимен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42920" y="1844640"/>
          <a:ext cx="7848720" cy="4724280"/>
        </p:xfrm>
        <a:graphic>
          <a:graphicData uri="http://schemas.openxmlformats.org/drawingml/2006/table">
            <a:tbl>
              <a:tblPr/>
              <a:tblGrid>
                <a:gridCol w="1871640"/>
                <a:gridCol w="1871640"/>
                <a:gridCol w="1871640"/>
                <a:gridCol w="2233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Крас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Зеле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Си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Цв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71"/>
          <p:cNvSpPr/>
          <p:nvPr/>
        </p:nvSpPr>
        <p:spPr>
          <a:xfrm>
            <a:off x="0" y="1197000"/>
            <a:ext cx="68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2691-B907-4D9C-B696-6DF5C43A94CE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72"/>
          <p:cNvSpPr/>
          <p:nvPr/>
        </p:nvSpPr>
        <p:spPr>
          <a:xfrm>
            <a:off x="6659640" y="234144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Чер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3"/>
          <p:cNvSpPr/>
          <p:nvPr/>
        </p:nvSpPr>
        <p:spPr>
          <a:xfrm>
            <a:off x="6659640" y="285264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Си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74"/>
          <p:cNvSpPr/>
          <p:nvPr/>
        </p:nvSpPr>
        <p:spPr>
          <a:xfrm>
            <a:off x="6659640" y="32446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Зеле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75"/>
          <p:cNvSpPr/>
          <p:nvPr/>
        </p:nvSpPr>
        <p:spPr>
          <a:xfrm>
            <a:off x="6659640" y="37162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Сер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6"/>
          <p:cNvSpPr/>
          <p:nvPr/>
        </p:nvSpPr>
        <p:spPr>
          <a:xfrm>
            <a:off x="6659640" y="42210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Крас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77"/>
          <p:cNvSpPr/>
          <p:nvPr/>
        </p:nvSpPr>
        <p:spPr>
          <a:xfrm>
            <a:off x="6659640" y="47242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Голуб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78"/>
          <p:cNvSpPr/>
          <p:nvPr/>
        </p:nvSpPr>
        <p:spPr>
          <a:xfrm>
            <a:off x="6659640" y="522936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озо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79"/>
          <p:cNvSpPr/>
          <p:nvPr/>
        </p:nvSpPr>
        <p:spPr>
          <a:xfrm>
            <a:off x="6659640" y="56610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Желт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80"/>
          <p:cNvSpPr/>
          <p:nvPr/>
        </p:nvSpPr>
        <p:spPr>
          <a:xfrm>
            <a:off x="6659640" y="60930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Бел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Густова Ольга Александро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2"/>
          <p:cNvSpPr/>
          <p:nvPr/>
        </p:nvSpPr>
        <p:spPr>
          <a:xfrm>
            <a:off x="2268360" y="1844640"/>
            <a:ext cx="47516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Выводы по эксперименту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3419640" y="2852640"/>
            <a:ext cx="2304720" cy="244800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Rectangle 9220" descr=""/>
          <p:cNvPicPr/>
          <p:nvPr/>
        </p:nvPicPr>
        <p:blipFill>
          <a:blip r:embed="rId1"/>
          <a:stretch/>
        </p:blipFill>
        <p:spPr>
          <a:xfrm>
            <a:off x="2268360" y="1844640"/>
            <a:ext cx="4762800" cy="47624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9221"/>
          <p:cNvSpPr/>
          <p:nvPr/>
        </p:nvSpPr>
        <p:spPr>
          <a:xfrm rot="17812200">
            <a:off x="1880280" y="2783520"/>
            <a:ext cx="2408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Красный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9222"/>
          <p:cNvSpPr/>
          <p:nvPr/>
        </p:nvSpPr>
        <p:spPr>
          <a:xfrm>
            <a:off x="3203640" y="5157720"/>
            <a:ext cx="28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Зеленый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9223"/>
          <p:cNvSpPr/>
          <p:nvPr/>
        </p:nvSpPr>
        <p:spPr>
          <a:xfrm rot="3427800">
            <a:off x="5119200" y="2670480"/>
            <a:ext cx="2162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Синий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9224"/>
          <p:cNvSpPr/>
          <p:nvPr/>
        </p:nvSpPr>
        <p:spPr>
          <a:xfrm>
            <a:off x="6877080" y="5734080"/>
            <a:ext cx="226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лубой (бирюзовый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Straight Connector 9225"/>
          <p:cNvSpPr/>
          <p:nvPr/>
        </p:nvSpPr>
        <p:spPr>
          <a:xfrm flipH="1" flipV="1">
            <a:off x="5580000" y="4581360"/>
            <a:ext cx="2376720" cy="1224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9226"/>
          <p:cNvSpPr/>
          <p:nvPr/>
        </p:nvSpPr>
        <p:spPr>
          <a:xfrm>
            <a:off x="179280" y="544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Желтый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9228"/>
          <p:cNvSpPr/>
          <p:nvPr/>
        </p:nvSpPr>
        <p:spPr>
          <a:xfrm rot="19300800">
            <a:off x="-170280" y="3153960"/>
            <a:ext cx="23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урпурный (розовый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Straight Connector 9229"/>
          <p:cNvSpPr/>
          <p:nvPr/>
        </p:nvSpPr>
        <p:spPr>
          <a:xfrm flipV="1">
            <a:off x="1187280" y="2997000"/>
            <a:ext cx="2953080" cy="1152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9230"/>
          <p:cNvSpPr/>
          <p:nvPr/>
        </p:nvSpPr>
        <p:spPr>
          <a:xfrm rot="921000">
            <a:off x="7163640" y="2060280"/>
            <a:ext cx="17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Белы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Straight Connector 9231"/>
          <p:cNvSpPr/>
          <p:nvPr/>
        </p:nvSpPr>
        <p:spPr>
          <a:xfrm flipH="1">
            <a:off x="4572000" y="2637000"/>
            <a:ext cx="3240000" cy="1439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Straight Connector 9232"/>
          <p:cNvSpPr/>
          <p:nvPr/>
        </p:nvSpPr>
        <p:spPr>
          <a:xfrm flipV="1">
            <a:off x="1116000" y="4581000"/>
            <a:ext cx="2448000" cy="1008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0" y="1197000"/>
            <a:ext cx="68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C11D-E893-4064-8298-2B51AB0F21E3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Густова Ольга Александро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Давайте обсудим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827360"/>
            <a:ext cx="792144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24880" indent="-524880" algn="just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ко бит необходимо для кодирования черно-белого изображ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4880" indent="-524880" algn="just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 бит мы используем для коди-рования цветного изображ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4880" indent="-524880" algn="just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ко цветов и оттенков поддерживает современный компьютер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4880" indent="-524880" algn="just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основные цвета использует ком-пьютер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4880" indent="-524880" algn="just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в программ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лучить любой оттено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Густова Ольга Александро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Виды компьютерной график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755640" y="5516640"/>
            <a:ext cx="3579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buClr>
                <a:srgbClr val="ffff9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Растровое изображени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4932360" y="5516640"/>
            <a:ext cx="3581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buClr>
                <a:srgbClr val="ffff9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Векторное изображени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18" descr="japanese-car"/>
          <p:cNvPicPr/>
          <p:nvPr/>
        </p:nvPicPr>
        <p:blipFill>
          <a:blip r:embed="rId1"/>
          <a:stretch/>
        </p:blipFill>
        <p:spPr>
          <a:xfrm>
            <a:off x="900000" y="2492280"/>
            <a:ext cx="3384720" cy="244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9" descr="карандаш"/>
          <p:cNvPicPr/>
          <p:nvPr/>
        </p:nvPicPr>
        <p:blipFill>
          <a:blip r:embed="rId2"/>
          <a:stretch/>
        </p:blipFill>
        <p:spPr>
          <a:xfrm>
            <a:off x="2340000" y="2421000"/>
            <a:ext cx="500040" cy="44748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20"/>
          <p:cNvSpPr/>
          <p:nvPr/>
        </p:nvSpPr>
        <p:spPr>
          <a:xfrm>
            <a:off x="5076720" y="3213000"/>
            <a:ext cx="3273480" cy="1381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21"/>
          <p:cNvSpPr/>
          <p:nvPr/>
        </p:nvSpPr>
        <p:spPr>
          <a:xfrm>
            <a:off x="5869080" y="2205000"/>
            <a:ext cx="2011320" cy="114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22"/>
          <p:cNvSpPr/>
          <p:nvPr/>
        </p:nvSpPr>
        <p:spPr>
          <a:xfrm>
            <a:off x="6373800" y="2421000"/>
            <a:ext cx="1028880" cy="79200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al 23"/>
          <p:cNvSpPr/>
          <p:nvPr/>
        </p:nvSpPr>
        <p:spPr>
          <a:xfrm>
            <a:off x="5364000" y="4149720"/>
            <a:ext cx="9352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Oval 24"/>
          <p:cNvSpPr/>
          <p:nvPr/>
        </p:nvSpPr>
        <p:spPr>
          <a:xfrm>
            <a:off x="7237440" y="4149720"/>
            <a:ext cx="9349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8"/>
          <p:cNvSpPr/>
          <p:nvPr/>
        </p:nvSpPr>
        <p:spPr>
          <a:xfrm>
            <a:off x="0" y="1197000"/>
            <a:ext cx="4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0857-2C24-4EE9-96AA-0F3FB5F78342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Густова Ольга Александро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4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-0.00046 C 0.05903 0.00278 0.11597 0.00833 0.11597 0.01829 C 0.11597 0.03009 0.05903 0.03449 2.77778E-007 0.03819 C -0.06563 0.04329 -0.1309 0.04722 -0.1309 0.06018 C -0.1309 0.07153 -0.06563 0.07546 2.77778E-007 0.08102 C 0.05903 0.08333 0.11597 0.08866 0.11597 0.10046 C 0.11597 0.11041 0.05903 0.11597 2.77778E-007 0.11991 C -0.06563 0.12384 -0.1309 0.12916 -0.1309 0.14051 C -0.1309 0.15254 2.77777999999952E-007 0.16157 -0.00052 0.16157 C 0.05903 0.16551 0.11597 0.16967 0.11597 0.18102 C 0.11597 0.19259 0.05903 0.19676 2.77778E-007 0.20046 C -0.06563 0.20602 -0.1309 0.20972 -0.1309 0.22268 C -0.1309 0.23426 -0.06563 0.23819 2.77778E-007 0.2419 C 0.05903 0.24699 0.11597 0.25092 0.11597 0.26273 C 0.11597 0.27291 0.05903 0.27801 2.77778E-007 0.28194 C -0.06563 0.28588 -0.1309 0.2912 -0.1309 0.30301 C -0.1309 0.31435 -0.06563 0.31829 2.77778E-007 0.3243 E">
                                      <p:cBhvr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Домашнее задание: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39280" y="3360600"/>
            <a:ext cx="8145720" cy="19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§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3. (стр. 23-25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Т: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№39 (2, стр. 31)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8 (стр. 30-31);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0" y="1197000"/>
            <a:ext cx="68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F4CC-9486-4B70-A6C4-C2C30B82D2EC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Густова Ольга Александро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РТ: №39 (2), стр. 31.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 десятичных кодов перейдите к двоичным и нарисуйте соответствующие им черно-белые изображения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79280" y="1697040"/>
          <a:ext cx="8856720" cy="4971960"/>
        </p:xfrm>
        <a:graphic>
          <a:graphicData uri="http://schemas.openxmlformats.org/drawingml/2006/table">
            <a:tbl>
              <a:tblPr/>
              <a:tblGrid>
                <a:gridCol w="1728720"/>
                <a:gridCol w="2159280"/>
                <a:gridCol w="620640"/>
                <a:gridCol w="620640"/>
                <a:gridCol w="620640"/>
                <a:gridCol w="622440"/>
                <a:gridCol w="620640"/>
                <a:gridCol w="620640"/>
                <a:gridCol w="621000"/>
                <a:gridCol w="6220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Десятич-ный к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Двоичный к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Рисун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51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51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25"/>
          <p:cNvSpPr/>
          <p:nvPr/>
        </p:nvSpPr>
        <p:spPr>
          <a:xfrm>
            <a:off x="0" y="1197000"/>
            <a:ext cx="68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DF6F-484F-4788-A9CD-A29BA6032956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Густова Ольга Александро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РТ: №38, стр. 30-3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думайте и нарисуйте простые черно-белые картинки (закрасьте клетки) и запишите их двоичные коды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84360" y="1827360"/>
          <a:ext cx="8135640" cy="4770360"/>
        </p:xfrm>
        <a:graphic>
          <a:graphicData uri="http://schemas.openxmlformats.org/drawingml/2006/table">
            <a:tbl>
              <a:tblPr/>
              <a:tblGrid>
                <a:gridCol w="3166920"/>
                <a:gridCol w="620640"/>
                <a:gridCol w="620640"/>
                <a:gridCol w="621000"/>
                <a:gridCol w="622080"/>
                <a:gridCol w="620640"/>
                <a:gridCol w="621000"/>
                <a:gridCol w="620640"/>
                <a:gridCol w="62208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Двоичный к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Рисуно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105"/>
          <p:cNvSpPr/>
          <p:nvPr/>
        </p:nvSpPr>
        <p:spPr>
          <a:xfrm>
            <a:off x="0" y="1197000"/>
            <a:ext cx="611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FE71-9EF7-4F62-B5D7-108315CFC6B9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Густова Ольга Александро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215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Растровое кодирование графической информации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42880" y="3428640"/>
            <a:ext cx="31291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C9B5-1162-48C8-8EFF-0AAD6AE9C204}" type="datetime">
              <a:rPr b="1" lang="en-US" sz="3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10"/>
          <p:cNvPicPr/>
          <p:nvPr/>
        </p:nvPicPr>
        <p:blipFill>
          <a:blip r:embed="rId1"/>
          <a:srcRect l="30796" t="8546" r="29608" b="7410"/>
          <a:stretch/>
        </p:blipFill>
        <p:spPr>
          <a:xfrm>
            <a:off x="5076720" y="2608200"/>
            <a:ext cx="3122640" cy="4249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0" y="1197000"/>
            <a:ext cx="4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946A-26D7-4AFB-82D4-C6468B05CDCF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Густова Ольга Александро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99640" y="1827360"/>
            <a:ext cx="778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накомство с принципами кодирования черно-белых и цветных растровых изображений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1197000"/>
            <a:ext cx="4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AAB9-3869-407D-B5BD-3CA8C88E55E0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Густова Ольга Александро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6"/>
          <p:cNvSpPr/>
          <p:nvPr/>
        </p:nvSpPr>
        <p:spPr>
          <a:xfrm>
            <a:off x="0" y="1197000"/>
            <a:ext cx="4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5E75-380A-409E-B8AA-EC064879AD67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1" descr="машинка копия"/>
          <p:cNvPicPr/>
          <p:nvPr/>
        </p:nvPicPr>
        <p:blipFill>
          <a:blip r:embed="rId1"/>
          <a:stretch/>
        </p:blipFill>
        <p:spPr>
          <a:xfrm>
            <a:off x="647640" y="1773360"/>
            <a:ext cx="7848720" cy="4949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574560" y="1773360"/>
            <a:ext cx="7993080" cy="49352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71280" y="189000"/>
            <a:ext cx="637236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Черно-белое изображени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3" name="Picture 4" descr="машинка копия"/>
          <p:cNvPicPr/>
          <p:nvPr/>
        </p:nvPicPr>
        <p:blipFill>
          <a:blip r:embed="rId3"/>
          <a:stretch/>
        </p:blipFill>
        <p:spPr>
          <a:xfrm>
            <a:off x="34920" y="0"/>
            <a:ext cx="2771640" cy="17478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3851280" y="692280"/>
            <a:ext cx="4249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0 – белый цве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 – черный цв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4"/>
          <a:stretch/>
        </p:blipFill>
        <p:spPr>
          <a:xfrm>
            <a:off x="611280" y="1773360"/>
            <a:ext cx="7921440" cy="4948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5"/>
          <a:srcRect l="0" t="0" r="0" b="94184"/>
          <a:stretch/>
        </p:blipFill>
        <p:spPr>
          <a:xfrm>
            <a:off x="539640" y="1484280"/>
            <a:ext cx="7993080" cy="287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"/>
          <p:cNvPicPr/>
          <p:nvPr/>
        </p:nvPicPr>
        <p:blipFill>
          <a:blip r:embed="rId6"/>
          <a:srcRect l="0" t="5822" r="0" b="88332"/>
          <a:stretch/>
        </p:blipFill>
        <p:spPr>
          <a:xfrm>
            <a:off x="539640" y="1773360"/>
            <a:ext cx="7993080" cy="28872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5"/>
          <p:cNvSpPr/>
          <p:nvPr/>
        </p:nvSpPr>
        <p:spPr>
          <a:xfrm>
            <a:off x="1403280" y="2205000"/>
            <a:ext cx="5400720" cy="3456000"/>
          </a:xfrm>
          <a:prstGeom prst="foldedCorner">
            <a:avLst>
              <a:gd name="adj" fmla="val 12500"/>
            </a:avLst>
          </a:prstGeom>
          <a:solidFill>
            <a:srgbClr val="6d6fc7">
              <a:alpha val="9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Пиксель –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минимальный элемент растрового изображения (точка), которому можно задать цвет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Густова Ольга Александро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РТ: №37, стр. 29-30.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рисуйте черно-белые изображения, которым будут соответствовать двоичные коды (закрасьте клетки с единицами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4360" y="1827360"/>
          <a:ext cx="8135640" cy="4770360"/>
        </p:xfrm>
        <a:graphic>
          <a:graphicData uri="http://schemas.openxmlformats.org/drawingml/2006/table">
            <a:tbl>
              <a:tblPr/>
              <a:tblGrid>
                <a:gridCol w="3166920"/>
                <a:gridCol w="620640"/>
                <a:gridCol w="620640"/>
                <a:gridCol w="621000"/>
                <a:gridCol w="622080"/>
                <a:gridCol w="620640"/>
                <a:gridCol w="621000"/>
                <a:gridCol w="620640"/>
                <a:gridCol w="62208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Двоичный к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Рисуно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11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1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001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001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1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11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330"/>
          <p:cNvSpPr/>
          <p:nvPr/>
        </p:nvSpPr>
        <p:spPr>
          <a:xfrm>
            <a:off x="0" y="1197000"/>
            <a:ext cx="4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CC1D-2B1E-418B-A2A9-0D85012AFDD5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Густова Ольга Александро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РТ: №37, стр. 29.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рисуйте черно-белые изображения, которым будут соответствовать двоичные коды (закрасьте клетки с единицами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Text Box 126"/>
          <p:cNvSpPr/>
          <p:nvPr/>
        </p:nvSpPr>
        <p:spPr>
          <a:xfrm>
            <a:off x="0" y="1197000"/>
            <a:ext cx="4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2B82-F771-4B02-98FE-4902C1E0B0C5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135" descr=""/>
          <p:cNvPicPr/>
          <p:nvPr/>
        </p:nvPicPr>
        <p:blipFill>
          <a:blip r:embed="rId1"/>
          <a:stretch/>
        </p:blipFill>
        <p:spPr>
          <a:xfrm>
            <a:off x="266760" y="1773360"/>
            <a:ext cx="430524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6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224600" cy="406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Густова Ольга Александро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99"/>
                </a:solidFill>
                <a:latin typeface="Arial"/>
              </a:rPr>
              <a:t>Кодирование растровой графической информации в десятичной системе счисления</a:t>
            </a:r>
            <a:endParaRPr b="0" lang="en-US" sz="35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4360" y="1844640"/>
          <a:ext cx="4319280" cy="4846680"/>
        </p:xfrm>
        <a:graphic>
          <a:graphicData uri="http://schemas.openxmlformats.org/drawingml/2006/table">
            <a:tbl>
              <a:tblPr/>
              <a:tblGrid>
                <a:gridCol w="2087280"/>
                <a:gridCol w="22320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Десятичный к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Двоичный к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Picture 54" descr=""/>
          <p:cNvPicPr/>
          <p:nvPr/>
        </p:nvPicPr>
        <p:blipFill>
          <a:blip r:embed="rId1"/>
          <a:stretch/>
        </p:blipFill>
        <p:spPr>
          <a:xfrm>
            <a:off x="5148360" y="2781360"/>
            <a:ext cx="3744720" cy="32702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6"/>
          <p:cNvSpPr/>
          <p:nvPr/>
        </p:nvSpPr>
        <p:spPr>
          <a:xfrm>
            <a:off x="0" y="1197000"/>
            <a:ext cx="68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3756-F2E5-4067-BCA2-484AF7AF431B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Густова Ольга Александро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99"/>
                </a:solidFill>
                <a:latin typeface="Arial"/>
              </a:rPr>
              <a:t>Кодирование растровой графической информации в десятичной системе счисления</a:t>
            </a:r>
            <a:endParaRPr b="0" lang="en-US" sz="35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84360" y="1844640"/>
          <a:ext cx="4319280" cy="4846680"/>
        </p:xfrm>
        <a:graphic>
          <a:graphicData uri="http://schemas.openxmlformats.org/drawingml/2006/table">
            <a:tbl>
              <a:tblPr/>
              <a:tblGrid>
                <a:gridCol w="2087280"/>
                <a:gridCol w="22320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Десятичный к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Двоичный к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1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111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1111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0001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0001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0001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0001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111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Picture 42" descr=""/>
          <p:cNvPicPr/>
          <p:nvPr/>
        </p:nvPicPr>
        <p:blipFill>
          <a:blip r:embed="rId1"/>
          <a:stretch/>
        </p:blipFill>
        <p:spPr>
          <a:xfrm>
            <a:off x="5148360" y="2781360"/>
            <a:ext cx="3744720" cy="3270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4"/>
          <p:cNvSpPr/>
          <p:nvPr/>
        </p:nvSpPr>
        <p:spPr>
          <a:xfrm>
            <a:off x="0" y="1197000"/>
            <a:ext cx="68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FE57-025B-4284-B517-AC9702DF7F1D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Густова Ольга Александро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05:21:24Z</dcterms:created>
  <dc:creator>пк</dc:creator>
  <dc:description/>
  <dc:language>en-US</dc:language>
  <cp:lastModifiedBy>пк</cp:lastModifiedBy>
  <dcterms:modified xsi:type="dcterms:W3CDTF">2013-11-07T05:24:22Z</dcterms:modified>
  <cp:revision>1</cp:revision>
  <dc:subject/>
  <dc:title>Слайд 1</dc:title>
</cp:coreProperties>
</file>