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17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108.png" ContentType="image/png"/>
  <Override PartName="/ppt/media/image11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39.png" ContentType="image/png"/>
  <Override PartName="/ppt/media/image107.png" ContentType="image/png"/>
  <Override PartName="/ppt/media/image10.png" ContentType="image/png"/>
  <Override PartName="/ppt/media/image109.png" ContentType="image/png"/>
  <Override PartName="/ppt/media/image34.png" ContentType="image/png"/>
  <Override PartName="/ppt/media/image35.png" ContentType="image/png"/>
  <Override PartName="/ppt/media/image37.png" ContentType="image/png"/>
  <Override PartName="/ppt/media/image41.png" ContentType="image/png"/>
  <Override PartName="/ppt/media/image138.png" ContentType="image/png"/>
  <Override PartName="/ppt/media/image47.png" ContentType="image/png"/>
  <Override PartName="/ppt/media/image133.png" ContentType="image/png"/>
  <Override PartName="/ppt/media/image48.png" ContentType="image/png"/>
  <Override PartName="/ppt/media/image134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137.png" ContentType="image/png"/>
  <Override PartName="/ppt/media/image40.png" ContentType="image/png"/>
  <Override PartName="/ppt/media/image45.png" ContentType="image/png"/>
  <Override PartName="/ppt/media/image42.png" ContentType="image/png"/>
  <Override PartName="/ppt/media/image131.png" ContentType="image/png"/>
  <Override PartName="/ppt/media/image140.jpeg" ContentType="image/jpeg"/>
  <Override PartName="/ppt/media/image57.png" ContentType="image/png"/>
  <Override PartName="/ppt/media/image143.png" ContentType="image/png"/>
  <Override PartName="/ppt/media/image51.png" ContentType="image/png"/>
  <Override PartName="/ppt/media/image4.jpeg" ContentType="image/jpeg"/>
  <Override PartName="/ppt/media/image132.png" ContentType="image/png"/>
  <Override PartName="/ppt/media/image144.png" ContentType="image/png"/>
  <Override PartName="/ppt/media/image5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29.jpeg" ContentType="image/jpeg"/>
  <Override PartName="/ppt/media/image119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46.png" ContentType="image/png"/>
  <Override PartName="/ppt/media/image139.jpeg" ContentType="image/jpeg"/>
  <Override PartName="/ppt/media/image32.png" ContentType="image/png"/>
  <Override PartName="/ppt/media/image2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7.jpeg" ContentType="image/jpeg"/>
  <Override PartName="/ppt/media/image13.png" ContentType="image/png"/>
  <Override PartName="/ppt/media/image81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22.png" ContentType="image/png"/>
  <Override PartName="/ppt/media/image90.png" ContentType="image/png"/>
  <Override PartName="/ppt/media/image93.png" ContentType="image/png"/>
  <Override PartName="/ppt/media/image25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21A-C03C-4DA2-A0E0-2E041650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109-CDA5-48F1-AC53-7E55E9D4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D40-F6F2-4910-8EDF-90940E6C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E14-3C38-4112-B03A-FBB8D71C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B3B-59FB-4504-9DEA-D8D5049D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9F4-131E-45C4-BC68-799141F4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77A-5892-4BB9-AF9A-FFFE3098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E8E-549C-4A3B-A30D-C9F1B15E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6E1-5F53-4AD1-BF3D-FAAC7CF6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F3C-E729-4FFE-8CE0-EA84BEA7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AA8-6C6A-4748-9F67-4799D07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0FE-A1F6-4990-9245-2E16E07C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E754F-41D7-4D74-BB7D-97A53F2C162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image" Target="../media/image62.png"/><Relationship Id="rId11" Type="http://schemas.openxmlformats.org/officeDocument/2006/relationships/image" Target="../media/image63.png"/><Relationship Id="rId12" Type="http://schemas.openxmlformats.org/officeDocument/2006/relationships/image" Target="../media/image64.png"/><Relationship Id="rId13" Type="http://schemas.openxmlformats.org/officeDocument/2006/relationships/image" Target="../media/image65.png"/><Relationship Id="rId14" Type="http://schemas.openxmlformats.org/officeDocument/2006/relationships/image" Target="../media/image66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image" Target="../media/image91.png"/><Relationship Id="rId13" Type="http://schemas.openxmlformats.org/officeDocument/2006/relationships/image" Target="../media/image92.png"/><Relationship Id="rId14" Type="http://schemas.openxmlformats.org/officeDocument/2006/relationships/image" Target="../media/image93.png"/><Relationship Id="rId15" Type="http://schemas.openxmlformats.org/officeDocument/2006/relationships/image" Target="../media/image94.png"/><Relationship Id="rId16" Type="http://schemas.openxmlformats.org/officeDocument/2006/relationships/image" Target="../media/image95.png"/><Relationship Id="rId17" Type="http://schemas.openxmlformats.org/officeDocument/2006/relationships/image" Target="../media/image96.png"/><Relationship Id="rId18" Type="http://schemas.openxmlformats.org/officeDocument/2006/relationships/image" Target="../media/image97.png"/><Relationship Id="rId19" Type="http://schemas.openxmlformats.org/officeDocument/2006/relationships/image" Target="../media/image98.png"/><Relationship Id="rId20" Type="http://schemas.openxmlformats.org/officeDocument/2006/relationships/image" Target="../media/image99.png"/><Relationship Id="rId21" Type="http://schemas.openxmlformats.org/officeDocument/2006/relationships/image" Target="../media/image100.png"/><Relationship Id="rId22" Type="http://schemas.openxmlformats.org/officeDocument/2006/relationships/image" Target="../media/image101.png"/><Relationship Id="rId23" Type="http://schemas.openxmlformats.org/officeDocument/2006/relationships/image" Target="../media/image102.png"/><Relationship Id="rId2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image" Target="../media/image109.png"/><Relationship Id="rId9" Type="http://schemas.openxmlformats.org/officeDocument/2006/relationships/image" Target="../media/image110.png"/><Relationship Id="rId10" Type="http://schemas.openxmlformats.org/officeDocument/2006/relationships/image" Target="../media/image111.png"/><Relationship Id="rId11" Type="http://schemas.openxmlformats.org/officeDocument/2006/relationships/image" Target="../media/image112.png"/><Relationship Id="rId12" Type="http://schemas.openxmlformats.org/officeDocument/2006/relationships/image" Target="../media/image113.png"/><Relationship Id="rId13" Type="http://schemas.openxmlformats.org/officeDocument/2006/relationships/image" Target="../media/image114.png"/><Relationship Id="rId14" Type="http://schemas.openxmlformats.org/officeDocument/2006/relationships/image" Target="../media/image115.png"/><Relationship Id="rId1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7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9.jpeg"/><Relationship Id="rId3" Type="http://schemas.openxmlformats.org/officeDocument/2006/relationships/image" Target="../media/image130.png"/><Relationship Id="rId4" Type="http://schemas.openxmlformats.org/officeDocument/2006/relationships/image" Target="../media/image13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136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0.jpeg"/><Relationship Id="rId3" Type="http://schemas.openxmlformats.org/officeDocument/2006/relationships/image" Target="../media/image14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19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4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125360"/>
            <a:ext cx="8353440" cy="259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бы и геральд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2081160" cy="2305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7020000" y="4437000"/>
            <a:ext cx="1979640" cy="2160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2556000" y="2852640"/>
            <a:ext cx="4284360" cy="272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пект ур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1500120" cy="174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262560" y="1413000"/>
            <a:ext cx="1492200" cy="1755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692360" y="3860640"/>
            <a:ext cx="1317600" cy="1648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305400" y="3860640"/>
            <a:ext cx="1252800" cy="164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05240" y="306396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ь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0400" y="306396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яжский щ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51160" y="5959440"/>
            <a:ext cx="29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анский щит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90360" y="595944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ранцузский щ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4000" y="1484280"/>
            <a:ext cx="4505040" cy="2025720"/>
            <a:chOff x="324000" y="1484280"/>
            <a:chExt cx="4505040" cy="202572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324000" y="1484280"/>
              <a:ext cx="4505040" cy="20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24000" y="1484280"/>
              <a:ext cx="450504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38736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щи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126040" y="3268800"/>
            <a:ext cx="4017960" cy="2065320"/>
            <a:chOff x="5126040" y="3268800"/>
            <a:chExt cx="4017960" cy="206532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126040" y="3268800"/>
              <a:ext cx="401796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126040" y="3268800"/>
              <a:ext cx="4017960" cy="20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489640" y="556272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глийские щиты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1280" y="1844640"/>
            <a:ext cx="3579840" cy="1949400"/>
            <a:chOff x="611280" y="1844640"/>
            <a:chExt cx="3579840" cy="194940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11280" y="1844640"/>
              <a:ext cx="357984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11280" y="1844640"/>
              <a:ext cx="357984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480" y="3870360"/>
            <a:ext cx="365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вальный (итальянский) и круглый (восточный) щи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56360" y="1773360"/>
            <a:ext cx="1882800" cy="2251080"/>
            <a:chOff x="6156360" y="1773360"/>
            <a:chExt cx="1882800" cy="225108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156360" y="1773360"/>
              <a:ext cx="188280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156360" y="1773360"/>
              <a:ext cx="1882800" cy="22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340240" y="4070520"/>
            <a:ext cx="37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сковской ф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8353440" cy="40752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21" name=""/>
          <p:cNvSpPr txBox="1"/>
          <p:nvPr/>
        </p:nvSpPr>
        <p:spPr>
          <a:xfrm>
            <a:off x="2771640" y="40464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Щиты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60280"/>
            <a:ext cx="1295280" cy="20890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0000"/>
              </a:gs>
              <a:gs pos="100000">
                <a:srgbClr val="333399"/>
              </a:gs>
            </a:gsLst>
            <a:lin ang="5400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260280"/>
            <a:ext cx="1509840" cy="2016360"/>
          </a:xfrm>
          <a:prstGeom prst="diamond">
            <a:avLst/>
          </a:prstGeom>
          <a:gradFill rotWithShape="0">
            <a:gsLst>
              <a:gs pos="0">
                <a:srgbClr val="990033"/>
              </a:gs>
              <a:gs pos="50000">
                <a:srgbClr val="000000"/>
              </a:gs>
              <a:gs pos="100000">
                <a:srgbClr val="990033"/>
              </a:gs>
            </a:gsLst>
            <a:lin ang="5400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8880" y="1484280"/>
            <a:ext cx="40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ские гер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2673360" cy="396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050920" y="4429080"/>
            <a:ext cx="52927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Щит может быть не только цельным, но и разделённым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643480" cy="43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525636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ществует три основных способа деления щита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5640" y="458136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11640" y="4653000"/>
            <a:ext cx="1257120" cy="155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796000" y="2133720"/>
            <a:ext cx="1257120" cy="155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596360" y="2205000"/>
            <a:ext cx="1257120" cy="1552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6237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6237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с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3716280"/>
            <a:ext cx="37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ошение справа и с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867280" y="3141720"/>
            <a:ext cx="1257480" cy="1552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060640"/>
            <a:ext cx="40384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35280" y="270828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258920" y="3141720"/>
            <a:ext cx="1257120" cy="1552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4000" y="1700280"/>
            <a:ext cx="8820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литься щит может и на четыре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49417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тверочастные раз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257120" cy="1552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1257120" cy="1552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11280" y="1773360"/>
            <a:ext cx="1257120" cy="1552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5003640" y="1773360"/>
            <a:ext cx="1257480" cy="1552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7524720" y="184464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3851280" y="3500280"/>
            <a:ext cx="1257120" cy="1552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5300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ёхчастное деление 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060640"/>
            <a:ext cx="40384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125360"/>
            <a:ext cx="4572000" cy="65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ления         могут осуществляться  не только      прямыми линиями,   но и зуб-  цами,     остриями, волнами  и  прочи-        ми линиями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гурных  делений более        тридцати,       одни из них исполь-зуются весьма часто, другие - значительно реж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88000" y="3112920"/>
            <a:ext cx="2396880" cy="3745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659640" y="549360"/>
            <a:ext cx="20527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-197280"/>
            <a:ext cx="8218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ения щ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т быть и таким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124000" y="4869000"/>
            <a:ext cx="1257480" cy="1552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851280" y="4869000"/>
            <a:ext cx="1257120" cy="155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258920" y="3213000"/>
            <a:ext cx="1257120" cy="1552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987640" y="321300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4716360" y="321300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257120" cy="1552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924360" y="1484280"/>
            <a:ext cx="1257120" cy="1552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2124000" y="148428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324000" y="1484280"/>
            <a:ext cx="1257120" cy="1552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5724360" y="148428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7524720" y="148428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5651640" y="4869000"/>
            <a:ext cx="1257120" cy="1552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7524720" y="4869000"/>
            <a:ext cx="1257480" cy="1552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324000" y="4869000"/>
            <a:ext cx="1257120" cy="15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042560"/>
            <a:ext cx="88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Герб и флаг страны отражают историю народа, мечту создателя и достоинство своих граждан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421160"/>
            <a:ext cx="4032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.Монтен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гурные деления щи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132000" y="472428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332000" y="4653000"/>
            <a:ext cx="1257120" cy="1552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124000" y="285264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4932360" y="4724280"/>
            <a:ext cx="1257480" cy="1552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524720" y="2997360"/>
            <a:ext cx="1257480" cy="1552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4067280" y="2421000"/>
            <a:ext cx="1257120" cy="1552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4000" y="2781360"/>
            <a:ext cx="1257120" cy="1552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7524720" y="1052640"/>
            <a:ext cx="1257480" cy="1552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2124000" y="1052640"/>
            <a:ext cx="1257480" cy="1552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324000" y="1052640"/>
            <a:ext cx="1257120" cy="1552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5796000" y="1052640"/>
            <a:ext cx="1257120" cy="1552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>
            <a:off x="5867280" y="2924280"/>
            <a:ext cx="1257480" cy="1552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6804000" y="4724280"/>
            <a:ext cx="12574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альдические цв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1943280" cy="2990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284720" y="3141720"/>
            <a:ext cx="48592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классической геральдике существует всего 7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020000" y="1341360"/>
            <a:ext cx="180972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альдические цв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1413000"/>
            <a:ext cx="48592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Золо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жёлтый цвет) - символ богатства, справедливости и великодуш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11280" y="1268280"/>
            <a:ext cx="1724040" cy="1871640"/>
            <a:chOff x="611280" y="1268280"/>
            <a:chExt cx="1724040" cy="187164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rcRect l="47922" t="0" r="0" b="0"/>
            <a:stretch/>
          </p:blipFill>
          <p:spPr>
            <a:xfrm>
              <a:off x="611280" y="1268280"/>
              <a:ext cx="17240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11280" y="1268280"/>
              <a:ext cx="172404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84360" y="4149720"/>
            <a:ext cx="1554120" cy="2160720"/>
            <a:chOff x="684360" y="4149720"/>
            <a:chExt cx="1554120" cy="2160720"/>
          </a:xfrm>
        </p:grpSpPr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684360" y="4149720"/>
              <a:ext cx="155412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84360" y="4149720"/>
              <a:ext cx="15541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211560" y="5013360"/>
            <a:ext cx="570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ребр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белый цвет) -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 чистоты и неви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альдические цв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651640" y="1628640"/>
            <a:ext cx="1676160" cy="1846440"/>
            <a:chOff x="5651640" y="1628640"/>
            <a:chExt cx="1676160" cy="184644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rcRect l="49002" t="0" r="0" b="0"/>
            <a:stretch/>
          </p:blipFill>
          <p:spPr>
            <a:xfrm>
              <a:off x="5651640" y="1628640"/>
              <a:ext cx="167616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651640" y="1628640"/>
              <a:ext cx="16761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80880" y="14479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Зел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зелёный цвет) - символ надежды, радости и изоби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rcRect l="49087" t="0" r="0" b="0"/>
          <a:stretch/>
        </p:blipFill>
        <p:spPr>
          <a:xfrm>
            <a:off x="5651640" y="4221000"/>
            <a:ext cx="1746000" cy="1925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405432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урпур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бордовый цвет) - символ достоинства, силы и могу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альдические цв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084720" y="2421000"/>
            <a:ext cx="1776600" cy="1884240"/>
            <a:chOff x="6084720" y="2421000"/>
            <a:chExt cx="1776600" cy="188424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rcRect l="48767" t="0" r="0" b="0"/>
            <a:stretch/>
          </p:blipFill>
          <p:spPr>
            <a:xfrm>
              <a:off x="6084720" y="2421000"/>
              <a:ext cx="177660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084720" y="2421000"/>
              <a:ext cx="177660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11280" y="24922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чёрный цвет) - символ печали, благоразумия и сми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альдические цв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ым цветом геральдических цветов являются мех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ли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ностае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1238400" cy="1476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238040" cy="1476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364000" y="4653000"/>
            <a:ext cx="1238400" cy="1476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484360" y="4653000"/>
            <a:ext cx="123840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бовые фиг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1714680" cy="2305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419640" y="4365720"/>
            <a:ext cx="1589040" cy="2185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4000" y="1413000"/>
            <a:ext cx="424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   небольшая область       щита, окрашенная цве-том,    отличным     от цвета щитово-  го п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093080" y="1197000"/>
            <a:ext cx="16700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бовые фиг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56000" y="400536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788000" y="184464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6012000" y="5157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95280" y="27813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7308720" y="285264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4643280" y="4005360"/>
            <a:ext cx="1257480" cy="1495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95280" y="4508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6000" y="3357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80360" y="450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л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16720" y="59500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й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0360" y="3357720"/>
            <a:ext cx="28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он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5300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вая и правая перев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395280" y="27813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395280" y="27813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1"/>
          <a:stretch/>
        </p:blipFill>
        <p:spPr>
          <a:xfrm>
            <a:off x="395280" y="27813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"/>
          <a:stretch/>
        </p:blipFill>
        <p:spPr>
          <a:xfrm>
            <a:off x="7308720" y="285264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3"/>
          <a:stretch/>
        </p:blipFill>
        <p:spPr>
          <a:xfrm>
            <a:off x="7308720" y="285264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4"/>
          <a:stretch/>
        </p:blipFill>
        <p:spPr>
          <a:xfrm>
            <a:off x="7308720" y="285264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5"/>
          <a:stretch/>
        </p:blipFill>
        <p:spPr>
          <a:xfrm>
            <a:off x="2484360" y="17733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6"/>
          <a:stretch/>
        </p:blipFill>
        <p:spPr>
          <a:xfrm>
            <a:off x="2484360" y="17733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7"/>
          <a:stretch/>
        </p:blipFill>
        <p:spPr>
          <a:xfrm>
            <a:off x="2484360" y="17733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8"/>
          <a:stretch/>
        </p:blipFill>
        <p:spPr>
          <a:xfrm>
            <a:off x="4788000" y="184464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9"/>
          <a:stretch/>
        </p:blipFill>
        <p:spPr>
          <a:xfrm>
            <a:off x="4788000" y="184464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0"/>
          <a:stretch/>
        </p:blipFill>
        <p:spPr>
          <a:xfrm>
            <a:off x="4788000" y="184464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1"/>
          <a:stretch/>
        </p:blipFill>
        <p:spPr>
          <a:xfrm>
            <a:off x="6012000" y="5157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2"/>
          <a:stretch/>
        </p:blipFill>
        <p:spPr>
          <a:xfrm>
            <a:off x="6012000" y="5157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3"/>
          <a:stretch/>
        </p:blipFill>
        <p:spPr>
          <a:xfrm>
            <a:off x="6012000" y="5157720"/>
            <a:ext cx="125712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бовые фиг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443640" y="1916280"/>
            <a:ext cx="1257480" cy="1495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6443640" y="1916280"/>
            <a:ext cx="1257480" cy="1495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24000" y="3645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2124000" y="4724280"/>
            <a:ext cx="1257480" cy="1495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140360" y="5300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роп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971640" y="198900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3851280" y="2637000"/>
            <a:ext cx="1257120" cy="1495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195640" y="148428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е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851280" y="2637000"/>
            <a:ext cx="1238400" cy="1476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6443640" y="1916280"/>
            <a:ext cx="1257480" cy="1495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971640" y="198900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1"/>
          <a:stretch/>
        </p:blipFill>
        <p:spPr>
          <a:xfrm>
            <a:off x="2124000" y="472428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2"/>
          <a:stretch/>
        </p:blipFill>
        <p:spPr>
          <a:xfrm>
            <a:off x="2124000" y="472428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2124000" y="472428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2124000" y="4724280"/>
            <a:ext cx="125748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бовые фиг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1371600" cy="1552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1341360"/>
            <a:ext cx="5508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веке   в   поле   для деления  щита  на  области  стали помещать различные изображения, зверей, птиц, людей,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32360" y="4005360"/>
            <a:ext cx="42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ёл – символ власти, могущества и быстр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1621080" cy="2612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11280" y="5911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орог – символ чистоты и целомуд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герб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3320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б – это  немецкое  слово.   В  переводе   на русский язык оно означает “наследство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б – это   условное  изображение,  явля-ющееся   символом  или    отличительным знаком государства, города, а  в старину – рода  или  отдельного  лица, отражающее исторические традиции владель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13387" r="49867" b="48529"/>
          <a:stretch/>
        </p:blipFill>
        <p:spPr>
          <a:xfrm>
            <a:off x="7074000" y="0"/>
            <a:ext cx="181440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бовые фиг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1818000" cy="1871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318280" y="1268280"/>
            <a:ext cx="1852560" cy="1908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3141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икс – символ бессмер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51280" y="335772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ламандра(ящерица) – символ стойкости и надё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93920" y="4221000"/>
            <a:ext cx="1619280" cy="2449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572000" y="55897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рской пёс – символ моря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бовые фиг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1708200" cy="2232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5952960" y="1413000"/>
            <a:ext cx="1830600" cy="2098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350028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гас – символ славы, красноре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429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арпия – символ стр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3492360" y="4653000"/>
            <a:ext cx="2016360" cy="1220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411280" y="61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ак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мё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1181160" cy="2076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1312920" cy="2185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366920" y="1413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 целый   или   изорванный                      плащ, напоминающий мант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522936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ый нам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95640" y="5229360"/>
            <a:ext cx="41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мёт                                  в виде  узких            длинных пол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877080" y="2997360"/>
            <a:ext cx="1314360" cy="2114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119640" y="522936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мёт из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е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35564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лем располагал-ся над щи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а шлема ме-нялась  время  от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84360" y="1628640"/>
            <a:ext cx="3454200" cy="4464360"/>
            <a:chOff x="684360" y="1628640"/>
            <a:chExt cx="3454200" cy="4464360"/>
          </a:xfrm>
        </p:grpSpPr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684360" y="1628640"/>
              <a:ext cx="3454200" cy="4464360"/>
            </a:xfrm>
            <a:prstGeom prst="rect">
              <a:avLst/>
            </a:prstGeom>
            <a:ln w="76320">
              <a:solidFill>
                <a:srgbClr val="cc6600"/>
              </a:solidFill>
              <a:miter/>
            </a:ln>
          </p:spPr>
        </p:pic>
        <p:sp>
          <p:nvSpPr>
            <p:cNvPr id="304" name=""/>
            <p:cNvSpPr/>
            <p:nvPr/>
          </p:nvSpPr>
          <p:spPr>
            <a:xfrm>
              <a:off x="684360" y="1628640"/>
              <a:ext cx="3454200" cy="44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50920" y="2060640"/>
            <a:ext cx="8675640" cy="446076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306" name=""/>
          <p:cNvSpPr txBox="1"/>
          <p:nvPr/>
        </p:nvSpPr>
        <p:spPr>
          <a:xfrm>
            <a:off x="2987640" y="260280"/>
            <a:ext cx="3024360" cy="86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Короны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125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ещались над шлемом или прямо над щи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одержате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059280" y="3573360"/>
            <a:ext cx="3097080" cy="29862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2625840" cy="317016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250920" y="134136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фигуры, расположенные по краям щита и поддержи-вающие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2357280" cy="309564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из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628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краткое изречение,                                                  написанное  на    ленте                                                          внизу щ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716280"/>
            <a:ext cx="5040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bbe0e3"/>
                </a:solidFill>
                <a:latin typeface="Arial"/>
              </a:rPr>
              <a:t>«С нами Бог»</a:t>
            </a:r>
            <a:r>
              <a:rPr b="0" i="1" lang="ru-RU" sz="3600" spc="-1" strike="noStrike">
                <a:solidFill>
                  <a:srgbClr val="bbe0e3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сударственный девиз Российской      имп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976640" y="1844640"/>
            <a:ext cx="403416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260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 геральдике  принято  изображать не конкретные  предмета,  а обобщ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вотные тоже   изображаются   обоб-щенно, без учёта  породы – просто лев, просто  медведь,  просто  конь,  просто в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003640" y="3429000"/>
            <a:ext cx="1333800" cy="16574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700360" y="3357720"/>
            <a:ext cx="1361880" cy="1800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1841400" cy="2158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7093080" y="4149720"/>
            <a:ext cx="17110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ая геральд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1484280"/>
            <a:ext cx="5040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     государст-венный герб складывался столетиями.    Считалось,    что гербы в нашей стране возникли в конц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X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а,   то   есть   более  900  лет 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углавый орёл – символ русского  государства  по- появился  более  500 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13380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б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37875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альдика 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  от      позднелатинского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Heraldica, heraldus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глашатай) – гербоведение, вспомогательная       исто-рическая         дисциплина, изучающая гер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00760" y="4149720"/>
            <a:ext cx="196236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692360" y="692280"/>
            <a:ext cx="575928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Герб  Москв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340056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276720" y="620640"/>
            <a:ext cx="5256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рб Тотьмы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21095" t="0" r="10143" b="7377"/>
          <a:stretch/>
        </p:blipFill>
        <p:spPr>
          <a:xfrm>
            <a:off x="395280" y="476280"/>
            <a:ext cx="1873080" cy="35290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4211640" y="1916280"/>
            <a:ext cx="3505320" cy="42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299200" cy="6237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556000" y="1916280"/>
            <a:ext cx="3792240" cy="45100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3059280" y="2421000"/>
            <a:ext cx="2657160" cy="2736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692360" y="5734080"/>
            <a:ext cx="5041800" cy="863640"/>
          </a:xfrm>
          <a:custGeom>
            <a:avLst/>
            <a:gdLst>
              <a:gd name="textAreaLeft" fmla="*/ 1260360 w 5041800"/>
              <a:gd name="textAreaRight" fmla="*/ 3781440 w 5041800"/>
              <a:gd name="textAreaTop" fmla="*/ 108000 h 863640"/>
              <a:gd name="textAreaBottom" fmla="*/ 83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20960"/>
                </a:lnTo>
                <a:arcTo wR="21600" hR="20153" stAng="4471878" swAng="-976834"/>
                <a:lnTo>
                  <a:pt x="18900" y="1067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25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10679"/>
                </a:lnTo>
                <a:close/>
              </a:path>
              <a:path fill="none" w="21600" h="21600">
                <a:moveTo>
                  <a:pt x="8100" y="25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25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20960"/>
                </a:moveTo>
                <a:lnTo>
                  <a:pt x="5400" y="2060"/>
                </a:lnTo>
              </a:path>
              <a:path fill="none" w="21600" h="21600">
                <a:moveTo>
                  <a:pt x="16200" y="20960"/>
                </a:moveTo>
                <a:lnTo>
                  <a:pt x="16200" y="2060"/>
                </a:lnTo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Верность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непоколеб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43280" y="2060640"/>
            <a:ext cx="504720" cy="576360"/>
          </a:xfrm>
          <a:custGeom>
            <a:avLst/>
            <a:gdLst>
              <a:gd name="textAreaLeft" fmla="*/ 208080 w 504720"/>
              <a:gd name="textAreaRight" fmla="*/ 296640 w 50472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9d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7280" y="1989000"/>
            <a:ext cx="504720" cy="576360"/>
          </a:xfrm>
          <a:custGeom>
            <a:avLst/>
            <a:gdLst>
              <a:gd name="textAreaLeft" fmla="*/ 208080 w 504720"/>
              <a:gd name="textAreaRight" fmla="*/ 296640 w 50472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9d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35640" y="2060640"/>
            <a:ext cx="504720" cy="576360"/>
          </a:xfrm>
          <a:custGeom>
            <a:avLst/>
            <a:gdLst>
              <a:gd name="textAreaLeft" fmla="*/ 218880 w 504720"/>
              <a:gd name="textAreaRight" fmla="*/ 285840 w 504720"/>
              <a:gd name="textAreaTop" fmla="*/ 249840 h 576360"/>
              <a:gd name="textAreaBottom" fmla="*/ 3265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66" y="9366"/>
                </a:lnTo>
                <a:lnTo>
                  <a:pt x="10800" y="0"/>
                </a:lnTo>
                <a:lnTo>
                  <a:pt x="12234" y="9366"/>
                </a:lnTo>
                <a:lnTo>
                  <a:pt x="21600" y="10800"/>
                </a:lnTo>
                <a:lnTo>
                  <a:pt x="12234" y="12234"/>
                </a:lnTo>
                <a:lnTo>
                  <a:pt x="10800" y="21600"/>
                </a:lnTo>
                <a:lnTo>
                  <a:pt x="9366" y="12234"/>
                </a:lnTo>
                <a:lnTo>
                  <a:pt x="0" y="10800"/>
                </a:lnTo>
                <a:close/>
              </a:path>
            </a:pathLst>
          </a:custGeom>
          <a:solidFill>
            <a:srgbClr val="09d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08720" y="4292640"/>
            <a:ext cx="504720" cy="576360"/>
          </a:xfrm>
          <a:custGeom>
            <a:avLst/>
            <a:gdLst>
              <a:gd name="textAreaLeft" fmla="*/ 218880 w 504720"/>
              <a:gd name="textAreaRight" fmla="*/ 285840 w 504720"/>
              <a:gd name="textAreaTop" fmla="*/ 249840 h 576360"/>
              <a:gd name="textAreaBottom" fmla="*/ 3265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66" y="9366"/>
                </a:lnTo>
                <a:lnTo>
                  <a:pt x="10800" y="0"/>
                </a:lnTo>
                <a:lnTo>
                  <a:pt x="12234" y="9366"/>
                </a:lnTo>
                <a:lnTo>
                  <a:pt x="21600" y="10800"/>
                </a:lnTo>
                <a:lnTo>
                  <a:pt x="12234" y="12234"/>
                </a:lnTo>
                <a:lnTo>
                  <a:pt x="10800" y="21600"/>
                </a:lnTo>
                <a:lnTo>
                  <a:pt x="9366" y="12234"/>
                </a:lnTo>
                <a:lnTo>
                  <a:pt x="0" y="10800"/>
                </a:lnTo>
                <a:close/>
              </a:path>
            </a:pathLst>
          </a:custGeom>
          <a:solidFill>
            <a:srgbClr val="09d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4292640"/>
            <a:ext cx="505080" cy="576360"/>
          </a:xfrm>
          <a:custGeom>
            <a:avLst/>
            <a:gdLst>
              <a:gd name="textAreaLeft" fmla="*/ 218880 w 505080"/>
              <a:gd name="textAreaRight" fmla="*/ 286200 w 505080"/>
              <a:gd name="textAreaTop" fmla="*/ 249840 h 576360"/>
              <a:gd name="textAreaBottom" fmla="*/ 3265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66" y="9366"/>
                </a:lnTo>
                <a:lnTo>
                  <a:pt x="10800" y="0"/>
                </a:lnTo>
                <a:lnTo>
                  <a:pt x="12234" y="9366"/>
                </a:lnTo>
                <a:lnTo>
                  <a:pt x="21600" y="10800"/>
                </a:lnTo>
                <a:lnTo>
                  <a:pt x="12234" y="12234"/>
                </a:lnTo>
                <a:lnTo>
                  <a:pt x="10800" y="21600"/>
                </a:lnTo>
                <a:lnTo>
                  <a:pt x="9366" y="12234"/>
                </a:lnTo>
                <a:lnTo>
                  <a:pt x="0" y="10800"/>
                </a:lnTo>
                <a:close/>
              </a:path>
            </a:pathLst>
          </a:custGeom>
          <a:solidFill>
            <a:srgbClr val="09d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40464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м гер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3640" y="182520"/>
            <a:ext cx="87325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be0e3"/>
                </a:solidFill>
                <a:latin typeface="Tunga"/>
              </a:rPr>
              <a:t>Правила работы с ножниц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1. Место ножниц – справа вверх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2. Не держи ножницы концами ввер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3. Не оставляй ножницы в раскрытом ви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4. Передавай ножницы только в закрытом виде кольцами вперё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5. При резании поворачивай бумагу, а не ножн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643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50920" y="765000"/>
            <a:ext cx="8424720" cy="388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Успехов  в работ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809880" cy="25909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64000" y="1268280"/>
            <a:ext cx="3281400" cy="323064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1116000" y="189000"/>
            <a:ext cx="640728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роисхождение геральдики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789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евековый рыцарский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581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явление  гербов  связано   с эпохой крестовых походов.   Рыцарям,   отправившимся  в военные походы,   нужно   было   отличать   друг  друга   и противника  во  время  сражения.  Поэтому и ста-ли появляться специальные изображения-гер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905440" y="1341360"/>
            <a:ext cx="25146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5329440" cy="30304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4100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98100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ыцарский   турни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3498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пременным атрибутом жизни рыцаря были рыцарские      турниры.   Появляться    на них надлежало в боевых доспехах,  с   обязатель-   ным гербом и девизом, под  которым рыцарь принимал в турнире участие.                                                          В итоге герб стал   символизировать опреде-лённые  качества  присущие тому, или иному дворян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878280" cy="554544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716360" y="189000"/>
            <a:ext cx="4067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царскими    турни-рами распоряжались специальные   люди-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ерольд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 Они  сле-дили  за  правилами, объявляли   победи-телей  и регистриро-вали гербы. Постепенно ведение специальных     гер-бовых книг стало их главной   обязаннос-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5950080"/>
            <a:ext cx="460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оль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556000" y="1341360"/>
            <a:ext cx="4373280" cy="48006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grpSp>
        <p:nvGrpSpPr>
          <p:cNvPr id="67" name=""/>
          <p:cNvGrpSpPr/>
          <p:nvPr/>
        </p:nvGrpSpPr>
        <p:grpSpPr>
          <a:xfrm>
            <a:off x="2124000" y="4719240"/>
            <a:ext cx="1873440" cy="1252800"/>
            <a:chOff x="2124000" y="4719240"/>
            <a:chExt cx="1873440" cy="1252800"/>
          </a:xfrm>
        </p:grpSpPr>
        <p:sp>
          <p:nvSpPr>
            <p:cNvPr id="68" name=""/>
            <p:cNvSpPr/>
            <p:nvPr/>
          </p:nvSpPr>
          <p:spPr>
            <a:xfrm>
              <a:off x="2124000" y="5603760"/>
              <a:ext cx="757440" cy="368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щ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633760" y="4719240"/>
              <a:ext cx="1363680" cy="831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213160" y="1557360"/>
            <a:ext cx="2022840" cy="879480"/>
            <a:chOff x="5213160" y="1557360"/>
            <a:chExt cx="2022840" cy="879480"/>
          </a:xfrm>
        </p:grpSpPr>
        <p:sp>
          <p:nvSpPr>
            <p:cNvPr id="71" name=""/>
            <p:cNvSpPr/>
            <p:nvPr/>
          </p:nvSpPr>
          <p:spPr>
            <a:xfrm>
              <a:off x="5880240" y="1557360"/>
              <a:ext cx="1355760" cy="368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н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213160" y="2006640"/>
              <a:ext cx="585720" cy="430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050920" y="5425920"/>
            <a:ext cx="2219400" cy="1425600"/>
            <a:chOff x="2050920" y="5425920"/>
            <a:chExt cx="2219400" cy="1425600"/>
          </a:xfrm>
        </p:grpSpPr>
        <p:sp>
          <p:nvSpPr>
            <p:cNvPr id="74" name=""/>
            <p:cNvSpPr/>
            <p:nvPr/>
          </p:nvSpPr>
          <p:spPr>
            <a:xfrm>
              <a:off x="2050920" y="6483240"/>
              <a:ext cx="2219400" cy="368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ента с девиз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051000" y="5425920"/>
              <a:ext cx="925560" cy="99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59280" y="4717800"/>
            <a:ext cx="2017800" cy="1928880"/>
            <a:chOff x="4859280" y="4717800"/>
            <a:chExt cx="2017800" cy="1928880"/>
          </a:xfrm>
        </p:grpSpPr>
        <p:sp>
          <p:nvSpPr>
            <p:cNvPr id="77" name=""/>
            <p:cNvSpPr/>
            <p:nvPr/>
          </p:nvSpPr>
          <p:spPr>
            <a:xfrm>
              <a:off x="4859280" y="6278400"/>
              <a:ext cx="2017800" cy="368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щитодерж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659560" y="4717800"/>
              <a:ext cx="1440" cy="1506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275560" y="1052640"/>
            <a:ext cx="2044080" cy="1672920"/>
            <a:chOff x="2275560" y="1052640"/>
            <a:chExt cx="2044080" cy="1672920"/>
          </a:xfrm>
        </p:grpSpPr>
        <p:sp>
          <p:nvSpPr>
            <p:cNvPr id="80" name=""/>
            <p:cNvSpPr/>
            <p:nvPr/>
          </p:nvSpPr>
          <p:spPr>
            <a:xfrm>
              <a:off x="2275560" y="1052640"/>
              <a:ext cx="811800" cy="368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шл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94200" y="1428840"/>
              <a:ext cx="1225440" cy="1296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275920" y="620640"/>
            <a:ext cx="2513520" cy="2089080"/>
            <a:chOff x="2275920" y="620640"/>
            <a:chExt cx="2513520" cy="2089080"/>
          </a:xfrm>
        </p:grpSpPr>
        <p:sp>
          <p:nvSpPr>
            <p:cNvPr id="83" name=""/>
            <p:cNvSpPr/>
            <p:nvPr/>
          </p:nvSpPr>
          <p:spPr>
            <a:xfrm>
              <a:off x="2275920" y="620640"/>
              <a:ext cx="2421000" cy="368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шлемовая эмбл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5080" y="1054080"/>
              <a:ext cx="144360" cy="1655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938560" y="5440320"/>
            <a:ext cx="862560" cy="644400"/>
            <a:chOff x="5938560" y="5440320"/>
            <a:chExt cx="862560" cy="644400"/>
          </a:xfrm>
        </p:grpSpPr>
        <p:sp>
          <p:nvSpPr>
            <p:cNvPr id="86" name=""/>
            <p:cNvSpPr/>
            <p:nvPr/>
          </p:nvSpPr>
          <p:spPr>
            <a:xfrm>
              <a:off x="5948280" y="5716440"/>
              <a:ext cx="852840" cy="368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м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938560" y="5440320"/>
              <a:ext cx="585720" cy="225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998600" y="836640"/>
            <a:ext cx="1510200" cy="865080"/>
            <a:chOff x="4998600" y="836640"/>
            <a:chExt cx="1510200" cy="865080"/>
          </a:xfrm>
        </p:grpSpPr>
        <p:sp>
          <p:nvSpPr>
            <p:cNvPr id="89" name=""/>
            <p:cNvSpPr/>
            <p:nvPr/>
          </p:nvSpPr>
          <p:spPr>
            <a:xfrm>
              <a:off x="5527800" y="836640"/>
              <a:ext cx="981000" cy="368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998600" y="1270080"/>
              <a:ext cx="51300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и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й  элемент любого герба, но   при  этом  щиты  могут быть самой различной     формы.    Самым  первым получил  применение щит треугольной формы  (близкий  к  варяжскому щиту),  но из-за того, что  на таком щите могло поместиться  не   очень  большое  коли-чество  фигур,  он  был  постепенно вы-теснён  иными  формами. Исторически     в России наибольшее применение полу-чил   так   называемый   "французский щит"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3:05:46Z</dcterms:created>
  <dc:creator>dj</dc:creator>
  <dc:description/>
  <dc:language>en-US</dc:language>
  <cp:lastModifiedBy>User</cp:lastModifiedBy>
  <dcterms:modified xsi:type="dcterms:W3CDTF">2010-06-20T12:39:12Z</dcterms:modified>
  <cp:revision>9</cp:revision>
  <dc:subject/>
  <dc:title>Слайд 1</dc:title>
</cp:coreProperties>
</file>