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42EB-4432-4C8E-8EA5-7C5973472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1BA3-FC56-45D2-8119-D1C3BF74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5F63-49E0-4BCF-A8F5-0DA1FAA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7754-5DDB-453E-91BA-CC16BAD6A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7157-85DD-454A-9C98-7ECA607D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AE36-70B1-4D5C-80E9-B7A1E704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9471-1256-48FE-AAF7-BFAE510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6614-1A73-4A6A-9261-02B59066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9BDB-4D25-43F1-94B3-C2825914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520F-04C2-4BCB-831C-31E1C19A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1E45-2645-48BB-A978-A3D742A3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E789-6B9D-4363-92C5-5FCBD90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640057-B6BC-4B41-885E-4B29A531763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722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Викторина по физи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7120" y="428760"/>
            <a:ext cx="832968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8. Каким прибором измеряют атмосферное давление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4200" y="285840"/>
            <a:ext cx="8472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9. Где пароход глубже погружается в воду: в реке или в море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5840" y="428760"/>
            <a:ext cx="840096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0. Какой прибор служит для измерения скорост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8760" y="642960"/>
            <a:ext cx="825804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1. Кто является изобретателем ради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2. Говорят, что оно течет, как река, только в одном направлении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3. Если это есть, ума не над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4200" y="285840"/>
            <a:ext cx="8472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4. Специфическая единица измерения объема нефти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5840" y="285840"/>
            <a:ext cx="840096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5. Чему равен 1 пуд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2 раун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ужно угадать физическое понятие, выслушав 3 подсказки-определения. Те, кто дал верный ответ после первой подсказки, получает 3 балла, после второй – 2 балла, после третьей –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4200" y="142920"/>
            <a:ext cx="8472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для его измерения используется повторяющийся физический проце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сновная единица измерения — секун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делу это — потехе ча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1 раун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бе команды пишут ответы на вопросы на листочках. Затем сдают и подсчитываются баллы. Каждый правильный ответ – 1 бал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8760" y="214200"/>
            <a:ext cx="825804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ействует на дно и стенки сосу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величивается с глубино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нужно,  чтоб прикрепить что-нибудь кноп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оисходит при определенной температу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 в кастрюле, и в чайнике, и в самовар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нтенсивное парообразование с поверхности жидкост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Можем притягивать и отталки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бывает и красного, и синего цвета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 него два полюс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5840" y="428760"/>
            <a:ext cx="840096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бладают хорошей теплопроводност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хорошо проводят ток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железо, никель, алюмин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7120" y="357120"/>
            <a:ext cx="832968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Мера инертности т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сновная единица измерения — килограмм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у бегемота больше, чем у ос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5840" y="357120"/>
            <a:ext cx="84009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корость выполнения 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ажнейшая характеристика всех двигателе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у КамАЗа больше, чем у ВАЗа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8760" y="428760"/>
            <a:ext cx="825804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х основная часть — стержень — коромыс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бывают лабораторные, технические, медицинские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мощник продавц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7120" y="428760"/>
            <a:ext cx="832968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е у нас нет, когда мы спим, нет на большинстве уро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о она есть на перемене и на уроках физкульту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У птиц она больше, чем у человека, еще больше у ракет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7120" y="428760"/>
            <a:ext cx="832968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на имеется у всех здоровых людей. У мужчин ее больше, у женщин и детей меньше. Ее совсем мало у боль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на не вещь и не сохраня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«Давай поборемся», — говорят те, у кого ее мног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7120" y="428760"/>
            <a:ext cx="8329680" cy="64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но изменяется с изменением пог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сли оно мало, то большинство больных пожилых людей чувствует себя плохо; если же оно очень-очень мало, то из носа может пойти кров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бор для его измерения используют на уроках географии и физи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5840" y="428760"/>
            <a:ext cx="840096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1. Единица измерения массы драгоценных камне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8760" y="428760"/>
            <a:ext cx="825804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на большая у полных и высоких людей, малая — у худых и маленьк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о у всех она направлена в одну точ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а величина — векторная. А точка находится в центре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7120" y="285840"/>
            <a:ext cx="832968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на имеется у всех. Уменьшается при работе. Если вы съедите сникерс, она у вас прибавится. Весами и линейкой ее не измер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 одинаковых сникерсов она прибавится у всех одинаково: и высоких людей, и у маленьких, и у девочек, и у мальч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 если вместо сникерса съесть картошку, то прибавка будет мень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420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на имеется у всех. Если человека долго не кормить, то она уменьш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Ее весь день определяют продав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а величина скалярная, а не векторна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3 раун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3 балла получает команда, которая из 5 слов, написанных на листе,  найдет слово, которое не является названием планеты (слова закодирован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4 раун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ужно с помощью зеркала отгадать 15 слов, изображенных на листе бумаги. Побеждает команда, которая быстрее и правильнее запишет слова. (За каждое слово один бал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5 раун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истории, в  которой  нарочно перепутаны все единицы измерения, нужно справить ошибки, правильно расставить единицы измерения.  (3 балла той команде, которая быстре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alibri"/>
              </a:rPr>
              <a:t>6 раунд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обрать электрическую цепь на скорость. Выигрывает та команда, у которой быстрее загорится лампочка. (Участвует один человек из команды, 5 балло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420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2. Объем 1 кг воды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2920" y="285840"/>
            <a:ext cx="854388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3. Бежала тройка лошадей. Каждая лошадь пробежала 5 км. Сколько километров проехал ямщик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5840" y="357120"/>
            <a:ext cx="84009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4. Какая планета самая большая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5840" y="428760"/>
            <a:ext cx="840096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5. Общее название 12 созвездий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4200" y="357120"/>
            <a:ext cx="8472600" cy="58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6. Когда килограммовая гиря имеет большую массу: летом или зимой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200" y="357120"/>
            <a:ext cx="84726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7. Где край света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35:48Z</dcterms:created>
  <dc:creator>Пользователь</dc:creator>
  <dc:description/>
  <dc:language>en-US</dc:language>
  <cp:lastModifiedBy>Пользователь</cp:lastModifiedBy>
  <dcterms:modified xsi:type="dcterms:W3CDTF">2012-09-14T10:14:45Z</dcterms:modified>
  <cp:revision>10</cp:revision>
  <dc:subject/>
  <dc:title>Викторина по физике</dc:title>
</cp:coreProperties>
</file>