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639C-F8F5-41D1-8037-4B800AAB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07C-DD74-4658-B714-FB461FE5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133-C2BD-4EF9-B358-F19B1DEB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B058-93AB-4C1D-9999-9DAC4995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E6A0-7F21-4F69-B241-50C7CD32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2FCD-328E-4DFC-BD78-BBA90A32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9080-4CF2-4BC9-8B63-D4413221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52A0-BA29-47E8-9B85-BBD04BF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F360-04F8-4C8E-B102-7699E26C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944-7313-40B2-B334-EF406119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D340-BE55-4A97-8D62-8011B28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91B4-2331-402A-AE6C-B26BF77C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25A-FA2A-4ED2-8901-D7B33C9C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76FD-87A3-4B15-AA0F-A1CD02A1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568-234B-44D6-8905-ADBEF724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0C9A-5B3D-4CD1-9A2C-30512BF2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F11F-4DA1-40C0-A05B-0C3E4C00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F13-2DCC-4F6B-A113-9E7CE843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568-CA13-4F78-ADD0-FA9DADCF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EED-6834-4755-B2F0-6321C191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9B9-9B2A-417C-90BB-973E37C2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1E2-7186-44C5-9971-FC37E77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FA75-DD28-4EF4-BA88-ADD3518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467-055C-4A6E-8E7C-6C1C2AD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530-06A9-4FCB-810B-15EC7440A0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2D01-AFC1-4FE0-9E63-C654788C33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Georgia"/>
              </a:rPr>
              <a:t>Welcome to the Knowledge Land</a:t>
            </a:r>
            <a:endParaRPr b="1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e third island is “Lexical”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Picture 5" descr="MCj04379900000[1]"/>
          <p:cNvPicPr/>
          <p:nvPr/>
        </p:nvPicPr>
        <p:blipFill>
          <a:blip r:embed="rId1"/>
          <a:stretch/>
        </p:blipFill>
        <p:spPr>
          <a:xfrm>
            <a:off x="3348000" y="3645000"/>
            <a:ext cx="27367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 Can you finish these lists?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spring, autumn, summer, w …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) grandfather, grandmother, mother, f …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) hockey, baseball, volleyball, f …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) August, September, October, N …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) driver, teacher, artist, d …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. Match the two parts of each word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ab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ots                  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Wo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ve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La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il 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i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bit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wel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ke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Bo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y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Pen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an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4-конечная звезда 9"/>
          <p:cNvSpPr/>
          <p:nvPr/>
        </p:nvSpPr>
        <p:spPr>
          <a:xfrm>
            <a:off x="4214880" y="1285920"/>
            <a:ext cx="357120" cy="5143320"/>
          </a:xfrm>
          <a:custGeom>
            <a:avLst/>
            <a:gdLst>
              <a:gd name="textAreaLeft" fmla="*/ 147240 w 357120"/>
              <a:gd name="textAreaRight" fmla="*/ 209880 w 357120"/>
              <a:gd name="textAreaTop" fmla="*/ 2119320 h 5143320"/>
              <a:gd name="textAreaBottom" fmla="*/ 3024000 h 514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. Unscramble the letters to make the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ame of the animals.</a:t>
            </a:r>
            <a:br>
              <a:rPr sz="3600"/>
            </a:br>
            <a:br>
              <a:rPr sz="36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 g r t e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b t r b i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 d g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 o d c o i c l e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t p h e l e n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 o c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 o f g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 n e y m k –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 Give the opposites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ite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big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good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summer –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happy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yes –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oman –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. Find the numbers. (1-12) </a:t>
            </a:r>
            <a:br>
              <a:rPr sz="36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iveosixht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helevenoe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ightiten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oettenione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vefourteig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utwovrirnn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seventhre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enotwelveoм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ninefeight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e fourth island is “Riddles”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5" descr="MCj04344030000[1]"/>
          <p:cNvPicPr/>
          <p:nvPr/>
        </p:nvPicPr>
        <p:blipFill>
          <a:blip r:embed="rId1"/>
          <a:stretch/>
        </p:blipFill>
        <p:spPr>
          <a:xfrm>
            <a:off x="3203640" y="2781360"/>
            <a:ext cx="2467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I’m big. I’m grey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nose is long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tail is short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’m an … 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.I’m little. I’m grey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nose is short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tail is long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’m a … 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I’m small. I’m white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nose is black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ears are long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 like carrots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I’m a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…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I’m big. I’m red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 tail is long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 like cockerels and hens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I’m a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…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747360" y="-214200"/>
            <a:ext cx="73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mpetition of captain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-214200" y="685440"/>
            <a:ext cx="1178244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The leopard cannot change* its spo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Меня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 Не называй дурное хорошим, а черно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елы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 Сколько волка не корми, он все рав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 лес смотр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ончи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де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гуля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смел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The early* bird catches** the worm***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* ранний  ** ловить  *** червя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 Кончил дело – гуляй смел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 Без труда не вытащишь рыбки из пруд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 Кто рано встает, того удача жд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алые парус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-214200" y="357120"/>
            <a:ext cx="92152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Dumb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* </a:t>
            </a: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dogs are dangerous</a:t>
            </a:r>
            <a:r>
              <a:rPr b="1" lang="ru-RU" sz="40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* нем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 В тихом омуте черти водят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Делу время – потехе ча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 Один в поле не вои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To kill* two birds with one stone**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* убить  ** камен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1. Ворон ворону глаз не выклюе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2. Убить двух зайцев одним выстрелом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идн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тица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полёт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E END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8" descr="MCj04375710000[1]"/>
          <p:cNvPicPr/>
          <p:nvPr/>
        </p:nvPicPr>
        <p:blipFill>
          <a:blip r:embed="rId1"/>
          <a:stretch/>
        </p:blipFill>
        <p:spPr>
          <a:xfrm>
            <a:off x="1187280" y="836640"/>
            <a:ext cx="1400400" cy="1790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MCj04324870000[1]"/>
          <p:cNvPicPr/>
          <p:nvPr/>
        </p:nvPicPr>
        <p:blipFill>
          <a:blip r:embed="rId2"/>
          <a:stretch/>
        </p:blipFill>
        <p:spPr>
          <a:xfrm>
            <a:off x="684360" y="4149720"/>
            <a:ext cx="1847880" cy="1984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Cj04324830000[1]"/>
          <p:cNvPicPr/>
          <p:nvPr/>
        </p:nvPicPr>
        <p:blipFill>
          <a:blip r:embed="rId3"/>
          <a:stretch/>
        </p:blipFill>
        <p:spPr>
          <a:xfrm>
            <a:off x="5651640" y="549360"/>
            <a:ext cx="1778040" cy="1939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MCj04344090000[1]"/>
          <p:cNvPicPr/>
          <p:nvPr/>
        </p:nvPicPr>
        <p:blipFill>
          <a:blip r:embed="rId4"/>
          <a:stretch/>
        </p:blipFill>
        <p:spPr>
          <a:xfrm>
            <a:off x="6084720" y="4076640"/>
            <a:ext cx="19400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 first island is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«Tongue twister»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7" descr="MCj04343830000[1]"/>
          <p:cNvPicPr/>
          <p:nvPr/>
        </p:nvPicPr>
        <p:blipFill>
          <a:blip r:embed="rId1"/>
          <a:stretch/>
        </p:blipFill>
        <p:spPr>
          <a:xfrm>
            <a:off x="3635280" y="3933720"/>
            <a:ext cx="18576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8424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83680" y="1584000"/>
            <a:ext cx="88174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your head on your be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round the playground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he second island is “Grammar”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Picture 7" descr="MCj04343890000[1]"/>
          <p:cNvPicPr/>
          <p:nvPr/>
        </p:nvPicPr>
        <p:blipFill>
          <a:blip r:embed="rId1"/>
          <a:stretch/>
        </p:blipFill>
        <p:spPr>
          <a:xfrm>
            <a:off x="3348000" y="3141720"/>
            <a:ext cx="231156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 Use these words in plural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dog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toy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pen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child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wife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mouse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woman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fox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 bench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. Fill in the gaps with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am, is, are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 … OK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My sister … 16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y … English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t … fat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rose … red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You … from England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 and my friend … friends.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he … busy.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. Use these words to form the sentences.</a:t>
            </a: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) are, my mother, 40, father,</a:t>
            </a: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nd.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) have, I, a cat, got.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3) are, how, you? 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4) am, I, fine.</a:t>
            </a:r>
            <a:br>
              <a:rPr sz="4800"/>
            </a:b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5) good, he, at, is, school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 Find the mistakes.</a:t>
            </a:r>
            <a:br>
              <a:rPr sz="4000"/>
            </a:br>
            <a:br>
              <a:rPr sz="4000"/>
            </a:b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1) Ann and Mike is friends.</a:t>
            </a:r>
            <a:br>
              <a:rPr sz="4800"/>
            </a:b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2) My fish am yellow and red.</a:t>
            </a:r>
            <a:br>
              <a:rPr sz="4800"/>
            </a:b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3) We English are.</a:t>
            </a:r>
            <a:br>
              <a:rPr sz="4800"/>
            </a:b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4) I have got a book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en-GB" sz="4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4:03:28Z</dcterms:created>
  <dc:creator>genya</dc:creator>
  <dc:description/>
  <dc:language>en-US</dc:language>
  <cp:lastModifiedBy>Кабинет 41</cp:lastModifiedBy>
  <dcterms:modified xsi:type="dcterms:W3CDTF">2013-02-16T05:51:47Z</dcterms:modified>
  <cp:revision>9</cp:revision>
  <dc:subject/>
  <dc:title>Welcome to the Knowledge Land</dc:title>
</cp:coreProperties>
</file>