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0.png" ContentType="image/png"/>
  <Override PartName="/ppt/media/image1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3.png" ContentType="image/png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4.png" ContentType="image/png"/>
  <Override PartName="/ppt/media/image11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712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501880" y="-360"/>
            <a:ext cx="4210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1413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1280" y="3257640"/>
            <a:ext cx="777060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204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501880" y="6512040"/>
            <a:ext cx="4210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0BDF-AAA2-466B-8BC5-06C8CB5FF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5502240" y="6512040"/>
            <a:ext cx="4210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E77C-DE8D-491B-A17C-4DF715220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31417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71280" y="3257640"/>
            <a:ext cx="7770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43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F63-0D50-4112-B954-3EF87BF6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786-94B5-4A93-BA81-877C5E22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A8E-DEE1-4533-8843-B1577476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5D5-987E-4F4B-A9DA-8A5EB2E3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4D5C-4776-4B25-89E9-B16E70CA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A59B-504E-4067-82C9-A3154AC9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4A4A-FC0A-42A0-99B6-51B0CE9B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7CBE-3641-4D53-B4A1-AC14856C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CBA9-DB9F-4D18-8587-EC6A164F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8D53-F6D8-40A3-AFB5-4D8E6A01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16DA-D207-4FDE-AE9E-66372C63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6F4-38B5-47EA-A929-41483DB5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F9A2-9C36-45F5-BFC9-02C45CC8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2872-5DA9-44CA-BE93-747FC46E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2756-E99D-47C9-82E7-B66C41C3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85B5-0651-4B1E-A1B1-24C36FFA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49C3-B1ED-431A-A26B-7B1319D5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8A4-8EDB-40FC-B5F7-1D2CB9C2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8B8E-27F6-4D9E-90FA-B59AE063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031-D7C0-47D8-BB50-CC9109FA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2AC-5375-459F-B473-693C68BC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895-2CC3-491F-BF44-866D0833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626-2075-478C-A391-E9B8CC47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ADC-03B5-46BB-9D24-C2705A4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8106-B4EE-4756-869D-0E790C18E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660C-3F9B-4E09-8006-9BF926F3D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9.png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2.gif"/><Relationship Id="rId25" Type="http://schemas.openxmlformats.org/officeDocument/2006/relationships/image" Target="../media/image12.gif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3.png"/><Relationship Id="rId37" Type="http://schemas.openxmlformats.org/officeDocument/2006/relationships/image" Target="../media/image12.gif"/><Relationship Id="rId38" Type="http://schemas.openxmlformats.org/officeDocument/2006/relationships/image" Target="../media/image12.gif"/><Relationship Id="rId39" Type="http://schemas.openxmlformats.org/officeDocument/2006/relationships/image" Target="../media/image12.gif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55640" y="549360"/>
            <a:ext cx="3097080" cy="194292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194000" y="528480"/>
            <a:ext cx="403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=57,4 с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=1,2 с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68360" y="2708280"/>
            <a:ext cx="51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Р=2(а+</a:t>
            </a: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b</a:t>
            </a:r>
            <a:r>
              <a:rPr b="1" lang="ru-RU" sz="60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79280" y="424980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erdana"/>
              </a:rPr>
              <a:t>S=ab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8160" y="4686480"/>
            <a:ext cx="77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сканирование002"/>
          <p:cNvPicPr/>
          <p:nvPr/>
        </p:nvPicPr>
        <p:blipFill>
          <a:blip r:embed="rId2"/>
          <a:srcRect l="6713" t="1559" r="10930" b="7931"/>
          <a:stretch/>
        </p:blipFill>
        <p:spPr>
          <a:xfrm>
            <a:off x="2124000" y="0"/>
            <a:ext cx="496908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6"/>
          <p:cNvSpPr/>
          <p:nvPr/>
        </p:nvSpPr>
        <p:spPr>
          <a:xfrm>
            <a:off x="395280" y="0"/>
            <a:ext cx="93672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7596360" y="0"/>
            <a:ext cx="9363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95280" y="1484280"/>
          <a:ext cx="8569440" cy="7407360"/>
        </p:xfrm>
        <a:graphic>
          <a:graphicData uri="http://schemas.openxmlformats.org/drawingml/2006/table">
            <a:tbl>
              <a:tblPr/>
              <a:tblGrid>
                <a:gridCol w="4373640"/>
                <a:gridCol w="4195800"/>
              </a:tblGrid>
              <a:tr h="74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 кто из портфеля швыряет в досад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навистный задачник, пенал и тетради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ует свой дневник, не краснея при этом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 дубовый буфет,  чтоб лежал под буфетом?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знакомьтесь, пожалуйста, Костя Жигалин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ртва вечных придирок ,    - он снова  провален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шипит, на растрепанный глядя задачник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сто мне не везет! Просто я неудачник!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чем причина обиды его и досады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ответ не сошелся лишь на три десятых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 сущий пустяк, и к нему, безусловно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дирается строгая Марья Петровн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и десятых… Скажи про такую ошибку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, пожалуй, на лицах увидишь улыбку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и десятых… И все же об этой ошибке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 прошу вас послушать меня без улыб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ли б, строя Ваш дом, тот, в котором живете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хитектор немного ошибся в расчет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б случилось, ты знаешь ли Костя Жигалин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дом превратился бы в груду развалин!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ы вступаешь на мост, он надежен и прочен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не будь инженер в чертежах своих точен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ы бы , Костя, свалившись в холодную реку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 сказал бы спасибо тому человеку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т турбина, в ней вал токарями расточен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ли б токарь в работе не очень был точен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вершилось бы, Костя, большое несчасть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есло бы турбину на мелкие ча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и десятых – и стены возводятся косо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и десятых – и рухнут вагоны с откоса!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шибись только на три десятых аптека -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нет ядом лекарство, убьет человека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ы подумай об этом, мой друг, хладнокровно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кажи – не права ль была Марья Петровна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ли честно подумаешь, Костя об этом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 не долго лежать дневнику под буфетом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99ff33"/>
                        </a:gs>
                        <a:gs pos="100000">
                          <a:srgbClr val="ffff66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95" name="Text Box 16"/>
          <p:cNvSpPr/>
          <p:nvPr/>
        </p:nvSpPr>
        <p:spPr>
          <a:xfrm>
            <a:off x="826920" y="6206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«Три десятых»     В.Ливш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234936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324000" y="162864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890640" y="628560"/>
            <a:ext cx="208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  </a:t>
            </a: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1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Verdana"/>
              </a:rPr>
              <a:t>688,8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900000" y="2079720"/>
            <a:ext cx="1368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826920" y="3429000"/>
            <a:ext cx="1514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3733920" y="700200"/>
            <a:ext cx="19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57,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1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68,88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6948360" y="620640"/>
            <a:ext cx="1944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57,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0,1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114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Verdana"/>
              </a:rPr>
              <a:t>6,888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4022640" y="207000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3767040" y="3357720"/>
            <a:ext cx="1513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7093080" y="3357720"/>
            <a:ext cx="151272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7093080" y="2060640"/>
            <a:ext cx="14396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0"/>
          <p:cNvSpPr/>
          <p:nvPr/>
        </p:nvSpPr>
        <p:spPr>
          <a:xfrm>
            <a:off x="576360" y="14256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3689280" y="126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680400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34"/>
          <p:cNvSpPr/>
          <p:nvPr/>
        </p:nvSpPr>
        <p:spPr>
          <a:xfrm>
            <a:off x="630360" y="244332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35"/>
          <p:cNvSpPr/>
          <p:nvPr/>
        </p:nvSpPr>
        <p:spPr>
          <a:xfrm>
            <a:off x="3492360" y="253224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36"/>
          <p:cNvSpPr/>
          <p:nvPr/>
        </p:nvSpPr>
        <p:spPr>
          <a:xfrm>
            <a:off x="6659640" y="2421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395280" y="1916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=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57,4см 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●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1,2см =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= 68,88 см²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50920" y="692280"/>
            <a:ext cx="273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27,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82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755640" y="2565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68360" y="134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3635280" y="549360"/>
            <a:ext cx="2592360" cy="64764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3708360" y="1484280"/>
            <a:ext cx="2592360" cy="64764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3635280" y="2584440"/>
            <a:ext cx="3745080" cy="647640"/>
          </a:xfrm>
          <a:prstGeom prst="wedgeRectCallout">
            <a:avLst>
              <a:gd name="adj1" fmla="val -81708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+1=2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3875040" y="2708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332000" y="282744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50920" y="692280"/>
            <a:ext cx="2736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5,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3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116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1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1856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755640" y="2565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95280" y="465300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134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3635280" y="549360"/>
            <a:ext cx="2592360" cy="64764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3708360" y="1484280"/>
            <a:ext cx="2592360" cy="64764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3851280" y="4581360"/>
            <a:ext cx="3745080" cy="648000"/>
          </a:xfrm>
          <a:prstGeom prst="wedgeRectCallout">
            <a:avLst>
              <a:gd name="adj1" fmla="val -81708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+1=2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140360" y="465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332000" y="486900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0920" y="692280"/>
            <a:ext cx="2736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Verdana"/>
              </a:rPr>
              <a:t>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8,5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 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3,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  </a:t>
            </a: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1716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257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Verdana"/>
              </a:rPr>
              <a:t>27,456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755640" y="256536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395280" y="4653000"/>
            <a:ext cx="20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134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635280" y="549360"/>
            <a:ext cx="2592360" cy="64764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708360" y="1484280"/>
            <a:ext cx="2592360" cy="647640"/>
          </a:xfrm>
          <a:prstGeom prst="wedgeRectCallout">
            <a:avLst>
              <a:gd name="adj1" fmla="val -95805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циф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851280" y="4581360"/>
            <a:ext cx="3745080" cy="648000"/>
          </a:xfrm>
          <a:prstGeom prst="wedgeRectCallout">
            <a:avLst>
              <a:gd name="adj1" fmla="val -81708"/>
              <a:gd name="adj2" fmla="val 61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+1=3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140360" y="465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763640" y="260280"/>
            <a:ext cx="648036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1,27     3,5=  44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12,7    3,5=  44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0,127  3,5=    44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0,127 0,35=      44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12,7  0,1 = 127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Verdana"/>
              </a:rPr>
              <a:t>12,7  0,01=   127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390480" y="4149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63560" y="3141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247560" y="22042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318840" y="4039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796000" y="4005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6084720" y="2205000"/>
            <a:ext cx="4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867280" y="33336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651640" y="3068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148360" y="2997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219640" y="5157720"/>
            <a:ext cx="4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21"/>
          <p:cNvSpPr/>
          <p:nvPr/>
        </p:nvSpPr>
        <p:spPr>
          <a:xfrm flipH="1">
            <a:off x="5508720" y="335772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3132000" y="59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3103200" y="50126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Verdana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5364000" y="4941720"/>
            <a:ext cx="4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5508720" y="58770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6"/>
          <p:cNvSpPr/>
          <p:nvPr/>
        </p:nvSpPr>
        <p:spPr>
          <a:xfrm flipH="1">
            <a:off x="5939640" y="3357720"/>
            <a:ext cx="5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2124000" y="0"/>
            <a:ext cx="3240000" cy="647640"/>
          </a:xfrm>
          <a:prstGeom prst="cloudCallout">
            <a:avLst>
              <a:gd name="adj1" fmla="val -100856"/>
              <a:gd name="adj2" fmla="val -74018"/>
            </a:avLst>
          </a:prstGeom>
          <a:gradFill rotWithShape="0">
            <a:gsLst>
              <a:gs pos="0">
                <a:srgbClr val="88c9d8"/>
              </a:gs>
              <a:gs pos="50000">
                <a:srgbClr val="ffffff"/>
              </a:gs>
              <a:gs pos="100000">
                <a:srgbClr val="88c9d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7380360" y="0"/>
            <a:ext cx="1763640" cy="549360"/>
          </a:xfrm>
          <a:prstGeom prst="cloudCallout">
            <a:avLst>
              <a:gd name="adj1" fmla="val -181143"/>
              <a:gd name="adj2" fmla="val -78324"/>
            </a:avLst>
          </a:prstGeom>
          <a:gradFill rotWithShape="0">
            <a:gsLst>
              <a:gs pos="0">
                <a:srgbClr val="88c9d8"/>
              </a:gs>
              <a:gs pos="50000">
                <a:srgbClr val="ffffff"/>
              </a:gs>
              <a:gs pos="100000">
                <a:srgbClr val="88c9d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37r3[1]"/>
          <p:cNvPicPr/>
          <p:nvPr/>
        </p:nvPicPr>
        <p:blipFill>
          <a:blip r:embed="rId1"/>
          <a:stretch/>
        </p:blipFill>
        <p:spPr>
          <a:xfrm>
            <a:off x="0" y="0"/>
            <a:ext cx="1150920" cy="9079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5"/>
          <p:cNvGrpSpPr/>
          <p:nvPr/>
        </p:nvGrpSpPr>
        <p:grpSpPr>
          <a:xfrm>
            <a:off x="6082920" y="5769000"/>
            <a:ext cx="868320" cy="789120"/>
            <a:chOff x="6082920" y="5769000"/>
            <a:chExt cx="868320" cy="789120"/>
          </a:xfrm>
        </p:grpSpPr>
        <p:sp>
          <p:nvSpPr>
            <p:cNvPr id="160" name="plant"/>
            <p:cNvSpPr/>
            <p:nvPr/>
          </p:nvSpPr>
          <p:spPr>
            <a:xfrm rot="21408000">
              <a:off x="6160680" y="6181200"/>
              <a:ext cx="780840" cy="355320"/>
            </a:xfrm>
            <a:custGeom>
              <a:avLst/>
              <a:gdLst>
                <a:gd name="textAreaLeft" fmla="*/ 256680 w 780840"/>
                <a:gd name="textAreaRight" fmla="*/ 525960 w 780840"/>
                <a:gd name="textAreaTop" fmla="*/ 165600 h 355320"/>
                <a:gd name="textAreaBottom" fmla="*/ 223200 h 3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1" name="Picture 7" descr="2f4[1]"/>
            <p:cNvPicPr/>
            <p:nvPr/>
          </p:nvPicPr>
          <p:blipFill>
            <a:blip r:embed="rId2"/>
            <a:stretch/>
          </p:blipFill>
          <p:spPr>
            <a:xfrm flipH="1">
              <a:off x="6082920" y="5769000"/>
              <a:ext cx="729000" cy="63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8"/>
          <p:cNvGrpSpPr/>
          <p:nvPr/>
        </p:nvGrpSpPr>
        <p:grpSpPr>
          <a:xfrm>
            <a:off x="8165160" y="5229360"/>
            <a:ext cx="512640" cy="562320"/>
            <a:chOff x="8165160" y="5229360"/>
            <a:chExt cx="512640" cy="562320"/>
          </a:xfrm>
        </p:grpSpPr>
        <p:sp>
          <p:nvSpPr>
            <p:cNvPr id="163" name="plant"/>
            <p:cNvSpPr/>
            <p:nvPr/>
          </p:nvSpPr>
          <p:spPr>
            <a:xfrm rot="21408000">
              <a:off x="8172000" y="5511240"/>
              <a:ext cx="498600" cy="266400"/>
            </a:xfrm>
            <a:custGeom>
              <a:avLst/>
              <a:gdLst>
                <a:gd name="textAreaLeft" fmla="*/ 163800 w 498600"/>
                <a:gd name="textAreaRight" fmla="*/ 335880 w 498600"/>
                <a:gd name="textAreaTop" fmla="*/ 124200 h 266400"/>
                <a:gd name="textAreaBottom" fmla="*/ 16740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4" name="Picture 10" descr="2f4[1]"/>
            <p:cNvPicPr/>
            <p:nvPr/>
          </p:nvPicPr>
          <p:blipFill>
            <a:blip r:embed="rId3"/>
            <a:stretch/>
          </p:blipFill>
          <p:spPr>
            <a:xfrm>
              <a:off x="8172360" y="5229360"/>
              <a:ext cx="465480" cy="47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11"/>
          <p:cNvGrpSpPr/>
          <p:nvPr/>
        </p:nvGrpSpPr>
        <p:grpSpPr>
          <a:xfrm>
            <a:off x="5644440" y="5157720"/>
            <a:ext cx="457920" cy="561240"/>
            <a:chOff x="5644440" y="5157720"/>
            <a:chExt cx="457920" cy="561240"/>
          </a:xfrm>
        </p:grpSpPr>
        <p:sp>
          <p:nvSpPr>
            <p:cNvPr id="166" name="plant"/>
            <p:cNvSpPr/>
            <p:nvPr/>
          </p:nvSpPr>
          <p:spPr>
            <a:xfrm rot="21408000">
              <a:off x="5651280" y="5439960"/>
              <a:ext cx="436320" cy="266760"/>
            </a:xfrm>
            <a:custGeom>
              <a:avLst/>
              <a:gdLst>
                <a:gd name="textAreaLeft" fmla="*/ 143280 w 436320"/>
                <a:gd name="textAreaRight" fmla="*/ 293760 w 436320"/>
                <a:gd name="textAreaTop" fmla="*/ 124200 h 266760"/>
                <a:gd name="textAreaBottom" fmla="*/ 16776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67" name="Picture 13" descr="2f1[1]"/>
            <p:cNvPicPr/>
            <p:nvPr/>
          </p:nvPicPr>
          <p:blipFill>
            <a:blip r:embed="rId4"/>
            <a:stretch/>
          </p:blipFill>
          <p:spPr>
            <a:xfrm flipH="1">
              <a:off x="5651640" y="5157720"/>
              <a:ext cx="450720" cy="44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14"/>
          <p:cNvGrpSpPr/>
          <p:nvPr/>
        </p:nvGrpSpPr>
        <p:grpSpPr>
          <a:xfrm>
            <a:off x="2050920" y="5300640"/>
            <a:ext cx="792000" cy="535320"/>
            <a:chOff x="2050920" y="5300640"/>
            <a:chExt cx="792000" cy="535320"/>
          </a:xfrm>
        </p:grpSpPr>
        <p:sp>
          <p:nvSpPr>
            <p:cNvPr id="169" name="plant"/>
            <p:cNvSpPr/>
            <p:nvPr/>
          </p:nvSpPr>
          <p:spPr>
            <a:xfrm rot="21408000">
              <a:off x="2121840" y="5577840"/>
              <a:ext cx="714600" cy="238320"/>
            </a:xfrm>
            <a:custGeom>
              <a:avLst/>
              <a:gdLst>
                <a:gd name="textAreaLeft" fmla="*/ 235080 w 714600"/>
                <a:gd name="textAreaRight" fmla="*/ 481320 w 714600"/>
                <a:gd name="textAreaTop" fmla="*/ 110880 h 238320"/>
                <a:gd name="textAreaBottom" fmla="*/ 149760 h 23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70" name="Picture 16" descr="2f4[1]"/>
            <p:cNvPicPr/>
            <p:nvPr/>
          </p:nvPicPr>
          <p:blipFill>
            <a:blip r:embed="rId5"/>
            <a:stretch/>
          </p:blipFill>
          <p:spPr>
            <a:xfrm flipH="1">
              <a:off x="2050920" y="5300640"/>
              <a:ext cx="666720" cy="42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7"/>
          <p:cNvGrpSpPr/>
          <p:nvPr/>
        </p:nvGrpSpPr>
        <p:grpSpPr>
          <a:xfrm>
            <a:off x="3040200" y="5840280"/>
            <a:ext cx="923760" cy="793800"/>
            <a:chOff x="3040200" y="5840280"/>
            <a:chExt cx="923760" cy="793800"/>
          </a:xfrm>
        </p:grpSpPr>
        <p:sp>
          <p:nvSpPr>
            <p:cNvPr id="172" name="plant"/>
            <p:cNvSpPr/>
            <p:nvPr/>
          </p:nvSpPr>
          <p:spPr>
            <a:xfrm rot="21408000">
              <a:off x="3086280" y="6283440"/>
              <a:ext cx="869040" cy="326160"/>
            </a:xfrm>
            <a:custGeom>
              <a:avLst/>
              <a:gdLst>
                <a:gd name="textAreaLeft" fmla="*/ 285840 w 869040"/>
                <a:gd name="textAreaRight" fmla="*/ 585360 w 869040"/>
                <a:gd name="textAreaTop" fmla="*/ 151920 h 326160"/>
                <a:gd name="textAreaBottom" fmla="*/ 204840 h 32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73" name="Picture 19" descr="2f4[1]"/>
            <p:cNvPicPr/>
            <p:nvPr/>
          </p:nvPicPr>
          <p:blipFill>
            <a:blip r:embed="rId6"/>
            <a:stretch/>
          </p:blipFill>
          <p:spPr>
            <a:xfrm>
              <a:off x="3040200" y="5840280"/>
              <a:ext cx="811080" cy="58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Group 20"/>
          <p:cNvGrpSpPr/>
          <p:nvPr/>
        </p:nvGrpSpPr>
        <p:grpSpPr>
          <a:xfrm>
            <a:off x="964440" y="5229360"/>
            <a:ext cx="529200" cy="562680"/>
            <a:chOff x="964440" y="5229360"/>
            <a:chExt cx="529200" cy="562680"/>
          </a:xfrm>
        </p:grpSpPr>
        <p:sp>
          <p:nvSpPr>
            <p:cNvPr id="175" name="plant"/>
            <p:cNvSpPr/>
            <p:nvPr/>
          </p:nvSpPr>
          <p:spPr>
            <a:xfrm rot="21408000">
              <a:off x="971280" y="5511600"/>
              <a:ext cx="505080" cy="266400"/>
            </a:xfrm>
            <a:custGeom>
              <a:avLst/>
              <a:gdLst>
                <a:gd name="textAreaLeft" fmla="*/ 165960 w 505080"/>
                <a:gd name="textAreaRight" fmla="*/ 340200 w 505080"/>
                <a:gd name="textAreaTop" fmla="*/ 124200 h 266400"/>
                <a:gd name="textAreaBottom" fmla="*/ 167400 h 26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76" name="Picture 22" descr="2f1[1]"/>
            <p:cNvPicPr/>
            <p:nvPr/>
          </p:nvPicPr>
          <p:blipFill>
            <a:blip r:embed="rId7"/>
            <a:stretch/>
          </p:blipFill>
          <p:spPr>
            <a:xfrm flipH="1">
              <a:off x="971280" y="5229360"/>
              <a:ext cx="522360" cy="44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23"/>
          <p:cNvGrpSpPr/>
          <p:nvPr/>
        </p:nvGrpSpPr>
        <p:grpSpPr>
          <a:xfrm>
            <a:off x="4175280" y="5911920"/>
            <a:ext cx="975240" cy="792000"/>
            <a:chOff x="4175280" y="5911920"/>
            <a:chExt cx="975240" cy="792000"/>
          </a:xfrm>
        </p:grpSpPr>
        <p:sp>
          <p:nvSpPr>
            <p:cNvPr id="178" name="plant"/>
            <p:cNvSpPr/>
            <p:nvPr/>
          </p:nvSpPr>
          <p:spPr>
            <a:xfrm rot="21408000">
              <a:off x="4262400" y="6324480"/>
              <a:ext cx="878760" cy="355320"/>
            </a:xfrm>
            <a:custGeom>
              <a:avLst/>
              <a:gdLst>
                <a:gd name="textAreaLeft" fmla="*/ 289080 w 878760"/>
                <a:gd name="textAreaRight" fmla="*/ 591840 w 878760"/>
                <a:gd name="textAreaTop" fmla="*/ 165600 h 355320"/>
                <a:gd name="textAreaBottom" fmla="*/ 223200 h 35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79" name="Picture 25" descr="2f4[1]"/>
            <p:cNvPicPr/>
            <p:nvPr/>
          </p:nvPicPr>
          <p:blipFill>
            <a:blip r:embed="rId8"/>
            <a:stretch/>
          </p:blipFill>
          <p:spPr>
            <a:xfrm flipH="1">
              <a:off x="4175280" y="5911920"/>
              <a:ext cx="820080" cy="637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0" name="Group 26"/>
          <p:cNvGrpSpPr/>
          <p:nvPr/>
        </p:nvGrpSpPr>
        <p:grpSpPr>
          <a:xfrm>
            <a:off x="2043720" y="6019920"/>
            <a:ext cx="873360" cy="645480"/>
            <a:chOff x="2043720" y="6019920"/>
            <a:chExt cx="873360" cy="645480"/>
          </a:xfrm>
        </p:grpSpPr>
        <p:pic>
          <p:nvPicPr>
            <p:cNvPr id="181" name="Picture 27" descr="2f4[1]"/>
            <p:cNvPicPr/>
            <p:nvPr/>
          </p:nvPicPr>
          <p:blipFill>
            <a:blip r:embed="rId9"/>
            <a:stretch/>
          </p:blipFill>
          <p:spPr>
            <a:xfrm flipH="1">
              <a:off x="2050560" y="6019920"/>
              <a:ext cx="801720" cy="5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lant"/>
            <p:cNvSpPr/>
            <p:nvPr/>
          </p:nvSpPr>
          <p:spPr>
            <a:xfrm rot="21408000">
              <a:off x="2050920" y="6353640"/>
              <a:ext cx="858600" cy="287640"/>
            </a:xfrm>
            <a:custGeom>
              <a:avLst/>
              <a:gdLst>
                <a:gd name="textAreaLeft" fmla="*/ 282240 w 858600"/>
                <a:gd name="textAreaRight" fmla="*/ 578160 w 858600"/>
                <a:gd name="textAreaTop" fmla="*/ 133920 h 287640"/>
                <a:gd name="textAreaBottom" fmla="*/ 1807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3" name="Group 29"/>
          <p:cNvGrpSpPr/>
          <p:nvPr/>
        </p:nvGrpSpPr>
        <p:grpSpPr>
          <a:xfrm>
            <a:off x="1466640" y="5589720"/>
            <a:ext cx="530280" cy="749880"/>
            <a:chOff x="1466640" y="5589720"/>
            <a:chExt cx="530280" cy="749880"/>
          </a:xfrm>
        </p:grpSpPr>
        <p:sp>
          <p:nvSpPr>
            <p:cNvPr id="184" name="plant"/>
            <p:cNvSpPr/>
            <p:nvPr/>
          </p:nvSpPr>
          <p:spPr>
            <a:xfrm rot="21408000">
              <a:off x="1476000" y="5968440"/>
              <a:ext cx="503640" cy="357480"/>
            </a:xfrm>
            <a:custGeom>
              <a:avLst/>
              <a:gdLst>
                <a:gd name="textAreaLeft" fmla="*/ 165600 w 503640"/>
                <a:gd name="textAreaRight" fmla="*/ 339120 w 503640"/>
                <a:gd name="textAreaTop" fmla="*/ 166680 h 357480"/>
                <a:gd name="textAreaBottom" fmla="*/ 224640 h 35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5" name="Picture 31" descr="2f1[1]"/>
            <p:cNvPicPr/>
            <p:nvPr/>
          </p:nvPicPr>
          <p:blipFill>
            <a:blip r:embed="rId10"/>
            <a:stretch/>
          </p:blipFill>
          <p:spPr>
            <a:xfrm flipH="1">
              <a:off x="1476360" y="5589720"/>
              <a:ext cx="520560" cy="59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32"/>
          <p:cNvGrpSpPr/>
          <p:nvPr/>
        </p:nvGrpSpPr>
        <p:grpSpPr>
          <a:xfrm>
            <a:off x="3864240" y="4611960"/>
            <a:ext cx="978480" cy="447840"/>
            <a:chOff x="3864240" y="4611960"/>
            <a:chExt cx="978480" cy="447840"/>
          </a:xfrm>
        </p:grpSpPr>
        <p:grpSp>
          <p:nvGrpSpPr>
            <p:cNvPr id="187" name="Group 33"/>
            <p:cNvGrpSpPr/>
            <p:nvPr/>
          </p:nvGrpSpPr>
          <p:grpSpPr>
            <a:xfrm>
              <a:off x="3864240" y="4666320"/>
              <a:ext cx="492120" cy="393480"/>
              <a:chOff x="3864240" y="4666320"/>
              <a:chExt cx="492120" cy="393480"/>
            </a:xfrm>
          </p:grpSpPr>
          <p:grpSp>
            <p:nvGrpSpPr>
              <p:cNvPr id="188" name="Group 34"/>
              <p:cNvGrpSpPr/>
              <p:nvPr/>
            </p:nvGrpSpPr>
            <p:grpSpPr>
              <a:xfrm>
                <a:off x="4161960" y="4666320"/>
                <a:ext cx="194400" cy="277200"/>
                <a:chOff x="4161960" y="4666320"/>
                <a:chExt cx="194400" cy="277200"/>
              </a:xfrm>
            </p:grpSpPr>
            <p:sp>
              <p:nvSpPr>
                <p:cNvPr id="189" name="Freeform 35"/>
                <p:cNvSpPr/>
                <p:nvPr/>
              </p:nvSpPr>
              <p:spPr>
                <a:xfrm flipH="1" rot="21099600">
                  <a:off x="4178520" y="467640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0" name="Freeform 36"/>
                <p:cNvSpPr/>
                <p:nvPr/>
              </p:nvSpPr>
              <p:spPr>
                <a:xfrm flipH="1" rot="21099600">
                  <a:off x="4187520" y="46836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1" name="Group 37"/>
              <p:cNvGrpSpPr/>
              <p:nvPr/>
            </p:nvGrpSpPr>
            <p:grpSpPr>
              <a:xfrm>
                <a:off x="4046040" y="4709520"/>
                <a:ext cx="220680" cy="288720"/>
                <a:chOff x="4046040" y="4709520"/>
                <a:chExt cx="220680" cy="288720"/>
              </a:xfrm>
            </p:grpSpPr>
            <p:sp>
              <p:nvSpPr>
                <p:cNvPr id="192" name="Freeform 38"/>
                <p:cNvSpPr/>
                <p:nvPr/>
              </p:nvSpPr>
              <p:spPr>
                <a:xfrm flipH="1" rot="20649000">
                  <a:off x="4075200" y="472680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3" name="Freeform 39"/>
                <p:cNvSpPr/>
                <p:nvPr/>
              </p:nvSpPr>
              <p:spPr>
                <a:xfrm flipH="1" rot="20649000">
                  <a:off x="4085640" y="473580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4" name="Group 40"/>
              <p:cNvGrpSpPr/>
              <p:nvPr/>
            </p:nvGrpSpPr>
            <p:grpSpPr>
              <a:xfrm>
                <a:off x="3864240" y="4760280"/>
                <a:ext cx="268920" cy="299520"/>
                <a:chOff x="3864240" y="4760280"/>
                <a:chExt cx="268920" cy="299520"/>
              </a:xfrm>
            </p:grpSpPr>
            <p:sp>
              <p:nvSpPr>
                <p:cNvPr id="195" name="Freeform 41"/>
                <p:cNvSpPr/>
                <p:nvPr/>
              </p:nvSpPr>
              <p:spPr>
                <a:xfrm flipH="1" rot="19542600">
                  <a:off x="3917160" y="478476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96" name="Freeform 42"/>
                <p:cNvSpPr/>
                <p:nvPr/>
              </p:nvSpPr>
              <p:spPr>
                <a:xfrm flipH="1" rot="19542600">
                  <a:off x="3934440" y="47984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97" name="Group 43"/>
            <p:cNvGrpSpPr/>
            <p:nvPr/>
          </p:nvGrpSpPr>
          <p:grpSpPr>
            <a:xfrm>
              <a:off x="4361400" y="4611960"/>
              <a:ext cx="481320" cy="341280"/>
              <a:chOff x="4361400" y="4611960"/>
              <a:chExt cx="481320" cy="341280"/>
            </a:xfrm>
          </p:grpSpPr>
          <p:grpSp>
            <p:nvGrpSpPr>
              <p:cNvPr id="198" name="Group 44"/>
              <p:cNvGrpSpPr/>
              <p:nvPr/>
            </p:nvGrpSpPr>
            <p:grpSpPr>
              <a:xfrm>
                <a:off x="4361400" y="4611960"/>
                <a:ext cx="165600" cy="259200"/>
                <a:chOff x="4361400" y="4611960"/>
                <a:chExt cx="165600" cy="259200"/>
              </a:xfrm>
            </p:grpSpPr>
            <p:sp>
              <p:nvSpPr>
                <p:cNvPr id="199" name="Freeform 45"/>
                <p:cNvSpPr/>
                <p:nvPr/>
              </p:nvSpPr>
              <p:spPr>
                <a:xfrm rot="21544800">
                  <a:off x="4363200" y="46130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Freeform 46"/>
                <p:cNvSpPr/>
                <p:nvPr/>
              </p:nvSpPr>
              <p:spPr>
                <a:xfrm rot="21544800">
                  <a:off x="4412880" y="46166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1" name="Group 47"/>
              <p:cNvGrpSpPr/>
              <p:nvPr/>
            </p:nvGrpSpPr>
            <p:grpSpPr>
              <a:xfrm>
                <a:off x="4459680" y="4637880"/>
                <a:ext cx="187920" cy="272520"/>
                <a:chOff x="4459680" y="4637880"/>
                <a:chExt cx="187920" cy="272520"/>
              </a:xfrm>
            </p:grpSpPr>
            <p:sp>
              <p:nvSpPr>
                <p:cNvPr id="202" name="Freeform 48"/>
                <p:cNvSpPr/>
                <p:nvPr/>
              </p:nvSpPr>
              <p:spPr>
                <a:xfrm rot="395400">
                  <a:off x="4472640" y="464616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3" name="Freeform 49"/>
                <p:cNvSpPr/>
                <p:nvPr/>
              </p:nvSpPr>
              <p:spPr>
                <a:xfrm rot="395400">
                  <a:off x="4521240" y="465192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4" name="Group 50"/>
              <p:cNvGrpSpPr/>
              <p:nvPr/>
            </p:nvGrpSpPr>
            <p:grpSpPr>
              <a:xfrm>
                <a:off x="4594680" y="4655160"/>
                <a:ext cx="248040" cy="298080"/>
                <a:chOff x="4594680" y="4655160"/>
                <a:chExt cx="248040" cy="298080"/>
              </a:xfrm>
            </p:grpSpPr>
            <p:sp>
              <p:nvSpPr>
                <p:cNvPr id="205" name="Freeform 51"/>
                <p:cNvSpPr/>
                <p:nvPr/>
              </p:nvSpPr>
              <p:spPr>
                <a:xfrm rot="1501800">
                  <a:off x="4637880" y="46778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Freeform 52"/>
                <p:cNvSpPr/>
                <p:nvPr/>
              </p:nvSpPr>
              <p:spPr>
                <a:xfrm rot="1501800">
                  <a:off x="4681080" y="46893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07" name="Group 53"/>
          <p:cNvGrpSpPr/>
          <p:nvPr/>
        </p:nvGrpSpPr>
        <p:grpSpPr>
          <a:xfrm>
            <a:off x="695520" y="6418800"/>
            <a:ext cx="978480" cy="447840"/>
            <a:chOff x="695520" y="6418800"/>
            <a:chExt cx="978480" cy="447840"/>
          </a:xfrm>
        </p:grpSpPr>
        <p:grpSp>
          <p:nvGrpSpPr>
            <p:cNvPr id="208" name="Group 54"/>
            <p:cNvGrpSpPr/>
            <p:nvPr/>
          </p:nvGrpSpPr>
          <p:grpSpPr>
            <a:xfrm>
              <a:off x="695520" y="6473160"/>
              <a:ext cx="492120" cy="393480"/>
              <a:chOff x="695520" y="6473160"/>
              <a:chExt cx="492120" cy="393480"/>
            </a:xfrm>
          </p:grpSpPr>
          <p:grpSp>
            <p:nvGrpSpPr>
              <p:cNvPr id="209" name="Group 55"/>
              <p:cNvGrpSpPr/>
              <p:nvPr/>
            </p:nvGrpSpPr>
            <p:grpSpPr>
              <a:xfrm>
                <a:off x="993240" y="6473160"/>
                <a:ext cx="194400" cy="277200"/>
                <a:chOff x="993240" y="6473160"/>
                <a:chExt cx="194400" cy="277200"/>
              </a:xfrm>
            </p:grpSpPr>
            <p:sp>
              <p:nvSpPr>
                <p:cNvPr id="210" name="Freeform 56"/>
                <p:cNvSpPr/>
                <p:nvPr/>
              </p:nvSpPr>
              <p:spPr>
                <a:xfrm flipH="1" rot="21099600">
                  <a:off x="1009800" y="64832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1" name="Freeform 57"/>
                <p:cNvSpPr/>
                <p:nvPr/>
              </p:nvSpPr>
              <p:spPr>
                <a:xfrm flipH="1" rot="21099600">
                  <a:off x="1018440" y="64904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2" name="Group 58"/>
              <p:cNvGrpSpPr/>
              <p:nvPr/>
            </p:nvGrpSpPr>
            <p:grpSpPr>
              <a:xfrm>
                <a:off x="877320" y="6516360"/>
                <a:ext cx="220680" cy="288720"/>
                <a:chOff x="877320" y="6516360"/>
                <a:chExt cx="220680" cy="288720"/>
              </a:xfrm>
            </p:grpSpPr>
            <p:sp>
              <p:nvSpPr>
                <p:cNvPr id="213" name="Freeform 59"/>
                <p:cNvSpPr/>
                <p:nvPr/>
              </p:nvSpPr>
              <p:spPr>
                <a:xfrm flipH="1" rot="20649000">
                  <a:off x="906480" y="65336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Freeform 60"/>
                <p:cNvSpPr/>
                <p:nvPr/>
              </p:nvSpPr>
              <p:spPr>
                <a:xfrm flipH="1" rot="20649000">
                  <a:off x="916920" y="65426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5" name="Group 61"/>
              <p:cNvGrpSpPr/>
              <p:nvPr/>
            </p:nvGrpSpPr>
            <p:grpSpPr>
              <a:xfrm>
                <a:off x="695520" y="6567120"/>
                <a:ext cx="268920" cy="299520"/>
                <a:chOff x="695520" y="6567120"/>
                <a:chExt cx="268920" cy="299520"/>
              </a:xfrm>
            </p:grpSpPr>
            <p:sp>
              <p:nvSpPr>
                <p:cNvPr id="216" name="Freeform 62"/>
                <p:cNvSpPr/>
                <p:nvPr/>
              </p:nvSpPr>
              <p:spPr>
                <a:xfrm flipH="1" rot="19542600">
                  <a:off x="748440" y="659160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7" name="Freeform 63"/>
                <p:cNvSpPr/>
                <p:nvPr/>
              </p:nvSpPr>
              <p:spPr>
                <a:xfrm flipH="1" rot="19542600">
                  <a:off x="765720" y="66052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18" name="Group 64"/>
            <p:cNvGrpSpPr/>
            <p:nvPr/>
          </p:nvGrpSpPr>
          <p:grpSpPr>
            <a:xfrm>
              <a:off x="1192680" y="6418800"/>
              <a:ext cx="481320" cy="341280"/>
              <a:chOff x="1192680" y="6418800"/>
              <a:chExt cx="481320" cy="341280"/>
            </a:xfrm>
          </p:grpSpPr>
          <p:grpSp>
            <p:nvGrpSpPr>
              <p:cNvPr id="219" name="Group 65"/>
              <p:cNvGrpSpPr/>
              <p:nvPr/>
            </p:nvGrpSpPr>
            <p:grpSpPr>
              <a:xfrm>
                <a:off x="1192680" y="6418800"/>
                <a:ext cx="165600" cy="259200"/>
                <a:chOff x="1192680" y="6418800"/>
                <a:chExt cx="165600" cy="259200"/>
              </a:xfrm>
            </p:grpSpPr>
            <p:sp>
              <p:nvSpPr>
                <p:cNvPr id="220" name="Freeform 66"/>
                <p:cNvSpPr/>
                <p:nvPr/>
              </p:nvSpPr>
              <p:spPr>
                <a:xfrm rot="21544800">
                  <a:off x="1194480" y="64198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1" name="Freeform 67"/>
                <p:cNvSpPr/>
                <p:nvPr/>
              </p:nvSpPr>
              <p:spPr>
                <a:xfrm rot="21544800">
                  <a:off x="1244160" y="64234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Group 68"/>
              <p:cNvGrpSpPr/>
              <p:nvPr/>
            </p:nvGrpSpPr>
            <p:grpSpPr>
              <a:xfrm>
                <a:off x="1290960" y="6444720"/>
                <a:ext cx="187920" cy="272520"/>
                <a:chOff x="1290960" y="6444720"/>
                <a:chExt cx="187920" cy="272520"/>
              </a:xfrm>
            </p:grpSpPr>
            <p:sp>
              <p:nvSpPr>
                <p:cNvPr id="223" name="Freeform 69"/>
                <p:cNvSpPr/>
                <p:nvPr/>
              </p:nvSpPr>
              <p:spPr>
                <a:xfrm rot="395400">
                  <a:off x="1303920" y="645300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4" name="Freeform 70"/>
                <p:cNvSpPr/>
                <p:nvPr/>
              </p:nvSpPr>
              <p:spPr>
                <a:xfrm rot="395400">
                  <a:off x="1352520" y="645876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Group 71"/>
              <p:cNvGrpSpPr/>
              <p:nvPr/>
            </p:nvGrpSpPr>
            <p:grpSpPr>
              <a:xfrm>
                <a:off x="1425960" y="6462000"/>
                <a:ext cx="248040" cy="298080"/>
                <a:chOff x="1425960" y="6462000"/>
                <a:chExt cx="248040" cy="298080"/>
              </a:xfrm>
            </p:grpSpPr>
            <p:sp>
              <p:nvSpPr>
                <p:cNvPr id="226" name="Freeform 72"/>
                <p:cNvSpPr/>
                <p:nvPr/>
              </p:nvSpPr>
              <p:spPr>
                <a:xfrm rot="1501800">
                  <a:off x="1469160" y="64846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7" name="Freeform 73"/>
                <p:cNvSpPr/>
                <p:nvPr/>
              </p:nvSpPr>
              <p:spPr>
                <a:xfrm rot="1501800">
                  <a:off x="1512360" y="64962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28" name="Group 74"/>
          <p:cNvGrpSpPr/>
          <p:nvPr/>
        </p:nvGrpSpPr>
        <p:grpSpPr>
          <a:xfrm>
            <a:off x="5303880" y="4539240"/>
            <a:ext cx="978480" cy="447840"/>
            <a:chOff x="5303880" y="4539240"/>
            <a:chExt cx="978480" cy="447840"/>
          </a:xfrm>
        </p:grpSpPr>
        <p:grpSp>
          <p:nvGrpSpPr>
            <p:cNvPr id="229" name="Group 75"/>
            <p:cNvGrpSpPr/>
            <p:nvPr/>
          </p:nvGrpSpPr>
          <p:grpSpPr>
            <a:xfrm>
              <a:off x="5303880" y="4593600"/>
              <a:ext cx="492120" cy="393480"/>
              <a:chOff x="5303880" y="4593600"/>
              <a:chExt cx="492120" cy="393480"/>
            </a:xfrm>
          </p:grpSpPr>
          <p:grpSp>
            <p:nvGrpSpPr>
              <p:cNvPr id="230" name="Group 76"/>
              <p:cNvGrpSpPr/>
              <p:nvPr/>
            </p:nvGrpSpPr>
            <p:grpSpPr>
              <a:xfrm>
                <a:off x="5601600" y="4593600"/>
                <a:ext cx="194400" cy="277200"/>
                <a:chOff x="5601600" y="4593600"/>
                <a:chExt cx="194400" cy="277200"/>
              </a:xfrm>
            </p:grpSpPr>
            <p:sp>
              <p:nvSpPr>
                <p:cNvPr id="231" name="Freeform 77"/>
                <p:cNvSpPr/>
                <p:nvPr/>
              </p:nvSpPr>
              <p:spPr>
                <a:xfrm flipH="1" rot="21099600">
                  <a:off x="5618160" y="460368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Freeform 78"/>
                <p:cNvSpPr/>
                <p:nvPr/>
              </p:nvSpPr>
              <p:spPr>
                <a:xfrm flipH="1" rot="21099600">
                  <a:off x="5626800" y="46108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33" name="Group 79"/>
              <p:cNvGrpSpPr/>
              <p:nvPr/>
            </p:nvGrpSpPr>
            <p:grpSpPr>
              <a:xfrm>
                <a:off x="5485680" y="4636800"/>
                <a:ext cx="220680" cy="288720"/>
                <a:chOff x="5485680" y="4636800"/>
                <a:chExt cx="220680" cy="288720"/>
              </a:xfrm>
            </p:grpSpPr>
            <p:sp>
              <p:nvSpPr>
                <p:cNvPr id="234" name="Freeform 80"/>
                <p:cNvSpPr/>
                <p:nvPr/>
              </p:nvSpPr>
              <p:spPr>
                <a:xfrm flipH="1" rot="20649000">
                  <a:off x="5514840" y="465408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81"/>
                <p:cNvSpPr/>
                <p:nvPr/>
              </p:nvSpPr>
              <p:spPr>
                <a:xfrm flipH="1" rot="20649000">
                  <a:off x="5525280" y="466308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36" name="Group 82"/>
              <p:cNvGrpSpPr/>
              <p:nvPr/>
            </p:nvGrpSpPr>
            <p:grpSpPr>
              <a:xfrm>
                <a:off x="5303880" y="4687560"/>
                <a:ext cx="268920" cy="299520"/>
                <a:chOff x="5303880" y="4687560"/>
                <a:chExt cx="268920" cy="299520"/>
              </a:xfrm>
            </p:grpSpPr>
            <p:sp>
              <p:nvSpPr>
                <p:cNvPr id="237" name="Freeform 83"/>
                <p:cNvSpPr/>
                <p:nvPr/>
              </p:nvSpPr>
              <p:spPr>
                <a:xfrm flipH="1" rot="19542600">
                  <a:off x="5356800" y="471204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8" name="Freeform 84"/>
                <p:cNvSpPr/>
                <p:nvPr/>
              </p:nvSpPr>
              <p:spPr>
                <a:xfrm flipH="1" rot="19542600">
                  <a:off x="5374080" y="47257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39" name="Group 85"/>
            <p:cNvGrpSpPr/>
            <p:nvPr/>
          </p:nvGrpSpPr>
          <p:grpSpPr>
            <a:xfrm>
              <a:off x="5801040" y="4539240"/>
              <a:ext cx="481320" cy="341280"/>
              <a:chOff x="5801040" y="4539240"/>
              <a:chExt cx="481320" cy="341280"/>
            </a:xfrm>
          </p:grpSpPr>
          <p:grpSp>
            <p:nvGrpSpPr>
              <p:cNvPr id="240" name="Group 86"/>
              <p:cNvGrpSpPr/>
              <p:nvPr/>
            </p:nvGrpSpPr>
            <p:grpSpPr>
              <a:xfrm>
                <a:off x="5801040" y="4539240"/>
                <a:ext cx="165600" cy="259200"/>
                <a:chOff x="5801040" y="4539240"/>
                <a:chExt cx="165600" cy="259200"/>
              </a:xfrm>
            </p:grpSpPr>
            <p:sp>
              <p:nvSpPr>
                <p:cNvPr id="241" name="Freeform 87"/>
                <p:cNvSpPr/>
                <p:nvPr/>
              </p:nvSpPr>
              <p:spPr>
                <a:xfrm rot="21544800">
                  <a:off x="5802840" y="454032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2" name="Freeform 88"/>
                <p:cNvSpPr/>
                <p:nvPr/>
              </p:nvSpPr>
              <p:spPr>
                <a:xfrm rot="21544800">
                  <a:off x="5852520" y="45439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43" name="Group 89"/>
              <p:cNvGrpSpPr/>
              <p:nvPr/>
            </p:nvGrpSpPr>
            <p:grpSpPr>
              <a:xfrm>
                <a:off x="5899320" y="4565160"/>
                <a:ext cx="187920" cy="272520"/>
                <a:chOff x="5899320" y="4565160"/>
                <a:chExt cx="187920" cy="272520"/>
              </a:xfrm>
            </p:grpSpPr>
            <p:sp>
              <p:nvSpPr>
                <p:cNvPr id="244" name="Freeform 90"/>
                <p:cNvSpPr/>
                <p:nvPr/>
              </p:nvSpPr>
              <p:spPr>
                <a:xfrm rot="395400">
                  <a:off x="5912280" y="457344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5" name="Freeform 91"/>
                <p:cNvSpPr/>
                <p:nvPr/>
              </p:nvSpPr>
              <p:spPr>
                <a:xfrm rot="395400">
                  <a:off x="5960880" y="457920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46" name="Group 92"/>
              <p:cNvGrpSpPr/>
              <p:nvPr/>
            </p:nvGrpSpPr>
            <p:grpSpPr>
              <a:xfrm>
                <a:off x="6034320" y="4582440"/>
                <a:ext cx="248040" cy="298080"/>
                <a:chOff x="6034320" y="4582440"/>
                <a:chExt cx="248040" cy="298080"/>
              </a:xfrm>
            </p:grpSpPr>
            <p:sp>
              <p:nvSpPr>
                <p:cNvPr id="247" name="Freeform 93"/>
                <p:cNvSpPr/>
                <p:nvPr/>
              </p:nvSpPr>
              <p:spPr>
                <a:xfrm rot="1501800">
                  <a:off x="6077520" y="460512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94"/>
                <p:cNvSpPr/>
                <p:nvPr/>
              </p:nvSpPr>
              <p:spPr>
                <a:xfrm rot="1501800">
                  <a:off x="6120720" y="46166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49" name="Group 95"/>
          <p:cNvGrpSpPr/>
          <p:nvPr/>
        </p:nvGrpSpPr>
        <p:grpSpPr>
          <a:xfrm>
            <a:off x="7248600" y="4467600"/>
            <a:ext cx="978480" cy="447840"/>
            <a:chOff x="7248600" y="4467600"/>
            <a:chExt cx="978480" cy="447840"/>
          </a:xfrm>
        </p:grpSpPr>
        <p:grpSp>
          <p:nvGrpSpPr>
            <p:cNvPr id="250" name="Group 96"/>
            <p:cNvGrpSpPr/>
            <p:nvPr/>
          </p:nvGrpSpPr>
          <p:grpSpPr>
            <a:xfrm>
              <a:off x="7248600" y="4521960"/>
              <a:ext cx="492120" cy="393480"/>
              <a:chOff x="7248600" y="4521960"/>
              <a:chExt cx="492120" cy="393480"/>
            </a:xfrm>
          </p:grpSpPr>
          <p:grpSp>
            <p:nvGrpSpPr>
              <p:cNvPr id="251" name="Group 97"/>
              <p:cNvGrpSpPr/>
              <p:nvPr/>
            </p:nvGrpSpPr>
            <p:grpSpPr>
              <a:xfrm>
                <a:off x="7546320" y="4521960"/>
                <a:ext cx="194400" cy="277200"/>
                <a:chOff x="7546320" y="4521960"/>
                <a:chExt cx="194400" cy="277200"/>
              </a:xfrm>
            </p:grpSpPr>
            <p:sp>
              <p:nvSpPr>
                <p:cNvPr id="252" name="Freeform 98"/>
                <p:cNvSpPr/>
                <p:nvPr/>
              </p:nvSpPr>
              <p:spPr>
                <a:xfrm flipH="1" rot="21099600">
                  <a:off x="7562880" y="45320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3" name="Freeform 99"/>
                <p:cNvSpPr/>
                <p:nvPr/>
              </p:nvSpPr>
              <p:spPr>
                <a:xfrm flipH="1" rot="21099600">
                  <a:off x="7571520" y="45392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4" name="Group 100"/>
              <p:cNvGrpSpPr/>
              <p:nvPr/>
            </p:nvGrpSpPr>
            <p:grpSpPr>
              <a:xfrm>
                <a:off x="7430400" y="4565160"/>
                <a:ext cx="220680" cy="288720"/>
                <a:chOff x="7430400" y="4565160"/>
                <a:chExt cx="220680" cy="288720"/>
              </a:xfrm>
            </p:grpSpPr>
            <p:sp>
              <p:nvSpPr>
                <p:cNvPr id="255" name="Freeform 101"/>
                <p:cNvSpPr/>
                <p:nvPr/>
              </p:nvSpPr>
              <p:spPr>
                <a:xfrm flipH="1" rot="20649000">
                  <a:off x="7459560" y="45824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6" name="Freeform 102"/>
                <p:cNvSpPr/>
                <p:nvPr/>
              </p:nvSpPr>
              <p:spPr>
                <a:xfrm flipH="1" rot="20649000">
                  <a:off x="7470000" y="45914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7" name="Group 103"/>
              <p:cNvGrpSpPr/>
              <p:nvPr/>
            </p:nvGrpSpPr>
            <p:grpSpPr>
              <a:xfrm>
                <a:off x="7248600" y="4615920"/>
                <a:ext cx="268920" cy="299520"/>
                <a:chOff x="7248600" y="4615920"/>
                <a:chExt cx="268920" cy="299520"/>
              </a:xfrm>
            </p:grpSpPr>
            <p:sp>
              <p:nvSpPr>
                <p:cNvPr id="258" name="Freeform 104"/>
                <p:cNvSpPr/>
                <p:nvPr/>
              </p:nvSpPr>
              <p:spPr>
                <a:xfrm flipH="1" rot="19542600">
                  <a:off x="7301520" y="464040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59" name="Freeform 105"/>
                <p:cNvSpPr/>
                <p:nvPr/>
              </p:nvSpPr>
              <p:spPr>
                <a:xfrm flipH="1" rot="19542600">
                  <a:off x="7318800" y="46540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60" name="Group 106"/>
            <p:cNvGrpSpPr/>
            <p:nvPr/>
          </p:nvGrpSpPr>
          <p:grpSpPr>
            <a:xfrm>
              <a:off x="7745760" y="4467600"/>
              <a:ext cx="481320" cy="341280"/>
              <a:chOff x="7745760" y="4467600"/>
              <a:chExt cx="481320" cy="341280"/>
            </a:xfrm>
          </p:grpSpPr>
          <p:grpSp>
            <p:nvGrpSpPr>
              <p:cNvPr id="261" name="Group 107"/>
              <p:cNvGrpSpPr/>
              <p:nvPr/>
            </p:nvGrpSpPr>
            <p:grpSpPr>
              <a:xfrm>
                <a:off x="7745760" y="4467600"/>
                <a:ext cx="165600" cy="259200"/>
                <a:chOff x="7745760" y="4467600"/>
                <a:chExt cx="165600" cy="259200"/>
              </a:xfrm>
            </p:grpSpPr>
            <p:sp>
              <p:nvSpPr>
                <p:cNvPr id="262" name="Freeform 108"/>
                <p:cNvSpPr/>
                <p:nvPr/>
              </p:nvSpPr>
              <p:spPr>
                <a:xfrm rot="21544800">
                  <a:off x="7747560" y="44686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Freeform 109"/>
                <p:cNvSpPr/>
                <p:nvPr/>
              </p:nvSpPr>
              <p:spPr>
                <a:xfrm rot="21544800">
                  <a:off x="7797240" y="44722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4" name="Group 110"/>
              <p:cNvGrpSpPr/>
              <p:nvPr/>
            </p:nvGrpSpPr>
            <p:grpSpPr>
              <a:xfrm>
                <a:off x="7844040" y="4493520"/>
                <a:ext cx="187920" cy="272520"/>
                <a:chOff x="7844040" y="4493520"/>
                <a:chExt cx="187920" cy="272520"/>
              </a:xfrm>
            </p:grpSpPr>
            <p:sp>
              <p:nvSpPr>
                <p:cNvPr id="265" name="Freeform 111"/>
                <p:cNvSpPr/>
                <p:nvPr/>
              </p:nvSpPr>
              <p:spPr>
                <a:xfrm rot="395400">
                  <a:off x="7857000" y="450180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112"/>
                <p:cNvSpPr/>
                <p:nvPr/>
              </p:nvSpPr>
              <p:spPr>
                <a:xfrm rot="395400">
                  <a:off x="7905600" y="450756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7" name="Group 113"/>
              <p:cNvGrpSpPr/>
              <p:nvPr/>
            </p:nvGrpSpPr>
            <p:grpSpPr>
              <a:xfrm>
                <a:off x="7979040" y="4510800"/>
                <a:ext cx="248040" cy="298080"/>
                <a:chOff x="7979040" y="4510800"/>
                <a:chExt cx="248040" cy="298080"/>
              </a:xfrm>
            </p:grpSpPr>
            <p:sp>
              <p:nvSpPr>
                <p:cNvPr id="268" name="Freeform 114"/>
                <p:cNvSpPr/>
                <p:nvPr/>
              </p:nvSpPr>
              <p:spPr>
                <a:xfrm rot="1501800">
                  <a:off x="8022240" y="45334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Freeform 115"/>
                <p:cNvSpPr/>
                <p:nvPr/>
              </p:nvSpPr>
              <p:spPr>
                <a:xfrm rot="1501800">
                  <a:off x="8065440" y="45450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70" name="Group 116"/>
          <p:cNvGrpSpPr/>
          <p:nvPr/>
        </p:nvGrpSpPr>
        <p:grpSpPr>
          <a:xfrm>
            <a:off x="8220240" y="4467600"/>
            <a:ext cx="978480" cy="447840"/>
            <a:chOff x="8220240" y="4467600"/>
            <a:chExt cx="978480" cy="447840"/>
          </a:xfrm>
        </p:grpSpPr>
        <p:grpSp>
          <p:nvGrpSpPr>
            <p:cNvPr id="271" name="Group 117"/>
            <p:cNvGrpSpPr/>
            <p:nvPr/>
          </p:nvGrpSpPr>
          <p:grpSpPr>
            <a:xfrm>
              <a:off x="8220240" y="4521960"/>
              <a:ext cx="492120" cy="393480"/>
              <a:chOff x="8220240" y="4521960"/>
              <a:chExt cx="492120" cy="393480"/>
            </a:xfrm>
          </p:grpSpPr>
          <p:grpSp>
            <p:nvGrpSpPr>
              <p:cNvPr id="272" name="Group 118"/>
              <p:cNvGrpSpPr/>
              <p:nvPr/>
            </p:nvGrpSpPr>
            <p:grpSpPr>
              <a:xfrm>
                <a:off x="8517960" y="4521960"/>
                <a:ext cx="194400" cy="277200"/>
                <a:chOff x="8517960" y="4521960"/>
                <a:chExt cx="194400" cy="277200"/>
              </a:xfrm>
            </p:grpSpPr>
            <p:sp>
              <p:nvSpPr>
                <p:cNvPr id="273" name="Freeform 119"/>
                <p:cNvSpPr/>
                <p:nvPr/>
              </p:nvSpPr>
              <p:spPr>
                <a:xfrm flipH="1" rot="21099600">
                  <a:off x="8534520" y="45320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4" name="Freeform 120"/>
                <p:cNvSpPr/>
                <p:nvPr/>
              </p:nvSpPr>
              <p:spPr>
                <a:xfrm flipH="1" rot="21099600">
                  <a:off x="8543160" y="45392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5" name="Group 121"/>
              <p:cNvGrpSpPr/>
              <p:nvPr/>
            </p:nvGrpSpPr>
            <p:grpSpPr>
              <a:xfrm>
                <a:off x="8402040" y="4565160"/>
                <a:ext cx="220680" cy="288720"/>
                <a:chOff x="8402040" y="4565160"/>
                <a:chExt cx="220680" cy="288720"/>
              </a:xfrm>
            </p:grpSpPr>
            <p:sp>
              <p:nvSpPr>
                <p:cNvPr id="276" name="Freeform 122"/>
                <p:cNvSpPr/>
                <p:nvPr/>
              </p:nvSpPr>
              <p:spPr>
                <a:xfrm flipH="1" rot="20649000">
                  <a:off x="8431200" y="45824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Freeform 123"/>
                <p:cNvSpPr/>
                <p:nvPr/>
              </p:nvSpPr>
              <p:spPr>
                <a:xfrm flipH="1" rot="20649000">
                  <a:off x="8441640" y="45914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8" name="Group 124"/>
              <p:cNvGrpSpPr/>
              <p:nvPr/>
            </p:nvGrpSpPr>
            <p:grpSpPr>
              <a:xfrm>
                <a:off x="8220240" y="4615920"/>
                <a:ext cx="268920" cy="299520"/>
                <a:chOff x="8220240" y="4615920"/>
                <a:chExt cx="268920" cy="299520"/>
              </a:xfrm>
            </p:grpSpPr>
            <p:sp>
              <p:nvSpPr>
                <p:cNvPr id="279" name="Freeform 125"/>
                <p:cNvSpPr/>
                <p:nvPr/>
              </p:nvSpPr>
              <p:spPr>
                <a:xfrm flipH="1" rot="19542600">
                  <a:off x="8273160" y="464040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Freeform 126"/>
                <p:cNvSpPr/>
                <p:nvPr/>
              </p:nvSpPr>
              <p:spPr>
                <a:xfrm flipH="1" rot="19542600">
                  <a:off x="8290440" y="46540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81" name="Group 127"/>
            <p:cNvGrpSpPr/>
            <p:nvPr/>
          </p:nvGrpSpPr>
          <p:grpSpPr>
            <a:xfrm>
              <a:off x="8717400" y="4467600"/>
              <a:ext cx="481320" cy="341280"/>
              <a:chOff x="8717400" y="4467600"/>
              <a:chExt cx="481320" cy="341280"/>
            </a:xfrm>
          </p:grpSpPr>
          <p:grpSp>
            <p:nvGrpSpPr>
              <p:cNvPr id="282" name="Group 128"/>
              <p:cNvGrpSpPr/>
              <p:nvPr/>
            </p:nvGrpSpPr>
            <p:grpSpPr>
              <a:xfrm>
                <a:off x="8717400" y="4467600"/>
                <a:ext cx="165600" cy="259200"/>
                <a:chOff x="8717400" y="4467600"/>
                <a:chExt cx="165600" cy="259200"/>
              </a:xfrm>
            </p:grpSpPr>
            <p:sp>
              <p:nvSpPr>
                <p:cNvPr id="283" name="Freeform 129"/>
                <p:cNvSpPr/>
                <p:nvPr/>
              </p:nvSpPr>
              <p:spPr>
                <a:xfrm rot="21544800">
                  <a:off x="8719200" y="44686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4" name="Freeform 130"/>
                <p:cNvSpPr/>
                <p:nvPr/>
              </p:nvSpPr>
              <p:spPr>
                <a:xfrm rot="21544800">
                  <a:off x="8768880" y="44722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5" name="Group 131"/>
              <p:cNvGrpSpPr/>
              <p:nvPr/>
            </p:nvGrpSpPr>
            <p:grpSpPr>
              <a:xfrm>
                <a:off x="8815680" y="4493520"/>
                <a:ext cx="187920" cy="272520"/>
                <a:chOff x="8815680" y="4493520"/>
                <a:chExt cx="187920" cy="272520"/>
              </a:xfrm>
            </p:grpSpPr>
            <p:sp>
              <p:nvSpPr>
                <p:cNvPr id="286" name="Freeform 132"/>
                <p:cNvSpPr/>
                <p:nvPr/>
              </p:nvSpPr>
              <p:spPr>
                <a:xfrm rot="395400">
                  <a:off x="8828640" y="450180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33"/>
                <p:cNvSpPr/>
                <p:nvPr/>
              </p:nvSpPr>
              <p:spPr>
                <a:xfrm rot="395400">
                  <a:off x="8877240" y="450756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8" name="Group 134"/>
              <p:cNvGrpSpPr/>
              <p:nvPr/>
            </p:nvGrpSpPr>
            <p:grpSpPr>
              <a:xfrm>
                <a:off x="8950680" y="4510800"/>
                <a:ext cx="248040" cy="298080"/>
                <a:chOff x="8950680" y="4510800"/>
                <a:chExt cx="248040" cy="298080"/>
              </a:xfrm>
            </p:grpSpPr>
            <p:sp>
              <p:nvSpPr>
                <p:cNvPr id="289" name="Freeform 135"/>
                <p:cNvSpPr/>
                <p:nvPr/>
              </p:nvSpPr>
              <p:spPr>
                <a:xfrm rot="1501800">
                  <a:off x="8993880" y="45334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0" name="Freeform 136"/>
                <p:cNvSpPr/>
                <p:nvPr/>
              </p:nvSpPr>
              <p:spPr>
                <a:xfrm rot="1501800">
                  <a:off x="9037080" y="45450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91" name="Group 137"/>
          <p:cNvGrpSpPr/>
          <p:nvPr/>
        </p:nvGrpSpPr>
        <p:grpSpPr>
          <a:xfrm>
            <a:off x="119160" y="5691600"/>
            <a:ext cx="978480" cy="447840"/>
            <a:chOff x="119160" y="5691600"/>
            <a:chExt cx="978480" cy="447840"/>
          </a:xfrm>
        </p:grpSpPr>
        <p:grpSp>
          <p:nvGrpSpPr>
            <p:cNvPr id="292" name="Group 138"/>
            <p:cNvGrpSpPr/>
            <p:nvPr/>
          </p:nvGrpSpPr>
          <p:grpSpPr>
            <a:xfrm>
              <a:off x="119160" y="5745960"/>
              <a:ext cx="492120" cy="393480"/>
              <a:chOff x="119160" y="5745960"/>
              <a:chExt cx="492120" cy="393480"/>
            </a:xfrm>
          </p:grpSpPr>
          <p:grpSp>
            <p:nvGrpSpPr>
              <p:cNvPr id="293" name="Group 139"/>
              <p:cNvGrpSpPr/>
              <p:nvPr/>
            </p:nvGrpSpPr>
            <p:grpSpPr>
              <a:xfrm>
                <a:off x="416880" y="5745960"/>
                <a:ext cx="194400" cy="277200"/>
                <a:chOff x="416880" y="5745960"/>
                <a:chExt cx="194400" cy="277200"/>
              </a:xfrm>
            </p:grpSpPr>
            <p:sp>
              <p:nvSpPr>
                <p:cNvPr id="294" name="Freeform 140"/>
                <p:cNvSpPr/>
                <p:nvPr/>
              </p:nvSpPr>
              <p:spPr>
                <a:xfrm flipH="1" rot="21099600">
                  <a:off x="433440" y="57560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5" name="Freeform 141"/>
                <p:cNvSpPr/>
                <p:nvPr/>
              </p:nvSpPr>
              <p:spPr>
                <a:xfrm flipH="1" rot="21099600">
                  <a:off x="442080" y="57632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6" name="Group 142"/>
              <p:cNvGrpSpPr/>
              <p:nvPr/>
            </p:nvGrpSpPr>
            <p:grpSpPr>
              <a:xfrm>
                <a:off x="300960" y="5789160"/>
                <a:ext cx="220680" cy="288720"/>
                <a:chOff x="300960" y="5789160"/>
                <a:chExt cx="220680" cy="288720"/>
              </a:xfrm>
            </p:grpSpPr>
            <p:sp>
              <p:nvSpPr>
                <p:cNvPr id="297" name="Freeform 143"/>
                <p:cNvSpPr/>
                <p:nvPr/>
              </p:nvSpPr>
              <p:spPr>
                <a:xfrm flipH="1" rot="20649000">
                  <a:off x="330120" y="58064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8" name="Freeform 144"/>
                <p:cNvSpPr/>
                <p:nvPr/>
              </p:nvSpPr>
              <p:spPr>
                <a:xfrm flipH="1" rot="20649000">
                  <a:off x="340560" y="58154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9" name="Group 145"/>
              <p:cNvGrpSpPr/>
              <p:nvPr/>
            </p:nvGrpSpPr>
            <p:grpSpPr>
              <a:xfrm>
                <a:off x="119160" y="5839920"/>
                <a:ext cx="268920" cy="299520"/>
                <a:chOff x="119160" y="5839920"/>
                <a:chExt cx="268920" cy="299520"/>
              </a:xfrm>
            </p:grpSpPr>
            <p:sp>
              <p:nvSpPr>
                <p:cNvPr id="300" name="Freeform 146"/>
                <p:cNvSpPr/>
                <p:nvPr/>
              </p:nvSpPr>
              <p:spPr>
                <a:xfrm flipH="1" rot="19542600">
                  <a:off x="172080" y="586440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1" name="Freeform 147"/>
                <p:cNvSpPr/>
                <p:nvPr/>
              </p:nvSpPr>
              <p:spPr>
                <a:xfrm flipH="1" rot="19542600">
                  <a:off x="189360" y="58780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02" name="Group 148"/>
            <p:cNvGrpSpPr/>
            <p:nvPr/>
          </p:nvGrpSpPr>
          <p:grpSpPr>
            <a:xfrm>
              <a:off x="616320" y="5691600"/>
              <a:ext cx="481320" cy="341280"/>
              <a:chOff x="616320" y="5691600"/>
              <a:chExt cx="481320" cy="341280"/>
            </a:xfrm>
          </p:grpSpPr>
          <p:grpSp>
            <p:nvGrpSpPr>
              <p:cNvPr id="303" name="Group 149"/>
              <p:cNvGrpSpPr/>
              <p:nvPr/>
            </p:nvGrpSpPr>
            <p:grpSpPr>
              <a:xfrm>
                <a:off x="616320" y="5691600"/>
                <a:ext cx="165600" cy="259200"/>
                <a:chOff x="616320" y="5691600"/>
                <a:chExt cx="165600" cy="259200"/>
              </a:xfrm>
            </p:grpSpPr>
            <p:sp>
              <p:nvSpPr>
                <p:cNvPr id="304" name="Freeform 150"/>
                <p:cNvSpPr/>
                <p:nvPr/>
              </p:nvSpPr>
              <p:spPr>
                <a:xfrm rot="21544800">
                  <a:off x="618120" y="56926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5" name="Freeform 151"/>
                <p:cNvSpPr/>
                <p:nvPr/>
              </p:nvSpPr>
              <p:spPr>
                <a:xfrm rot="21544800">
                  <a:off x="667800" y="56962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6" name="Group 152"/>
              <p:cNvGrpSpPr/>
              <p:nvPr/>
            </p:nvGrpSpPr>
            <p:grpSpPr>
              <a:xfrm>
                <a:off x="714600" y="5717520"/>
                <a:ext cx="187920" cy="272520"/>
                <a:chOff x="714600" y="5717520"/>
                <a:chExt cx="187920" cy="272520"/>
              </a:xfrm>
            </p:grpSpPr>
            <p:sp>
              <p:nvSpPr>
                <p:cNvPr id="307" name="Freeform 153"/>
                <p:cNvSpPr/>
                <p:nvPr/>
              </p:nvSpPr>
              <p:spPr>
                <a:xfrm rot="395400">
                  <a:off x="727560" y="572580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8" name="Freeform 154"/>
                <p:cNvSpPr/>
                <p:nvPr/>
              </p:nvSpPr>
              <p:spPr>
                <a:xfrm rot="395400">
                  <a:off x="776160" y="573156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9" name="Group 155"/>
              <p:cNvGrpSpPr/>
              <p:nvPr/>
            </p:nvGrpSpPr>
            <p:grpSpPr>
              <a:xfrm>
                <a:off x="849600" y="5734800"/>
                <a:ext cx="248040" cy="298080"/>
                <a:chOff x="849600" y="5734800"/>
                <a:chExt cx="248040" cy="298080"/>
              </a:xfrm>
            </p:grpSpPr>
            <p:sp>
              <p:nvSpPr>
                <p:cNvPr id="310" name="Freeform 156"/>
                <p:cNvSpPr/>
                <p:nvPr/>
              </p:nvSpPr>
              <p:spPr>
                <a:xfrm rot="1501800">
                  <a:off x="892800" y="57574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1" name="Freeform 157"/>
                <p:cNvSpPr/>
                <p:nvPr/>
              </p:nvSpPr>
              <p:spPr>
                <a:xfrm rot="1501800">
                  <a:off x="936000" y="57690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12" name="Group 158"/>
          <p:cNvGrpSpPr/>
          <p:nvPr/>
        </p:nvGrpSpPr>
        <p:grpSpPr>
          <a:xfrm>
            <a:off x="7932960" y="5799600"/>
            <a:ext cx="978480" cy="447840"/>
            <a:chOff x="7932960" y="5799600"/>
            <a:chExt cx="978480" cy="447840"/>
          </a:xfrm>
        </p:grpSpPr>
        <p:grpSp>
          <p:nvGrpSpPr>
            <p:cNvPr id="313" name="Group 159"/>
            <p:cNvGrpSpPr/>
            <p:nvPr/>
          </p:nvGrpSpPr>
          <p:grpSpPr>
            <a:xfrm>
              <a:off x="7932960" y="5853960"/>
              <a:ext cx="492120" cy="393480"/>
              <a:chOff x="7932960" y="5853960"/>
              <a:chExt cx="492120" cy="393480"/>
            </a:xfrm>
          </p:grpSpPr>
          <p:grpSp>
            <p:nvGrpSpPr>
              <p:cNvPr id="314" name="Group 160"/>
              <p:cNvGrpSpPr/>
              <p:nvPr/>
            </p:nvGrpSpPr>
            <p:grpSpPr>
              <a:xfrm>
                <a:off x="8230680" y="5853960"/>
                <a:ext cx="194400" cy="277200"/>
                <a:chOff x="8230680" y="5853960"/>
                <a:chExt cx="194400" cy="277200"/>
              </a:xfrm>
            </p:grpSpPr>
            <p:sp>
              <p:nvSpPr>
                <p:cNvPr id="315" name="Freeform 161"/>
                <p:cNvSpPr/>
                <p:nvPr/>
              </p:nvSpPr>
              <p:spPr>
                <a:xfrm flipH="1" rot="21099600">
                  <a:off x="8247240" y="58640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6" name="Freeform 162"/>
                <p:cNvSpPr/>
                <p:nvPr/>
              </p:nvSpPr>
              <p:spPr>
                <a:xfrm flipH="1" rot="21099600">
                  <a:off x="8255880" y="58712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7" name="Group 163"/>
              <p:cNvGrpSpPr/>
              <p:nvPr/>
            </p:nvGrpSpPr>
            <p:grpSpPr>
              <a:xfrm>
                <a:off x="8114760" y="5897160"/>
                <a:ext cx="220680" cy="288720"/>
                <a:chOff x="8114760" y="5897160"/>
                <a:chExt cx="220680" cy="288720"/>
              </a:xfrm>
            </p:grpSpPr>
            <p:sp>
              <p:nvSpPr>
                <p:cNvPr id="318" name="Freeform 164"/>
                <p:cNvSpPr/>
                <p:nvPr/>
              </p:nvSpPr>
              <p:spPr>
                <a:xfrm flipH="1" rot="20649000">
                  <a:off x="8143920" y="59144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9" name="Freeform 165"/>
                <p:cNvSpPr/>
                <p:nvPr/>
              </p:nvSpPr>
              <p:spPr>
                <a:xfrm flipH="1" rot="20649000">
                  <a:off x="8154360" y="59234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0" name="Group 166"/>
              <p:cNvGrpSpPr/>
              <p:nvPr/>
            </p:nvGrpSpPr>
            <p:grpSpPr>
              <a:xfrm>
                <a:off x="7932960" y="5947920"/>
                <a:ext cx="268920" cy="299520"/>
                <a:chOff x="7932960" y="5947920"/>
                <a:chExt cx="268920" cy="299520"/>
              </a:xfrm>
            </p:grpSpPr>
            <p:sp>
              <p:nvSpPr>
                <p:cNvPr id="321" name="Freeform 167"/>
                <p:cNvSpPr/>
                <p:nvPr/>
              </p:nvSpPr>
              <p:spPr>
                <a:xfrm flipH="1" rot="19542600">
                  <a:off x="7985880" y="597240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2" name="Freeform 168"/>
                <p:cNvSpPr/>
                <p:nvPr/>
              </p:nvSpPr>
              <p:spPr>
                <a:xfrm flipH="1" rot="19542600">
                  <a:off x="8003160" y="59860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3" name="Group 169"/>
            <p:cNvGrpSpPr/>
            <p:nvPr/>
          </p:nvGrpSpPr>
          <p:grpSpPr>
            <a:xfrm>
              <a:off x="8430120" y="5799600"/>
              <a:ext cx="481320" cy="341280"/>
              <a:chOff x="8430120" y="5799600"/>
              <a:chExt cx="481320" cy="341280"/>
            </a:xfrm>
          </p:grpSpPr>
          <p:grpSp>
            <p:nvGrpSpPr>
              <p:cNvPr id="324" name="Group 170"/>
              <p:cNvGrpSpPr/>
              <p:nvPr/>
            </p:nvGrpSpPr>
            <p:grpSpPr>
              <a:xfrm>
                <a:off x="8430120" y="5799600"/>
                <a:ext cx="165600" cy="259200"/>
                <a:chOff x="8430120" y="5799600"/>
                <a:chExt cx="165600" cy="259200"/>
              </a:xfrm>
            </p:grpSpPr>
            <p:sp>
              <p:nvSpPr>
                <p:cNvPr id="325" name="Freeform 171"/>
                <p:cNvSpPr/>
                <p:nvPr/>
              </p:nvSpPr>
              <p:spPr>
                <a:xfrm rot="21544800">
                  <a:off x="8431920" y="58006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6" name="Freeform 172"/>
                <p:cNvSpPr/>
                <p:nvPr/>
              </p:nvSpPr>
              <p:spPr>
                <a:xfrm rot="21544800">
                  <a:off x="8481600" y="58042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7" name="Group 173"/>
              <p:cNvGrpSpPr/>
              <p:nvPr/>
            </p:nvGrpSpPr>
            <p:grpSpPr>
              <a:xfrm>
                <a:off x="8528400" y="5825520"/>
                <a:ext cx="187920" cy="272520"/>
                <a:chOff x="8528400" y="5825520"/>
                <a:chExt cx="187920" cy="272520"/>
              </a:xfrm>
            </p:grpSpPr>
            <p:sp>
              <p:nvSpPr>
                <p:cNvPr id="328" name="Freeform 174"/>
                <p:cNvSpPr/>
                <p:nvPr/>
              </p:nvSpPr>
              <p:spPr>
                <a:xfrm rot="395400">
                  <a:off x="8541360" y="583380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9" name="Freeform 175"/>
                <p:cNvSpPr/>
                <p:nvPr/>
              </p:nvSpPr>
              <p:spPr>
                <a:xfrm rot="395400">
                  <a:off x="8589960" y="583956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0" name="Group 176"/>
              <p:cNvGrpSpPr/>
              <p:nvPr/>
            </p:nvGrpSpPr>
            <p:grpSpPr>
              <a:xfrm>
                <a:off x="8663400" y="5842800"/>
                <a:ext cx="248040" cy="298080"/>
                <a:chOff x="8663400" y="5842800"/>
                <a:chExt cx="248040" cy="298080"/>
              </a:xfrm>
            </p:grpSpPr>
            <p:sp>
              <p:nvSpPr>
                <p:cNvPr id="331" name="Freeform 177"/>
                <p:cNvSpPr/>
                <p:nvPr/>
              </p:nvSpPr>
              <p:spPr>
                <a:xfrm rot="1501800">
                  <a:off x="8706600" y="58654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2" name="Freeform 178"/>
                <p:cNvSpPr/>
                <p:nvPr/>
              </p:nvSpPr>
              <p:spPr>
                <a:xfrm rot="1501800">
                  <a:off x="8749800" y="58770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33" name="Group 179"/>
          <p:cNvGrpSpPr/>
          <p:nvPr/>
        </p:nvGrpSpPr>
        <p:grpSpPr>
          <a:xfrm>
            <a:off x="4224600" y="5691600"/>
            <a:ext cx="978480" cy="447840"/>
            <a:chOff x="4224600" y="5691600"/>
            <a:chExt cx="978480" cy="447840"/>
          </a:xfrm>
        </p:grpSpPr>
        <p:grpSp>
          <p:nvGrpSpPr>
            <p:cNvPr id="334" name="Group 180"/>
            <p:cNvGrpSpPr/>
            <p:nvPr/>
          </p:nvGrpSpPr>
          <p:grpSpPr>
            <a:xfrm>
              <a:off x="4224600" y="5745960"/>
              <a:ext cx="492120" cy="393480"/>
              <a:chOff x="4224600" y="5745960"/>
              <a:chExt cx="492120" cy="393480"/>
            </a:xfrm>
          </p:grpSpPr>
          <p:grpSp>
            <p:nvGrpSpPr>
              <p:cNvPr id="335" name="Group 181"/>
              <p:cNvGrpSpPr/>
              <p:nvPr/>
            </p:nvGrpSpPr>
            <p:grpSpPr>
              <a:xfrm>
                <a:off x="4522320" y="5745960"/>
                <a:ext cx="194400" cy="277200"/>
                <a:chOff x="4522320" y="5745960"/>
                <a:chExt cx="194400" cy="277200"/>
              </a:xfrm>
            </p:grpSpPr>
            <p:sp>
              <p:nvSpPr>
                <p:cNvPr id="336" name="Freeform 182"/>
                <p:cNvSpPr/>
                <p:nvPr/>
              </p:nvSpPr>
              <p:spPr>
                <a:xfrm flipH="1" rot="21099600">
                  <a:off x="4538880" y="57560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7" name="Freeform 183"/>
                <p:cNvSpPr/>
                <p:nvPr/>
              </p:nvSpPr>
              <p:spPr>
                <a:xfrm flipH="1" rot="21099600">
                  <a:off x="4547520" y="57632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8" name="Group 184"/>
              <p:cNvGrpSpPr/>
              <p:nvPr/>
            </p:nvGrpSpPr>
            <p:grpSpPr>
              <a:xfrm>
                <a:off x="4406400" y="5789160"/>
                <a:ext cx="220680" cy="288720"/>
                <a:chOff x="4406400" y="5789160"/>
                <a:chExt cx="220680" cy="288720"/>
              </a:xfrm>
            </p:grpSpPr>
            <p:sp>
              <p:nvSpPr>
                <p:cNvPr id="339" name="Freeform 185"/>
                <p:cNvSpPr/>
                <p:nvPr/>
              </p:nvSpPr>
              <p:spPr>
                <a:xfrm flipH="1" rot="20649000">
                  <a:off x="4435560" y="58064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0" name="Freeform 186"/>
                <p:cNvSpPr/>
                <p:nvPr/>
              </p:nvSpPr>
              <p:spPr>
                <a:xfrm flipH="1" rot="20649000">
                  <a:off x="4446000" y="58154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1" name="Group 187"/>
              <p:cNvGrpSpPr/>
              <p:nvPr/>
            </p:nvGrpSpPr>
            <p:grpSpPr>
              <a:xfrm>
                <a:off x="4224600" y="5839920"/>
                <a:ext cx="268920" cy="299520"/>
                <a:chOff x="4224600" y="5839920"/>
                <a:chExt cx="268920" cy="299520"/>
              </a:xfrm>
            </p:grpSpPr>
            <p:sp>
              <p:nvSpPr>
                <p:cNvPr id="342" name="Freeform 188"/>
                <p:cNvSpPr/>
                <p:nvPr/>
              </p:nvSpPr>
              <p:spPr>
                <a:xfrm flipH="1" rot="19542600">
                  <a:off x="4277520" y="586440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3" name="Freeform 189"/>
                <p:cNvSpPr/>
                <p:nvPr/>
              </p:nvSpPr>
              <p:spPr>
                <a:xfrm flipH="1" rot="19542600">
                  <a:off x="4294800" y="58780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44" name="Group 190"/>
            <p:cNvGrpSpPr/>
            <p:nvPr/>
          </p:nvGrpSpPr>
          <p:grpSpPr>
            <a:xfrm>
              <a:off x="4721760" y="5691600"/>
              <a:ext cx="481320" cy="341280"/>
              <a:chOff x="4721760" y="5691600"/>
              <a:chExt cx="481320" cy="341280"/>
            </a:xfrm>
          </p:grpSpPr>
          <p:grpSp>
            <p:nvGrpSpPr>
              <p:cNvPr id="345" name="Group 191"/>
              <p:cNvGrpSpPr/>
              <p:nvPr/>
            </p:nvGrpSpPr>
            <p:grpSpPr>
              <a:xfrm>
                <a:off x="4721760" y="5691600"/>
                <a:ext cx="165600" cy="259200"/>
                <a:chOff x="4721760" y="5691600"/>
                <a:chExt cx="165600" cy="259200"/>
              </a:xfrm>
            </p:grpSpPr>
            <p:sp>
              <p:nvSpPr>
                <p:cNvPr id="346" name="Freeform 192"/>
                <p:cNvSpPr/>
                <p:nvPr/>
              </p:nvSpPr>
              <p:spPr>
                <a:xfrm rot="21544800">
                  <a:off x="4723560" y="56926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7" name="Freeform 193"/>
                <p:cNvSpPr/>
                <p:nvPr/>
              </p:nvSpPr>
              <p:spPr>
                <a:xfrm rot="21544800">
                  <a:off x="4773240" y="56962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8" name="Group 194"/>
              <p:cNvGrpSpPr/>
              <p:nvPr/>
            </p:nvGrpSpPr>
            <p:grpSpPr>
              <a:xfrm>
                <a:off x="4820040" y="5717520"/>
                <a:ext cx="187920" cy="272520"/>
                <a:chOff x="4820040" y="5717520"/>
                <a:chExt cx="187920" cy="272520"/>
              </a:xfrm>
            </p:grpSpPr>
            <p:sp>
              <p:nvSpPr>
                <p:cNvPr id="349" name="Freeform 195"/>
                <p:cNvSpPr/>
                <p:nvPr/>
              </p:nvSpPr>
              <p:spPr>
                <a:xfrm rot="395400">
                  <a:off x="4833000" y="572580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196"/>
                <p:cNvSpPr/>
                <p:nvPr/>
              </p:nvSpPr>
              <p:spPr>
                <a:xfrm rot="395400">
                  <a:off x="4881600" y="573156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1" name="Group 197"/>
              <p:cNvGrpSpPr/>
              <p:nvPr/>
            </p:nvGrpSpPr>
            <p:grpSpPr>
              <a:xfrm>
                <a:off x="4955040" y="5734800"/>
                <a:ext cx="248040" cy="298080"/>
                <a:chOff x="4955040" y="5734800"/>
                <a:chExt cx="248040" cy="298080"/>
              </a:xfrm>
            </p:grpSpPr>
            <p:sp>
              <p:nvSpPr>
                <p:cNvPr id="352" name="Freeform 198"/>
                <p:cNvSpPr/>
                <p:nvPr/>
              </p:nvSpPr>
              <p:spPr>
                <a:xfrm rot="1501800">
                  <a:off x="4998240" y="57574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3" name="Freeform 199"/>
                <p:cNvSpPr/>
                <p:nvPr/>
              </p:nvSpPr>
              <p:spPr>
                <a:xfrm rot="1501800">
                  <a:off x="5041440" y="57690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4" name="Group 200"/>
          <p:cNvGrpSpPr/>
          <p:nvPr/>
        </p:nvGrpSpPr>
        <p:grpSpPr>
          <a:xfrm>
            <a:off x="2424240" y="4827960"/>
            <a:ext cx="978480" cy="447840"/>
            <a:chOff x="2424240" y="4827960"/>
            <a:chExt cx="978480" cy="447840"/>
          </a:xfrm>
        </p:grpSpPr>
        <p:grpSp>
          <p:nvGrpSpPr>
            <p:cNvPr id="355" name="Group 201"/>
            <p:cNvGrpSpPr/>
            <p:nvPr/>
          </p:nvGrpSpPr>
          <p:grpSpPr>
            <a:xfrm>
              <a:off x="2424240" y="4882320"/>
              <a:ext cx="492120" cy="393480"/>
              <a:chOff x="2424240" y="4882320"/>
              <a:chExt cx="492120" cy="393480"/>
            </a:xfrm>
          </p:grpSpPr>
          <p:grpSp>
            <p:nvGrpSpPr>
              <p:cNvPr id="356" name="Group 202"/>
              <p:cNvGrpSpPr/>
              <p:nvPr/>
            </p:nvGrpSpPr>
            <p:grpSpPr>
              <a:xfrm>
                <a:off x="2721960" y="4882320"/>
                <a:ext cx="194400" cy="277200"/>
                <a:chOff x="2721960" y="4882320"/>
                <a:chExt cx="194400" cy="277200"/>
              </a:xfrm>
            </p:grpSpPr>
            <p:sp>
              <p:nvSpPr>
                <p:cNvPr id="357" name="Freeform 203"/>
                <p:cNvSpPr/>
                <p:nvPr/>
              </p:nvSpPr>
              <p:spPr>
                <a:xfrm flipH="1" rot="21099600">
                  <a:off x="2738520" y="489240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8" name="Freeform 204"/>
                <p:cNvSpPr/>
                <p:nvPr/>
              </p:nvSpPr>
              <p:spPr>
                <a:xfrm flipH="1" rot="21099600">
                  <a:off x="2747160" y="48996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9" name="Group 205"/>
              <p:cNvGrpSpPr/>
              <p:nvPr/>
            </p:nvGrpSpPr>
            <p:grpSpPr>
              <a:xfrm>
                <a:off x="2606040" y="4925520"/>
                <a:ext cx="220680" cy="288720"/>
                <a:chOff x="2606040" y="4925520"/>
                <a:chExt cx="220680" cy="288720"/>
              </a:xfrm>
            </p:grpSpPr>
            <p:sp>
              <p:nvSpPr>
                <p:cNvPr id="360" name="Freeform 206"/>
                <p:cNvSpPr/>
                <p:nvPr/>
              </p:nvSpPr>
              <p:spPr>
                <a:xfrm flipH="1" rot="20649000">
                  <a:off x="2635200" y="494280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1" name="Freeform 207"/>
                <p:cNvSpPr/>
                <p:nvPr/>
              </p:nvSpPr>
              <p:spPr>
                <a:xfrm flipH="1" rot="20649000">
                  <a:off x="2645640" y="495180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2" name="Group 208"/>
              <p:cNvGrpSpPr/>
              <p:nvPr/>
            </p:nvGrpSpPr>
            <p:grpSpPr>
              <a:xfrm>
                <a:off x="2424240" y="4976280"/>
                <a:ext cx="268920" cy="299520"/>
                <a:chOff x="2424240" y="4976280"/>
                <a:chExt cx="268920" cy="299520"/>
              </a:xfrm>
            </p:grpSpPr>
            <p:sp>
              <p:nvSpPr>
                <p:cNvPr id="363" name="Freeform 209"/>
                <p:cNvSpPr/>
                <p:nvPr/>
              </p:nvSpPr>
              <p:spPr>
                <a:xfrm flipH="1" rot="19542600">
                  <a:off x="2477160" y="500076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Freeform 210"/>
                <p:cNvSpPr/>
                <p:nvPr/>
              </p:nvSpPr>
              <p:spPr>
                <a:xfrm flipH="1" rot="19542600">
                  <a:off x="2494440" y="50144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65" name="Group 211"/>
            <p:cNvGrpSpPr/>
            <p:nvPr/>
          </p:nvGrpSpPr>
          <p:grpSpPr>
            <a:xfrm>
              <a:off x="2921400" y="4827960"/>
              <a:ext cx="481320" cy="341280"/>
              <a:chOff x="2921400" y="4827960"/>
              <a:chExt cx="481320" cy="341280"/>
            </a:xfrm>
          </p:grpSpPr>
          <p:grpSp>
            <p:nvGrpSpPr>
              <p:cNvPr id="366" name="Group 212"/>
              <p:cNvGrpSpPr/>
              <p:nvPr/>
            </p:nvGrpSpPr>
            <p:grpSpPr>
              <a:xfrm>
                <a:off x="2921400" y="4827960"/>
                <a:ext cx="165600" cy="259200"/>
                <a:chOff x="2921400" y="4827960"/>
                <a:chExt cx="165600" cy="259200"/>
              </a:xfrm>
            </p:grpSpPr>
            <p:sp>
              <p:nvSpPr>
                <p:cNvPr id="367" name="Freeform 213"/>
                <p:cNvSpPr/>
                <p:nvPr/>
              </p:nvSpPr>
              <p:spPr>
                <a:xfrm rot="21544800">
                  <a:off x="2923200" y="48290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8" name="Freeform 214"/>
                <p:cNvSpPr/>
                <p:nvPr/>
              </p:nvSpPr>
              <p:spPr>
                <a:xfrm rot="21544800">
                  <a:off x="2972880" y="48326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9" name="Group 215"/>
              <p:cNvGrpSpPr/>
              <p:nvPr/>
            </p:nvGrpSpPr>
            <p:grpSpPr>
              <a:xfrm>
                <a:off x="3019680" y="4853880"/>
                <a:ext cx="187920" cy="272520"/>
                <a:chOff x="3019680" y="4853880"/>
                <a:chExt cx="187920" cy="272520"/>
              </a:xfrm>
            </p:grpSpPr>
            <p:sp>
              <p:nvSpPr>
                <p:cNvPr id="370" name="Freeform 216"/>
                <p:cNvSpPr/>
                <p:nvPr/>
              </p:nvSpPr>
              <p:spPr>
                <a:xfrm rot="395400">
                  <a:off x="3032640" y="486216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1" name="Freeform 217"/>
                <p:cNvSpPr/>
                <p:nvPr/>
              </p:nvSpPr>
              <p:spPr>
                <a:xfrm rot="395400">
                  <a:off x="3081240" y="486792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2" name="Group 218"/>
              <p:cNvGrpSpPr/>
              <p:nvPr/>
            </p:nvGrpSpPr>
            <p:grpSpPr>
              <a:xfrm>
                <a:off x="3154680" y="4871160"/>
                <a:ext cx="248040" cy="298080"/>
                <a:chOff x="3154680" y="4871160"/>
                <a:chExt cx="248040" cy="298080"/>
              </a:xfrm>
            </p:grpSpPr>
            <p:sp>
              <p:nvSpPr>
                <p:cNvPr id="373" name="Freeform 219"/>
                <p:cNvSpPr/>
                <p:nvPr/>
              </p:nvSpPr>
              <p:spPr>
                <a:xfrm rot="1501800">
                  <a:off x="3197880" y="48938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4" name="Freeform 220"/>
                <p:cNvSpPr/>
                <p:nvPr/>
              </p:nvSpPr>
              <p:spPr>
                <a:xfrm rot="1501800">
                  <a:off x="3241080" y="49053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75" name="Group 221"/>
          <p:cNvGrpSpPr/>
          <p:nvPr/>
        </p:nvGrpSpPr>
        <p:grpSpPr>
          <a:xfrm>
            <a:off x="4511880" y="5043960"/>
            <a:ext cx="978480" cy="447840"/>
            <a:chOff x="4511880" y="5043960"/>
            <a:chExt cx="978480" cy="447840"/>
          </a:xfrm>
        </p:grpSpPr>
        <p:grpSp>
          <p:nvGrpSpPr>
            <p:cNvPr id="376" name="Group 222"/>
            <p:cNvGrpSpPr/>
            <p:nvPr/>
          </p:nvGrpSpPr>
          <p:grpSpPr>
            <a:xfrm>
              <a:off x="4511880" y="5098320"/>
              <a:ext cx="492120" cy="393480"/>
              <a:chOff x="4511880" y="5098320"/>
              <a:chExt cx="492120" cy="393480"/>
            </a:xfrm>
          </p:grpSpPr>
          <p:grpSp>
            <p:nvGrpSpPr>
              <p:cNvPr id="377" name="Group 223"/>
              <p:cNvGrpSpPr/>
              <p:nvPr/>
            </p:nvGrpSpPr>
            <p:grpSpPr>
              <a:xfrm>
                <a:off x="4809600" y="5098320"/>
                <a:ext cx="194400" cy="277200"/>
                <a:chOff x="4809600" y="5098320"/>
                <a:chExt cx="194400" cy="277200"/>
              </a:xfrm>
            </p:grpSpPr>
            <p:sp>
              <p:nvSpPr>
                <p:cNvPr id="378" name="Freeform 224"/>
                <p:cNvSpPr/>
                <p:nvPr/>
              </p:nvSpPr>
              <p:spPr>
                <a:xfrm flipH="1" rot="21099600">
                  <a:off x="4826160" y="510840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9" name="Freeform 225"/>
                <p:cNvSpPr/>
                <p:nvPr/>
              </p:nvSpPr>
              <p:spPr>
                <a:xfrm flipH="1" rot="21099600">
                  <a:off x="4834800" y="51156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0" name="Group 226"/>
              <p:cNvGrpSpPr/>
              <p:nvPr/>
            </p:nvGrpSpPr>
            <p:grpSpPr>
              <a:xfrm>
                <a:off x="4693680" y="5141520"/>
                <a:ext cx="220680" cy="288720"/>
                <a:chOff x="4693680" y="5141520"/>
                <a:chExt cx="220680" cy="288720"/>
              </a:xfrm>
            </p:grpSpPr>
            <p:sp>
              <p:nvSpPr>
                <p:cNvPr id="381" name="Freeform 227"/>
                <p:cNvSpPr/>
                <p:nvPr/>
              </p:nvSpPr>
              <p:spPr>
                <a:xfrm flipH="1" rot="20649000">
                  <a:off x="4722840" y="515880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2" name="Freeform 228"/>
                <p:cNvSpPr/>
                <p:nvPr/>
              </p:nvSpPr>
              <p:spPr>
                <a:xfrm flipH="1" rot="20649000">
                  <a:off x="4733280" y="516780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3" name="Group 229"/>
              <p:cNvGrpSpPr/>
              <p:nvPr/>
            </p:nvGrpSpPr>
            <p:grpSpPr>
              <a:xfrm>
                <a:off x="4511880" y="5192280"/>
                <a:ext cx="268920" cy="299520"/>
                <a:chOff x="4511880" y="5192280"/>
                <a:chExt cx="268920" cy="299520"/>
              </a:xfrm>
            </p:grpSpPr>
            <p:sp>
              <p:nvSpPr>
                <p:cNvPr id="384" name="Freeform 230"/>
                <p:cNvSpPr/>
                <p:nvPr/>
              </p:nvSpPr>
              <p:spPr>
                <a:xfrm flipH="1" rot="19542600">
                  <a:off x="4564800" y="521676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5" name="Freeform 231"/>
                <p:cNvSpPr/>
                <p:nvPr/>
              </p:nvSpPr>
              <p:spPr>
                <a:xfrm flipH="1" rot="19542600">
                  <a:off x="4582080" y="52304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86" name="Group 232"/>
            <p:cNvGrpSpPr/>
            <p:nvPr/>
          </p:nvGrpSpPr>
          <p:grpSpPr>
            <a:xfrm>
              <a:off x="5009040" y="5043960"/>
              <a:ext cx="481320" cy="341280"/>
              <a:chOff x="5009040" y="5043960"/>
              <a:chExt cx="481320" cy="341280"/>
            </a:xfrm>
          </p:grpSpPr>
          <p:grpSp>
            <p:nvGrpSpPr>
              <p:cNvPr id="387" name="Group 233"/>
              <p:cNvGrpSpPr/>
              <p:nvPr/>
            </p:nvGrpSpPr>
            <p:grpSpPr>
              <a:xfrm>
                <a:off x="5009040" y="5043960"/>
                <a:ext cx="165600" cy="259200"/>
                <a:chOff x="5009040" y="5043960"/>
                <a:chExt cx="165600" cy="259200"/>
              </a:xfrm>
            </p:grpSpPr>
            <p:sp>
              <p:nvSpPr>
                <p:cNvPr id="388" name="Freeform 234"/>
                <p:cNvSpPr/>
                <p:nvPr/>
              </p:nvSpPr>
              <p:spPr>
                <a:xfrm rot="21544800">
                  <a:off x="5010840" y="50450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9" name="Freeform 235"/>
                <p:cNvSpPr/>
                <p:nvPr/>
              </p:nvSpPr>
              <p:spPr>
                <a:xfrm rot="21544800">
                  <a:off x="5060520" y="50486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90" name="Group 236"/>
              <p:cNvGrpSpPr/>
              <p:nvPr/>
            </p:nvGrpSpPr>
            <p:grpSpPr>
              <a:xfrm>
                <a:off x="5107320" y="5069880"/>
                <a:ext cx="187920" cy="272520"/>
                <a:chOff x="5107320" y="5069880"/>
                <a:chExt cx="187920" cy="272520"/>
              </a:xfrm>
            </p:grpSpPr>
            <p:sp>
              <p:nvSpPr>
                <p:cNvPr id="391" name="Freeform 237"/>
                <p:cNvSpPr/>
                <p:nvPr/>
              </p:nvSpPr>
              <p:spPr>
                <a:xfrm rot="395400">
                  <a:off x="5120280" y="507816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2" name="Freeform 238"/>
                <p:cNvSpPr/>
                <p:nvPr/>
              </p:nvSpPr>
              <p:spPr>
                <a:xfrm rot="395400">
                  <a:off x="5168880" y="508392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93" name="Group 239"/>
              <p:cNvGrpSpPr/>
              <p:nvPr/>
            </p:nvGrpSpPr>
            <p:grpSpPr>
              <a:xfrm>
                <a:off x="5242320" y="5087160"/>
                <a:ext cx="248040" cy="298080"/>
                <a:chOff x="5242320" y="5087160"/>
                <a:chExt cx="248040" cy="298080"/>
              </a:xfrm>
            </p:grpSpPr>
            <p:sp>
              <p:nvSpPr>
                <p:cNvPr id="394" name="Freeform 240"/>
                <p:cNvSpPr/>
                <p:nvPr/>
              </p:nvSpPr>
              <p:spPr>
                <a:xfrm rot="1501800">
                  <a:off x="5285520" y="510984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95" name="Freeform 241"/>
                <p:cNvSpPr/>
                <p:nvPr/>
              </p:nvSpPr>
              <p:spPr>
                <a:xfrm rot="1501800">
                  <a:off x="5328720" y="51213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96" name="Group 242"/>
          <p:cNvGrpSpPr/>
          <p:nvPr/>
        </p:nvGrpSpPr>
        <p:grpSpPr>
          <a:xfrm>
            <a:off x="7032960" y="5080320"/>
            <a:ext cx="978480" cy="447840"/>
            <a:chOff x="7032960" y="5080320"/>
            <a:chExt cx="978480" cy="447840"/>
          </a:xfrm>
        </p:grpSpPr>
        <p:grpSp>
          <p:nvGrpSpPr>
            <p:cNvPr id="397" name="Group 243"/>
            <p:cNvGrpSpPr/>
            <p:nvPr/>
          </p:nvGrpSpPr>
          <p:grpSpPr>
            <a:xfrm>
              <a:off x="7032960" y="5134680"/>
              <a:ext cx="492120" cy="393480"/>
              <a:chOff x="7032960" y="5134680"/>
              <a:chExt cx="492120" cy="393480"/>
            </a:xfrm>
          </p:grpSpPr>
          <p:grpSp>
            <p:nvGrpSpPr>
              <p:cNvPr id="398" name="Group 244"/>
              <p:cNvGrpSpPr/>
              <p:nvPr/>
            </p:nvGrpSpPr>
            <p:grpSpPr>
              <a:xfrm>
                <a:off x="7330680" y="5134680"/>
                <a:ext cx="194400" cy="277200"/>
                <a:chOff x="7330680" y="5134680"/>
                <a:chExt cx="194400" cy="277200"/>
              </a:xfrm>
            </p:grpSpPr>
            <p:sp>
              <p:nvSpPr>
                <p:cNvPr id="399" name="Freeform 245"/>
                <p:cNvSpPr/>
                <p:nvPr/>
              </p:nvSpPr>
              <p:spPr>
                <a:xfrm flipH="1" rot="21099600">
                  <a:off x="7347240" y="514476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0" name="Freeform 246"/>
                <p:cNvSpPr/>
                <p:nvPr/>
              </p:nvSpPr>
              <p:spPr>
                <a:xfrm flipH="1" rot="21099600">
                  <a:off x="7356240" y="51519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1" name="Group 247"/>
              <p:cNvGrpSpPr/>
              <p:nvPr/>
            </p:nvGrpSpPr>
            <p:grpSpPr>
              <a:xfrm>
                <a:off x="7214760" y="5177880"/>
                <a:ext cx="220680" cy="288720"/>
                <a:chOff x="7214760" y="5177880"/>
                <a:chExt cx="220680" cy="288720"/>
              </a:xfrm>
            </p:grpSpPr>
            <p:sp>
              <p:nvSpPr>
                <p:cNvPr id="402" name="Freeform 248"/>
                <p:cNvSpPr/>
                <p:nvPr/>
              </p:nvSpPr>
              <p:spPr>
                <a:xfrm flipH="1" rot="20649000">
                  <a:off x="7243920" y="519516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3" name="Freeform 249"/>
                <p:cNvSpPr/>
                <p:nvPr/>
              </p:nvSpPr>
              <p:spPr>
                <a:xfrm flipH="1" rot="20649000">
                  <a:off x="7254360" y="520416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4" name="Group 250"/>
              <p:cNvGrpSpPr/>
              <p:nvPr/>
            </p:nvGrpSpPr>
            <p:grpSpPr>
              <a:xfrm>
                <a:off x="7032960" y="5228640"/>
                <a:ext cx="268920" cy="299520"/>
                <a:chOff x="7032960" y="5228640"/>
                <a:chExt cx="268920" cy="299520"/>
              </a:xfrm>
            </p:grpSpPr>
            <p:sp>
              <p:nvSpPr>
                <p:cNvPr id="405" name="Freeform 251"/>
                <p:cNvSpPr/>
                <p:nvPr/>
              </p:nvSpPr>
              <p:spPr>
                <a:xfrm flipH="1" rot="19542600">
                  <a:off x="7085880" y="525312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6" name="Freeform 252"/>
                <p:cNvSpPr/>
                <p:nvPr/>
              </p:nvSpPr>
              <p:spPr>
                <a:xfrm flipH="1" rot="19542600">
                  <a:off x="7103160" y="52668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07" name="Group 253"/>
            <p:cNvGrpSpPr/>
            <p:nvPr/>
          </p:nvGrpSpPr>
          <p:grpSpPr>
            <a:xfrm>
              <a:off x="7530120" y="5080320"/>
              <a:ext cx="481320" cy="341280"/>
              <a:chOff x="7530120" y="5080320"/>
              <a:chExt cx="481320" cy="341280"/>
            </a:xfrm>
          </p:grpSpPr>
          <p:grpSp>
            <p:nvGrpSpPr>
              <p:cNvPr id="408" name="Group 254"/>
              <p:cNvGrpSpPr/>
              <p:nvPr/>
            </p:nvGrpSpPr>
            <p:grpSpPr>
              <a:xfrm>
                <a:off x="7530120" y="5080320"/>
                <a:ext cx="165600" cy="259200"/>
                <a:chOff x="7530120" y="5080320"/>
                <a:chExt cx="165600" cy="259200"/>
              </a:xfrm>
            </p:grpSpPr>
            <p:sp>
              <p:nvSpPr>
                <p:cNvPr id="409" name="Freeform 255"/>
                <p:cNvSpPr/>
                <p:nvPr/>
              </p:nvSpPr>
              <p:spPr>
                <a:xfrm rot="21544800">
                  <a:off x="7531920" y="508140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0" name="Freeform 256"/>
                <p:cNvSpPr/>
                <p:nvPr/>
              </p:nvSpPr>
              <p:spPr>
                <a:xfrm rot="21544800">
                  <a:off x="7581600" y="50850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1" name="Group 257"/>
              <p:cNvGrpSpPr/>
              <p:nvPr/>
            </p:nvGrpSpPr>
            <p:grpSpPr>
              <a:xfrm>
                <a:off x="7628400" y="5106240"/>
                <a:ext cx="187920" cy="272520"/>
                <a:chOff x="7628400" y="5106240"/>
                <a:chExt cx="187920" cy="272520"/>
              </a:xfrm>
            </p:grpSpPr>
            <p:sp>
              <p:nvSpPr>
                <p:cNvPr id="412" name="Freeform 258"/>
                <p:cNvSpPr/>
                <p:nvPr/>
              </p:nvSpPr>
              <p:spPr>
                <a:xfrm rot="395400">
                  <a:off x="7641360" y="511452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3" name="Freeform 259"/>
                <p:cNvSpPr/>
                <p:nvPr/>
              </p:nvSpPr>
              <p:spPr>
                <a:xfrm rot="395400">
                  <a:off x="7689960" y="512028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4" name="Group 260"/>
              <p:cNvGrpSpPr/>
              <p:nvPr/>
            </p:nvGrpSpPr>
            <p:grpSpPr>
              <a:xfrm>
                <a:off x="7763400" y="5123520"/>
                <a:ext cx="248040" cy="298080"/>
                <a:chOff x="7763400" y="5123520"/>
                <a:chExt cx="248040" cy="298080"/>
              </a:xfrm>
            </p:grpSpPr>
            <p:sp>
              <p:nvSpPr>
                <p:cNvPr id="415" name="Freeform 261"/>
                <p:cNvSpPr/>
                <p:nvPr/>
              </p:nvSpPr>
              <p:spPr>
                <a:xfrm rot="1501800">
                  <a:off x="7806600" y="514620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6" name="Freeform 262"/>
                <p:cNvSpPr/>
                <p:nvPr/>
              </p:nvSpPr>
              <p:spPr>
                <a:xfrm rot="1501800">
                  <a:off x="7849800" y="51577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17" name="Group 263"/>
          <p:cNvGrpSpPr/>
          <p:nvPr/>
        </p:nvGrpSpPr>
        <p:grpSpPr>
          <a:xfrm>
            <a:off x="5951880" y="5547240"/>
            <a:ext cx="978480" cy="447840"/>
            <a:chOff x="5951880" y="5547240"/>
            <a:chExt cx="978480" cy="447840"/>
          </a:xfrm>
        </p:grpSpPr>
        <p:grpSp>
          <p:nvGrpSpPr>
            <p:cNvPr id="418" name="Group 264"/>
            <p:cNvGrpSpPr/>
            <p:nvPr/>
          </p:nvGrpSpPr>
          <p:grpSpPr>
            <a:xfrm>
              <a:off x="5951880" y="5601600"/>
              <a:ext cx="492120" cy="393480"/>
              <a:chOff x="5951880" y="5601600"/>
              <a:chExt cx="492120" cy="393480"/>
            </a:xfrm>
          </p:grpSpPr>
          <p:grpSp>
            <p:nvGrpSpPr>
              <p:cNvPr id="419" name="Group 265"/>
              <p:cNvGrpSpPr/>
              <p:nvPr/>
            </p:nvGrpSpPr>
            <p:grpSpPr>
              <a:xfrm>
                <a:off x="6249600" y="5601600"/>
                <a:ext cx="194400" cy="277200"/>
                <a:chOff x="6249600" y="5601600"/>
                <a:chExt cx="194400" cy="277200"/>
              </a:xfrm>
            </p:grpSpPr>
            <p:sp>
              <p:nvSpPr>
                <p:cNvPr id="420" name="Freeform 266"/>
                <p:cNvSpPr/>
                <p:nvPr/>
              </p:nvSpPr>
              <p:spPr>
                <a:xfrm flipH="1" rot="21099600">
                  <a:off x="6266160" y="561168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1" name="Freeform 267"/>
                <p:cNvSpPr/>
                <p:nvPr/>
              </p:nvSpPr>
              <p:spPr>
                <a:xfrm flipH="1" rot="21099600">
                  <a:off x="6274800" y="56188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22" name="Group 268"/>
              <p:cNvGrpSpPr/>
              <p:nvPr/>
            </p:nvGrpSpPr>
            <p:grpSpPr>
              <a:xfrm>
                <a:off x="6133680" y="5644800"/>
                <a:ext cx="220680" cy="288720"/>
                <a:chOff x="6133680" y="5644800"/>
                <a:chExt cx="220680" cy="288720"/>
              </a:xfrm>
            </p:grpSpPr>
            <p:sp>
              <p:nvSpPr>
                <p:cNvPr id="423" name="Freeform 269"/>
                <p:cNvSpPr/>
                <p:nvPr/>
              </p:nvSpPr>
              <p:spPr>
                <a:xfrm flipH="1" rot="20649000">
                  <a:off x="6162840" y="566208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4" name="Freeform 270"/>
                <p:cNvSpPr/>
                <p:nvPr/>
              </p:nvSpPr>
              <p:spPr>
                <a:xfrm flipH="1" rot="20649000">
                  <a:off x="6173280" y="567108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25" name="Group 271"/>
              <p:cNvGrpSpPr/>
              <p:nvPr/>
            </p:nvGrpSpPr>
            <p:grpSpPr>
              <a:xfrm>
                <a:off x="5951880" y="5695560"/>
                <a:ext cx="268920" cy="299520"/>
                <a:chOff x="5951880" y="5695560"/>
                <a:chExt cx="268920" cy="299520"/>
              </a:xfrm>
            </p:grpSpPr>
            <p:sp>
              <p:nvSpPr>
                <p:cNvPr id="426" name="Freeform 272"/>
                <p:cNvSpPr/>
                <p:nvPr/>
              </p:nvSpPr>
              <p:spPr>
                <a:xfrm flipH="1" rot="19542600">
                  <a:off x="6004800" y="572004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27" name="Freeform 273"/>
                <p:cNvSpPr/>
                <p:nvPr/>
              </p:nvSpPr>
              <p:spPr>
                <a:xfrm flipH="1" rot="19542600">
                  <a:off x="6022080" y="57337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28" name="Group 274"/>
            <p:cNvGrpSpPr/>
            <p:nvPr/>
          </p:nvGrpSpPr>
          <p:grpSpPr>
            <a:xfrm>
              <a:off x="6449040" y="5547240"/>
              <a:ext cx="481320" cy="341280"/>
              <a:chOff x="6449040" y="5547240"/>
              <a:chExt cx="481320" cy="341280"/>
            </a:xfrm>
          </p:grpSpPr>
          <p:grpSp>
            <p:nvGrpSpPr>
              <p:cNvPr id="429" name="Group 275"/>
              <p:cNvGrpSpPr/>
              <p:nvPr/>
            </p:nvGrpSpPr>
            <p:grpSpPr>
              <a:xfrm>
                <a:off x="6449040" y="5547240"/>
                <a:ext cx="165600" cy="259200"/>
                <a:chOff x="6449040" y="5547240"/>
                <a:chExt cx="165600" cy="259200"/>
              </a:xfrm>
            </p:grpSpPr>
            <p:sp>
              <p:nvSpPr>
                <p:cNvPr id="430" name="Freeform 276"/>
                <p:cNvSpPr/>
                <p:nvPr/>
              </p:nvSpPr>
              <p:spPr>
                <a:xfrm rot="21544800">
                  <a:off x="6450840" y="554832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1" name="Freeform 277"/>
                <p:cNvSpPr/>
                <p:nvPr/>
              </p:nvSpPr>
              <p:spPr>
                <a:xfrm rot="21544800">
                  <a:off x="6500520" y="55519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32" name="Group 278"/>
              <p:cNvGrpSpPr/>
              <p:nvPr/>
            </p:nvGrpSpPr>
            <p:grpSpPr>
              <a:xfrm>
                <a:off x="6547320" y="5573160"/>
                <a:ext cx="187920" cy="272520"/>
                <a:chOff x="6547320" y="5573160"/>
                <a:chExt cx="187920" cy="272520"/>
              </a:xfrm>
            </p:grpSpPr>
            <p:sp>
              <p:nvSpPr>
                <p:cNvPr id="433" name="Freeform 279"/>
                <p:cNvSpPr/>
                <p:nvPr/>
              </p:nvSpPr>
              <p:spPr>
                <a:xfrm rot="395400">
                  <a:off x="6560280" y="558144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4" name="Freeform 280"/>
                <p:cNvSpPr/>
                <p:nvPr/>
              </p:nvSpPr>
              <p:spPr>
                <a:xfrm rot="395400">
                  <a:off x="6608880" y="558720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35" name="Group 281"/>
              <p:cNvGrpSpPr/>
              <p:nvPr/>
            </p:nvGrpSpPr>
            <p:grpSpPr>
              <a:xfrm>
                <a:off x="6682320" y="5590440"/>
                <a:ext cx="248040" cy="298080"/>
                <a:chOff x="6682320" y="5590440"/>
                <a:chExt cx="248040" cy="298080"/>
              </a:xfrm>
            </p:grpSpPr>
            <p:sp>
              <p:nvSpPr>
                <p:cNvPr id="436" name="Freeform 282"/>
                <p:cNvSpPr/>
                <p:nvPr/>
              </p:nvSpPr>
              <p:spPr>
                <a:xfrm rot="1501800">
                  <a:off x="6725520" y="561312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7" name="Freeform 283"/>
                <p:cNvSpPr/>
                <p:nvPr/>
              </p:nvSpPr>
              <p:spPr>
                <a:xfrm rot="1501800">
                  <a:off x="6768720" y="56246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38" name="Group 284"/>
          <p:cNvGrpSpPr/>
          <p:nvPr/>
        </p:nvGrpSpPr>
        <p:grpSpPr>
          <a:xfrm>
            <a:off x="6888240" y="5907600"/>
            <a:ext cx="978480" cy="447840"/>
            <a:chOff x="6888240" y="5907600"/>
            <a:chExt cx="978480" cy="447840"/>
          </a:xfrm>
        </p:grpSpPr>
        <p:grpSp>
          <p:nvGrpSpPr>
            <p:cNvPr id="439" name="Group 285"/>
            <p:cNvGrpSpPr/>
            <p:nvPr/>
          </p:nvGrpSpPr>
          <p:grpSpPr>
            <a:xfrm>
              <a:off x="6888240" y="5961960"/>
              <a:ext cx="492120" cy="393480"/>
              <a:chOff x="6888240" y="5961960"/>
              <a:chExt cx="492120" cy="393480"/>
            </a:xfrm>
          </p:grpSpPr>
          <p:grpSp>
            <p:nvGrpSpPr>
              <p:cNvPr id="440" name="Group 286"/>
              <p:cNvGrpSpPr/>
              <p:nvPr/>
            </p:nvGrpSpPr>
            <p:grpSpPr>
              <a:xfrm>
                <a:off x="7185960" y="5961960"/>
                <a:ext cx="194400" cy="277200"/>
                <a:chOff x="7185960" y="5961960"/>
                <a:chExt cx="194400" cy="277200"/>
              </a:xfrm>
            </p:grpSpPr>
            <p:sp>
              <p:nvSpPr>
                <p:cNvPr id="441" name="Freeform 287"/>
                <p:cNvSpPr/>
                <p:nvPr/>
              </p:nvSpPr>
              <p:spPr>
                <a:xfrm flipH="1" rot="21099600">
                  <a:off x="7202520" y="59720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2" name="Freeform 288"/>
                <p:cNvSpPr/>
                <p:nvPr/>
              </p:nvSpPr>
              <p:spPr>
                <a:xfrm flipH="1" rot="21099600">
                  <a:off x="7211160" y="59792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3" name="Group 289"/>
              <p:cNvGrpSpPr/>
              <p:nvPr/>
            </p:nvGrpSpPr>
            <p:grpSpPr>
              <a:xfrm>
                <a:off x="7070040" y="6005160"/>
                <a:ext cx="220680" cy="288720"/>
                <a:chOff x="7070040" y="6005160"/>
                <a:chExt cx="220680" cy="288720"/>
              </a:xfrm>
            </p:grpSpPr>
            <p:sp>
              <p:nvSpPr>
                <p:cNvPr id="444" name="Freeform 290"/>
                <p:cNvSpPr/>
                <p:nvPr/>
              </p:nvSpPr>
              <p:spPr>
                <a:xfrm flipH="1" rot="20649000">
                  <a:off x="7099200" y="60224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5" name="Freeform 291"/>
                <p:cNvSpPr/>
                <p:nvPr/>
              </p:nvSpPr>
              <p:spPr>
                <a:xfrm flipH="1" rot="20649000">
                  <a:off x="7109640" y="60314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6" name="Group 292"/>
              <p:cNvGrpSpPr/>
              <p:nvPr/>
            </p:nvGrpSpPr>
            <p:grpSpPr>
              <a:xfrm>
                <a:off x="6888240" y="6055920"/>
                <a:ext cx="268920" cy="299520"/>
                <a:chOff x="6888240" y="6055920"/>
                <a:chExt cx="268920" cy="299520"/>
              </a:xfrm>
            </p:grpSpPr>
            <p:sp>
              <p:nvSpPr>
                <p:cNvPr id="447" name="Freeform 293"/>
                <p:cNvSpPr/>
                <p:nvPr/>
              </p:nvSpPr>
              <p:spPr>
                <a:xfrm flipH="1" rot="19542600">
                  <a:off x="6941160" y="608040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8" name="Freeform 294"/>
                <p:cNvSpPr/>
                <p:nvPr/>
              </p:nvSpPr>
              <p:spPr>
                <a:xfrm flipH="1" rot="19542600">
                  <a:off x="6958440" y="60940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49" name="Group 295"/>
            <p:cNvGrpSpPr/>
            <p:nvPr/>
          </p:nvGrpSpPr>
          <p:grpSpPr>
            <a:xfrm>
              <a:off x="7385400" y="5907600"/>
              <a:ext cx="481320" cy="341280"/>
              <a:chOff x="7385400" y="5907600"/>
              <a:chExt cx="481320" cy="341280"/>
            </a:xfrm>
          </p:grpSpPr>
          <p:grpSp>
            <p:nvGrpSpPr>
              <p:cNvPr id="450" name="Group 296"/>
              <p:cNvGrpSpPr/>
              <p:nvPr/>
            </p:nvGrpSpPr>
            <p:grpSpPr>
              <a:xfrm>
                <a:off x="7385400" y="5907600"/>
                <a:ext cx="165600" cy="259200"/>
                <a:chOff x="7385400" y="5907600"/>
                <a:chExt cx="165600" cy="259200"/>
              </a:xfrm>
            </p:grpSpPr>
            <p:sp>
              <p:nvSpPr>
                <p:cNvPr id="451" name="Freeform 297"/>
                <p:cNvSpPr/>
                <p:nvPr/>
              </p:nvSpPr>
              <p:spPr>
                <a:xfrm rot="21544800">
                  <a:off x="7387200" y="59086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2" name="Freeform 298"/>
                <p:cNvSpPr/>
                <p:nvPr/>
              </p:nvSpPr>
              <p:spPr>
                <a:xfrm rot="21544800">
                  <a:off x="7436880" y="59122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3" name="Group 299"/>
              <p:cNvGrpSpPr/>
              <p:nvPr/>
            </p:nvGrpSpPr>
            <p:grpSpPr>
              <a:xfrm>
                <a:off x="7483680" y="5933520"/>
                <a:ext cx="187920" cy="272520"/>
                <a:chOff x="7483680" y="5933520"/>
                <a:chExt cx="187920" cy="272520"/>
              </a:xfrm>
            </p:grpSpPr>
            <p:sp>
              <p:nvSpPr>
                <p:cNvPr id="454" name="Freeform 300"/>
                <p:cNvSpPr/>
                <p:nvPr/>
              </p:nvSpPr>
              <p:spPr>
                <a:xfrm rot="395400">
                  <a:off x="7496640" y="594180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5" name="Freeform 301"/>
                <p:cNvSpPr/>
                <p:nvPr/>
              </p:nvSpPr>
              <p:spPr>
                <a:xfrm rot="395400">
                  <a:off x="7545240" y="594756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56" name="Group 302"/>
              <p:cNvGrpSpPr/>
              <p:nvPr/>
            </p:nvGrpSpPr>
            <p:grpSpPr>
              <a:xfrm>
                <a:off x="7618680" y="5950800"/>
                <a:ext cx="248040" cy="298080"/>
                <a:chOff x="7618680" y="5950800"/>
                <a:chExt cx="248040" cy="298080"/>
              </a:xfrm>
            </p:grpSpPr>
            <p:sp>
              <p:nvSpPr>
                <p:cNvPr id="457" name="Freeform 303"/>
                <p:cNvSpPr/>
                <p:nvPr/>
              </p:nvSpPr>
              <p:spPr>
                <a:xfrm rot="1501800">
                  <a:off x="7661880" y="59734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8" name="Freeform 304"/>
                <p:cNvSpPr/>
                <p:nvPr/>
              </p:nvSpPr>
              <p:spPr>
                <a:xfrm rot="1501800">
                  <a:off x="7705080" y="59850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459" name="AutoShape 305"/>
          <p:cNvSpPr/>
          <p:nvPr/>
        </p:nvSpPr>
        <p:spPr>
          <a:xfrm>
            <a:off x="6388200" y="2443320"/>
            <a:ext cx="919080" cy="2388960"/>
          </a:xfrm>
          <a:prstGeom prst="triangle">
            <a:avLst>
              <a:gd name="adj" fmla="val 50000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Freeform 306"/>
          <p:cNvSpPr/>
          <p:nvPr/>
        </p:nvSpPr>
        <p:spPr>
          <a:xfrm>
            <a:off x="5076720" y="476280"/>
            <a:ext cx="3672000" cy="3232080"/>
          </a:xfrm>
          <a:custGeom>
            <a:avLst/>
            <a:gdLst/>
            <a:ahLst/>
            <a:rect l="l" t="t" r="r" b="b"/>
            <a:pathLst>
              <a:path w="2664" h="2553">
                <a:moveTo>
                  <a:pt x="1117" y="2481"/>
                </a:moveTo>
                <a:cubicBezTo>
                  <a:pt x="1105" y="2444"/>
                  <a:pt x="1096" y="2422"/>
                  <a:pt x="1063" y="2400"/>
                </a:cubicBezTo>
                <a:cubicBezTo>
                  <a:pt x="1021" y="2414"/>
                  <a:pt x="959" y="2425"/>
                  <a:pt x="919" y="2445"/>
                </a:cubicBezTo>
                <a:cubicBezTo>
                  <a:pt x="849" y="2480"/>
                  <a:pt x="933" y="2449"/>
                  <a:pt x="865" y="2472"/>
                </a:cubicBezTo>
                <a:cubicBezTo>
                  <a:pt x="853" y="2436"/>
                  <a:pt x="783" y="2373"/>
                  <a:pt x="748" y="2355"/>
                </a:cubicBezTo>
                <a:cubicBezTo>
                  <a:pt x="731" y="2347"/>
                  <a:pt x="710" y="2348"/>
                  <a:pt x="694" y="2337"/>
                </a:cubicBezTo>
                <a:cubicBezTo>
                  <a:pt x="642" y="2302"/>
                  <a:pt x="597" y="2270"/>
                  <a:pt x="550" y="2229"/>
                </a:cubicBezTo>
                <a:cubicBezTo>
                  <a:pt x="515" y="2199"/>
                  <a:pt x="510" y="2182"/>
                  <a:pt x="469" y="2157"/>
                </a:cubicBezTo>
                <a:cubicBezTo>
                  <a:pt x="435" y="2137"/>
                  <a:pt x="389" y="2118"/>
                  <a:pt x="352" y="2103"/>
                </a:cubicBezTo>
                <a:cubicBezTo>
                  <a:pt x="346" y="2094"/>
                  <a:pt x="337" y="2086"/>
                  <a:pt x="334" y="2076"/>
                </a:cubicBezTo>
                <a:cubicBezTo>
                  <a:pt x="328" y="2059"/>
                  <a:pt x="333" y="2038"/>
                  <a:pt x="325" y="2022"/>
                </a:cubicBezTo>
                <a:cubicBezTo>
                  <a:pt x="320" y="2012"/>
                  <a:pt x="306" y="2011"/>
                  <a:pt x="298" y="2004"/>
                </a:cubicBezTo>
                <a:cubicBezTo>
                  <a:pt x="288" y="1996"/>
                  <a:pt x="280" y="1986"/>
                  <a:pt x="271" y="1977"/>
                </a:cubicBezTo>
                <a:cubicBezTo>
                  <a:pt x="265" y="1881"/>
                  <a:pt x="269" y="1784"/>
                  <a:pt x="253" y="1689"/>
                </a:cubicBezTo>
                <a:cubicBezTo>
                  <a:pt x="250" y="1674"/>
                  <a:pt x="228" y="1672"/>
                  <a:pt x="217" y="1662"/>
                </a:cubicBezTo>
                <a:cubicBezTo>
                  <a:pt x="207" y="1654"/>
                  <a:pt x="200" y="1643"/>
                  <a:pt x="190" y="1635"/>
                </a:cubicBezTo>
                <a:cubicBezTo>
                  <a:pt x="137" y="1591"/>
                  <a:pt x="85" y="1538"/>
                  <a:pt x="28" y="1500"/>
                </a:cubicBezTo>
                <a:cubicBezTo>
                  <a:pt x="39" y="1268"/>
                  <a:pt x="0" y="1357"/>
                  <a:pt x="91" y="1266"/>
                </a:cubicBezTo>
                <a:cubicBezTo>
                  <a:pt x="104" y="1228"/>
                  <a:pt x="117" y="1204"/>
                  <a:pt x="145" y="1176"/>
                </a:cubicBezTo>
                <a:cubicBezTo>
                  <a:pt x="142" y="1108"/>
                  <a:pt x="112" y="770"/>
                  <a:pt x="154" y="708"/>
                </a:cubicBezTo>
                <a:cubicBezTo>
                  <a:pt x="167" y="689"/>
                  <a:pt x="191" y="680"/>
                  <a:pt x="208" y="663"/>
                </a:cubicBezTo>
                <a:cubicBezTo>
                  <a:pt x="221" y="623"/>
                  <a:pt x="254" y="587"/>
                  <a:pt x="289" y="564"/>
                </a:cubicBezTo>
                <a:cubicBezTo>
                  <a:pt x="357" y="461"/>
                  <a:pt x="230" y="663"/>
                  <a:pt x="316" y="330"/>
                </a:cubicBezTo>
                <a:cubicBezTo>
                  <a:pt x="318" y="322"/>
                  <a:pt x="376" y="286"/>
                  <a:pt x="397" y="285"/>
                </a:cubicBezTo>
                <a:cubicBezTo>
                  <a:pt x="484" y="280"/>
                  <a:pt x="571" y="279"/>
                  <a:pt x="658" y="276"/>
                </a:cubicBezTo>
                <a:cubicBezTo>
                  <a:pt x="669" y="260"/>
                  <a:pt x="719" y="174"/>
                  <a:pt x="721" y="168"/>
                </a:cubicBezTo>
                <a:cubicBezTo>
                  <a:pt x="731" y="139"/>
                  <a:pt x="738" y="107"/>
                  <a:pt x="775" y="105"/>
                </a:cubicBezTo>
                <a:cubicBezTo>
                  <a:pt x="814" y="103"/>
                  <a:pt x="853" y="105"/>
                  <a:pt x="892" y="105"/>
                </a:cubicBezTo>
                <a:lnTo>
                  <a:pt x="1172" y="152"/>
                </a:lnTo>
                <a:cubicBezTo>
                  <a:pt x="1248" y="122"/>
                  <a:pt x="1326" y="97"/>
                  <a:pt x="1399" y="61"/>
                </a:cubicBezTo>
                <a:cubicBezTo>
                  <a:pt x="1409" y="56"/>
                  <a:pt x="1405" y="39"/>
                  <a:pt x="1414" y="33"/>
                </a:cubicBezTo>
                <a:cubicBezTo>
                  <a:pt x="1437" y="16"/>
                  <a:pt x="1469" y="17"/>
                  <a:pt x="1495" y="6"/>
                </a:cubicBezTo>
                <a:cubicBezTo>
                  <a:pt x="1516" y="9"/>
                  <a:pt x="1543" y="0"/>
                  <a:pt x="1558" y="15"/>
                </a:cubicBezTo>
                <a:cubicBezTo>
                  <a:pt x="1573" y="30"/>
                  <a:pt x="1560" y="58"/>
                  <a:pt x="1567" y="78"/>
                </a:cubicBezTo>
                <a:cubicBezTo>
                  <a:pt x="1572" y="92"/>
                  <a:pt x="1583" y="103"/>
                  <a:pt x="1594" y="114"/>
                </a:cubicBezTo>
                <a:cubicBezTo>
                  <a:pt x="1640" y="160"/>
                  <a:pt x="1704" y="170"/>
                  <a:pt x="1765" y="177"/>
                </a:cubicBezTo>
                <a:cubicBezTo>
                  <a:pt x="1768" y="195"/>
                  <a:pt x="1766" y="215"/>
                  <a:pt x="1774" y="231"/>
                </a:cubicBezTo>
                <a:cubicBezTo>
                  <a:pt x="1802" y="288"/>
                  <a:pt x="1889" y="320"/>
                  <a:pt x="1945" y="339"/>
                </a:cubicBezTo>
                <a:cubicBezTo>
                  <a:pt x="1910" y="351"/>
                  <a:pt x="1894" y="357"/>
                  <a:pt x="1882" y="393"/>
                </a:cubicBezTo>
                <a:cubicBezTo>
                  <a:pt x="1978" y="457"/>
                  <a:pt x="2038" y="464"/>
                  <a:pt x="2152" y="474"/>
                </a:cubicBezTo>
                <a:cubicBezTo>
                  <a:pt x="2135" y="524"/>
                  <a:pt x="2132" y="591"/>
                  <a:pt x="2161" y="636"/>
                </a:cubicBezTo>
                <a:cubicBezTo>
                  <a:pt x="2177" y="661"/>
                  <a:pt x="2215" y="708"/>
                  <a:pt x="2215" y="708"/>
                </a:cubicBezTo>
                <a:cubicBezTo>
                  <a:pt x="2235" y="826"/>
                  <a:pt x="2225" y="880"/>
                  <a:pt x="2332" y="951"/>
                </a:cubicBezTo>
                <a:cubicBezTo>
                  <a:pt x="2298" y="1054"/>
                  <a:pt x="2304" y="1241"/>
                  <a:pt x="2368" y="1338"/>
                </a:cubicBezTo>
                <a:cubicBezTo>
                  <a:pt x="2387" y="1422"/>
                  <a:pt x="2401" y="1464"/>
                  <a:pt x="2476" y="1509"/>
                </a:cubicBezTo>
                <a:cubicBezTo>
                  <a:pt x="2514" y="1559"/>
                  <a:pt x="2585" y="1611"/>
                  <a:pt x="2647" y="1626"/>
                </a:cubicBezTo>
                <a:cubicBezTo>
                  <a:pt x="2664" y="1676"/>
                  <a:pt x="2636" y="1658"/>
                  <a:pt x="2593" y="1671"/>
                </a:cubicBezTo>
                <a:cubicBezTo>
                  <a:pt x="2575" y="1676"/>
                  <a:pt x="2539" y="1689"/>
                  <a:pt x="2539" y="1689"/>
                </a:cubicBezTo>
                <a:cubicBezTo>
                  <a:pt x="2527" y="1724"/>
                  <a:pt x="2501" y="1738"/>
                  <a:pt x="2485" y="1770"/>
                </a:cubicBezTo>
                <a:cubicBezTo>
                  <a:pt x="2479" y="1783"/>
                  <a:pt x="2470" y="1821"/>
                  <a:pt x="2467" y="1833"/>
                </a:cubicBezTo>
                <a:cubicBezTo>
                  <a:pt x="2464" y="1881"/>
                  <a:pt x="2468" y="1930"/>
                  <a:pt x="2458" y="1977"/>
                </a:cubicBezTo>
                <a:cubicBezTo>
                  <a:pt x="2455" y="1989"/>
                  <a:pt x="2439" y="1994"/>
                  <a:pt x="2431" y="2004"/>
                </a:cubicBezTo>
                <a:cubicBezTo>
                  <a:pt x="2412" y="2027"/>
                  <a:pt x="2394" y="2051"/>
                  <a:pt x="2377" y="2076"/>
                </a:cubicBezTo>
                <a:cubicBezTo>
                  <a:pt x="2364" y="2096"/>
                  <a:pt x="2346" y="2169"/>
                  <a:pt x="2341" y="2175"/>
                </a:cubicBezTo>
                <a:cubicBezTo>
                  <a:pt x="2333" y="2185"/>
                  <a:pt x="2317" y="2181"/>
                  <a:pt x="2305" y="2184"/>
                </a:cubicBezTo>
                <a:cubicBezTo>
                  <a:pt x="2287" y="2202"/>
                  <a:pt x="2265" y="2217"/>
                  <a:pt x="2251" y="2238"/>
                </a:cubicBezTo>
                <a:cubicBezTo>
                  <a:pt x="2245" y="2247"/>
                  <a:pt x="2241" y="2258"/>
                  <a:pt x="2233" y="2265"/>
                </a:cubicBezTo>
                <a:cubicBezTo>
                  <a:pt x="2199" y="2292"/>
                  <a:pt x="2044" y="2300"/>
                  <a:pt x="2026" y="2301"/>
                </a:cubicBezTo>
                <a:cubicBezTo>
                  <a:pt x="2023" y="2322"/>
                  <a:pt x="2023" y="2344"/>
                  <a:pt x="2017" y="2364"/>
                </a:cubicBezTo>
                <a:cubicBezTo>
                  <a:pt x="1999" y="2425"/>
                  <a:pt x="1910" y="2421"/>
                  <a:pt x="1864" y="2436"/>
                </a:cubicBezTo>
                <a:cubicBezTo>
                  <a:pt x="1849" y="2497"/>
                  <a:pt x="1829" y="2532"/>
                  <a:pt x="1765" y="2553"/>
                </a:cubicBezTo>
                <a:cubicBezTo>
                  <a:pt x="1705" y="2533"/>
                  <a:pt x="1669" y="2483"/>
                  <a:pt x="1621" y="2445"/>
                </a:cubicBezTo>
                <a:cubicBezTo>
                  <a:pt x="1604" y="2432"/>
                  <a:pt x="1567" y="2409"/>
                  <a:pt x="1567" y="2409"/>
                </a:cubicBezTo>
                <a:cubicBezTo>
                  <a:pt x="1552" y="2412"/>
                  <a:pt x="1536" y="2412"/>
                  <a:pt x="1522" y="2418"/>
                </a:cubicBezTo>
                <a:cubicBezTo>
                  <a:pt x="1502" y="2427"/>
                  <a:pt x="1468" y="2454"/>
                  <a:pt x="1468" y="2454"/>
                </a:cubicBezTo>
                <a:cubicBezTo>
                  <a:pt x="1462" y="2463"/>
                  <a:pt x="1459" y="2475"/>
                  <a:pt x="1450" y="2481"/>
                </a:cubicBezTo>
                <a:cubicBezTo>
                  <a:pt x="1434" y="2491"/>
                  <a:pt x="1396" y="2499"/>
                  <a:pt x="1396" y="2499"/>
                </a:cubicBezTo>
                <a:cubicBezTo>
                  <a:pt x="1292" y="2493"/>
                  <a:pt x="1218" y="2481"/>
                  <a:pt x="1117" y="2481"/>
                </a:cubicBez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009900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Freeform 307"/>
          <p:cNvSpPr/>
          <p:nvPr/>
        </p:nvSpPr>
        <p:spPr>
          <a:xfrm rot="7329000">
            <a:off x="6058440" y="1581840"/>
            <a:ext cx="435240" cy="52848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Freeform 308"/>
          <p:cNvSpPr/>
          <p:nvPr/>
        </p:nvSpPr>
        <p:spPr>
          <a:xfrm>
            <a:off x="6388200" y="757080"/>
            <a:ext cx="406440" cy="56700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Freeform 309"/>
          <p:cNvSpPr/>
          <p:nvPr/>
        </p:nvSpPr>
        <p:spPr>
          <a:xfrm>
            <a:off x="7437600" y="2724120"/>
            <a:ext cx="406080" cy="56664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Freeform 310"/>
          <p:cNvSpPr/>
          <p:nvPr/>
        </p:nvSpPr>
        <p:spPr>
          <a:xfrm>
            <a:off x="6256440" y="2724120"/>
            <a:ext cx="406440" cy="56664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Freeform 311"/>
          <p:cNvSpPr/>
          <p:nvPr/>
        </p:nvSpPr>
        <p:spPr>
          <a:xfrm>
            <a:off x="7307280" y="2021040"/>
            <a:ext cx="404640" cy="56664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Freeform 312"/>
          <p:cNvSpPr/>
          <p:nvPr/>
        </p:nvSpPr>
        <p:spPr>
          <a:xfrm>
            <a:off x="7699320" y="1319040"/>
            <a:ext cx="406440" cy="56700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Freeform 313"/>
          <p:cNvSpPr/>
          <p:nvPr/>
        </p:nvSpPr>
        <p:spPr>
          <a:xfrm>
            <a:off x="5470560" y="2303640"/>
            <a:ext cx="404640" cy="56484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Freeform 314"/>
          <p:cNvSpPr/>
          <p:nvPr/>
        </p:nvSpPr>
        <p:spPr>
          <a:xfrm>
            <a:off x="6649920" y="1739880"/>
            <a:ext cx="406440" cy="56664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9" name="Group 315"/>
          <p:cNvGrpSpPr/>
          <p:nvPr/>
        </p:nvGrpSpPr>
        <p:grpSpPr>
          <a:xfrm>
            <a:off x="5303880" y="6123600"/>
            <a:ext cx="978480" cy="447840"/>
            <a:chOff x="5303880" y="6123600"/>
            <a:chExt cx="978480" cy="447840"/>
          </a:xfrm>
        </p:grpSpPr>
        <p:grpSp>
          <p:nvGrpSpPr>
            <p:cNvPr id="470" name="Group 316"/>
            <p:cNvGrpSpPr/>
            <p:nvPr/>
          </p:nvGrpSpPr>
          <p:grpSpPr>
            <a:xfrm>
              <a:off x="5303880" y="6177960"/>
              <a:ext cx="492120" cy="393480"/>
              <a:chOff x="5303880" y="6177960"/>
              <a:chExt cx="492120" cy="393480"/>
            </a:xfrm>
          </p:grpSpPr>
          <p:grpSp>
            <p:nvGrpSpPr>
              <p:cNvPr id="471" name="Group 317"/>
              <p:cNvGrpSpPr/>
              <p:nvPr/>
            </p:nvGrpSpPr>
            <p:grpSpPr>
              <a:xfrm>
                <a:off x="5601600" y="6177960"/>
                <a:ext cx="194400" cy="277200"/>
                <a:chOff x="5601600" y="6177960"/>
                <a:chExt cx="194400" cy="277200"/>
              </a:xfrm>
            </p:grpSpPr>
            <p:sp>
              <p:nvSpPr>
                <p:cNvPr id="472" name="Freeform 318"/>
                <p:cNvSpPr/>
                <p:nvPr/>
              </p:nvSpPr>
              <p:spPr>
                <a:xfrm flipH="1" rot="21099600">
                  <a:off x="5618160" y="61880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3" name="Freeform 319"/>
                <p:cNvSpPr/>
                <p:nvPr/>
              </p:nvSpPr>
              <p:spPr>
                <a:xfrm flipH="1" rot="21099600">
                  <a:off x="5626800" y="61952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4" name="Group 320"/>
              <p:cNvGrpSpPr/>
              <p:nvPr/>
            </p:nvGrpSpPr>
            <p:grpSpPr>
              <a:xfrm>
                <a:off x="5485680" y="6221160"/>
                <a:ext cx="220680" cy="288720"/>
                <a:chOff x="5485680" y="6221160"/>
                <a:chExt cx="220680" cy="288720"/>
              </a:xfrm>
            </p:grpSpPr>
            <p:sp>
              <p:nvSpPr>
                <p:cNvPr id="475" name="Freeform 321"/>
                <p:cNvSpPr/>
                <p:nvPr/>
              </p:nvSpPr>
              <p:spPr>
                <a:xfrm flipH="1" rot="20649000">
                  <a:off x="5514840" y="623844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6" name="Freeform 322"/>
                <p:cNvSpPr/>
                <p:nvPr/>
              </p:nvSpPr>
              <p:spPr>
                <a:xfrm flipH="1" rot="20649000">
                  <a:off x="5525280" y="624744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7" name="Group 323"/>
              <p:cNvGrpSpPr/>
              <p:nvPr/>
            </p:nvGrpSpPr>
            <p:grpSpPr>
              <a:xfrm>
                <a:off x="5303880" y="6271920"/>
                <a:ext cx="268920" cy="299520"/>
                <a:chOff x="5303880" y="6271920"/>
                <a:chExt cx="268920" cy="299520"/>
              </a:xfrm>
            </p:grpSpPr>
            <p:sp>
              <p:nvSpPr>
                <p:cNvPr id="478" name="Freeform 324"/>
                <p:cNvSpPr/>
                <p:nvPr/>
              </p:nvSpPr>
              <p:spPr>
                <a:xfrm flipH="1" rot="19542600">
                  <a:off x="5356800" y="629640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9" name="Freeform 325"/>
                <p:cNvSpPr/>
                <p:nvPr/>
              </p:nvSpPr>
              <p:spPr>
                <a:xfrm flipH="1" rot="19542600">
                  <a:off x="5374080" y="63100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80" name="Group 326"/>
            <p:cNvGrpSpPr/>
            <p:nvPr/>
          </p:nvGrpSpPr>
          <p:grpSpPr>
            <a:xfrm>
              <a:off x="5801040" y="6123600"/>
              <a:ext cx="481320" cy="341280"/>
              <a:chOff x="5801040" y="6123600"/>
              <a:chExt cx="481320" cy="341280"/>
            </a:xfrm>
          </p:grpSpPr>
          <p:grpSp>
            <p:nvGrpSpPr>
              <p:cNvPr id="481" name="Group 327"/>
              <p:cNvGrpSpPr/>
              <p:nvPr/>
            </p:nvGrpSpPr>
            <p:grpSpPr>
              <a:xfrm>
                <a:off x="5801040" y="6123600"/>
                <a:ext cx="165600" cy="259200"/>
                <a:chOff x="5801040" y="6123600"/>
                <a:chExt cx="165600" cy="259200"/>
              </a:xfrm>
            </p:grpSpPr>
            <p:sp>
              <p:nvSpPr>
                <p:cNvPr id="482" name="Freeform 328"/>
                <p:cNvSpPr/>
                <p:nvPr/>
              </p:nvSpPr>
              <p:spPr>
                <a:xfrm rot="21544800">
                  <a:off x="5802840" y="61246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3" name="Freeform 329"/>
                <p:cNvSpPr/>
                <p:nvPr/>
              </p:nvSpPr>
              <p:spPr>
                <a:xfrm rot="21544800">
                  <a:off x="5852520" y="61282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4" name="Group 330"/>
              <p:cNvGrpSpPr/>
              <p:nvPr/>
            </p:nvGrpSpPr>
            <p:grpSpPr>
              <a:xfrm>
                <a:off x="5899320" y="6149520"/>
                <a:ext cx="187920" cy="272520"/>
                <a:chOff x="5899320" y="6149520"/>
                <a:chExt cx="187920" cy="272520"/>
              </a:xfrm>
            </p:grpSpPr>
            <p:sp>
              <p:nvSpPr>
                <p:cNvPr id="485" name="Freeform 331"/>
                <p:cNvSpPr/>
                <p:nvPr/>
              </p:nvSpPr>
              <p:spPr>
                <a:xfrm rot="395400">
                  <a:off x="5912280" y="615780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6" name="Freeform 332"/>
                <p:cNvSpPr/>
                <p:nvPr/>
              </p:nvSpPr>
              <p:spPr>
                <a:xfrm rot="395400">
                  <a:off x="5960880" y="616356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87" name="Group 333"/>
              <p:cNvGrpSpPr/>
              <p:nvPr/>
            </p:nvGrpSpPr>
            <p:grpSpPr>
              <a:xfrm>
                <a:off x="6034320" y="6166800"/>
                <a:ext cx="248040" cy="298080"/>
                <a:chOff x="6034320" y="6166800"/>
                <a:chExt cx="248040" cy="298080"/>
              </a:xfrm>
            </p:grpSpPr>
            <p:sp>
              <p:nvSpPr>
                <p:cNvPr id="488" name="Freeform 334"/>
                <p:cNvSpPr/>
                <p:nvPr/>
              </p:nvSpPr>
              <p:spPr>
                <a:xfrm rot="1501800">
                  <a:off x="6077520" y="618948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9" name="Freeform 335"/>
                <p:cNvSpPr/>
                <p:nvPr/>
              </p:nvSpPr>
              <p:spPr>
                <a:xfrm rot="1501800">
                  <a:off x="6120720" y="62010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490" name="Group 336"/>
          <p:cNvGrpSpPr/>
          <p:nvPr/>
        </p:nvGrpSpPr>
        <p:grpSpPr>
          <a:xfrm>
            <a:off x="6312240" y="4754880"/>
            <a:ext cx="978480" cy="447840"/>
            <a:chOff x="6312240" y="4754880"/>
            <a:chExt cx="978480" cy="447840"/>
          </a:xfrm>
        </p:grpSpPr>
        <p:grpSp>
          <p:nvGrpSpPr>
            <p:cNvPr id="491" name="Group 337"/>
            <p:cNvGrpSpPr/>
            <p:nvPr/>
          </p:nvGrpSpPr>
          <p:grpSpPr>
            <a:xfrm>
              <a:off x="6312240" y="4809240"/>
              <a:ext cx="492120" cy="393480"/>
              <a:chOff x="6312240" y="4809240"/>
              <a:chExt cx="492120" cy="393480"/>
            </a:xfrm>
          </p:grpSpPr>
          <p:grpSp>
            <p:nvGrpSpPr>
              <p:cNvPr id="492" name="Group 338"/>
              <p:cNvGrpSpPr/>
              <p:nvPr/>
            </p:nvGrpSpPr>
            <p:grpSpPr>
              <a:xfrm>
                <a:off x="6609960" y="4809240"/>
                <a:ext cx="194400" cy="277200"/>
                <a:chOff x="6609960" y="4809240"/>
                <a:chExt cx="194400" cy="277200"/>
              </a:xfrm>
            </p:grpSpPr>
            <p:sp>
              <p:nvSpPr>
                <p:cNvPr id="493" name="Freeform 339"/>
                <p:cNvSpPr/>
                <p:nvPr/>
              </p:nvSpPr>
              <p:spPr>
                <a:xfrm flipH="1" rot="21099600">
                  <a:off x="6626520" y="481932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4" name="Freeform 340"/>
                <p:cNvSpPr/>
                <p:nvPr/>
              </p:nvSpPr>
              <p:spPr>
                <a:xfrm flipH="1" rot="21099600">
                  <a:off x="6635520" y="48265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95" name="Group 341"/>
              <p:cNvGrpSpPr/>
              <p:nvPr/>
            </p:nvGrpSpPr>
            <p:grpSpPr>
              <a:xfrm>
                <a:off x="6494040" y="4852440"/>
                <a:ext cx="220680" cy="288720"/>
                <a:chOff x="6494040" y="4852440"/>
                <a:chExt cx="220680" cy="288720"/>
              </a:xfrm>
            </p:grpSpPr>
            <p:sp>
              <p:nvSpPr>
                <p:cNvPr id="496" name="Freeform 342"/>
                <p:cNvSpPr/>
                <p:nvPr/>
              </p:nvSpPr>
              <p:spPr>
                <a:xfrm flipH="1" rot="20649000">
                  <a:off x="6523200" y="486972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343"/>
                <p:cNvSpPr/>
                <p:nvPr/>
              </p:nvSpPr>
              <p:spPr>
                <a:xfrm flipH="1" rot="20649000">
                  <a:off x="6533640" y="487872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98" name="Group 344"/>
              <p:cNvGrpSpPr/>
              <p:nvPr/>
            </p:nvGrpSpPr>
            <p:grpSpPr>
              <a:xfrm>
                <a:off x="6312240" y="4903200"/>
                <a:ext cx="268920" cy="299520"/>
                <a:chOff x="6312240" y="4903200"/>
                <a:chExt cx="268920" cy="299520"/>
              </a:xfrm>
            </p:grpSpPr>
            <p:sp>
              <p:nvSpPr>
                <p:cNvPr id="499" name="Freeform 345"/>
                <p:cNvSpPr/>
                <p:nvPr/>
              </p:nvSpPr>
              <p:spPr>
                <a:xfrm flipH="1" rot="19542600">
                  <a:off x="6365160" y="492768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0" name="Freeform 346"/>
                <p:cNvSpPr/>
                <p:nvPr/>
              </p:nvSpPr>
              <p:spPr>
                <a:xfrm flipH="1" rot="19542600">
                  <a:off x="6382440" y="49413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01" name="Group 347"/>
            <p:cNvGrpSpPr/>
            <p:nvPr/>
          </p:nvGrpSpPr>
          <p:grpSpPr>
            <a:xfrm>
              <a:off x="6809400" y="4754880"/>
              <a:ext cx="481320" cy="341280"/>
              <a:chOff x="6809400" y="4754880"/>
              <a:chExt cx="481320" cy="341280"/>
            </a:xfrm>
          </p:grpSpPr>
          <p:grpSp>
            <p:nvGrpSpPr>
              <p:cNvPr id="502" name="Group 348"/>
              <p:cNvGrpSpPr/>
              <p:nvPr/>
            </p:nvGrpSpPr>
            <p:grpSpPr>
              <a:xfrm>
                <a:off x="6809400" y="4754880"/>
                <a:ext cx="165600" cy="259200"/>
                <a:chOff x="6809400" y="4754880"/>
                <a:chExt cx="165600" cy="259200"/>
              </a:xfrm>
            </p:grpSpPr>
            <p:sp>
              <p:nvSpPr>
                <p:cNvPr id="503" name="Freeform 349"/>
                <p:cNvSpPr/>
                <p:nvPr/>
              </p:nvSpPr>
              <p:spPr>
                <a:xfrm rot="21544800">
                  <a:off x="6811200" y="475596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4" name="Freeform 350"/>
                <p:cNvSpPr/>
                <p:nvPr/>
              </p:nvSpPr>
              <p:spPr>
                <a:xfrm rot="21544800">
                  <a:off x="6860880" y="47595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5" name="Group 351"/>
              <p:cNvGrpSpPr/>
              <p:nvPr/>
            </p:nvGrpSpPr>
            <p:grpSpPr>
              <a:xfrm>
                <a:off x="6907680" y="4780800"/>
                <a:ext cx="187920" cy="272520"/>
                <a:chOff x="6907680" y="4780800"/>
                <a:chExt cx="187920" cy="272520"/>
              </a:xfrm>
            </p:grpSpPr>
            <p:sp>
              <p:nvSpPr>
                <p:cNvPr id="506" name="Freeform 352"/>
                <p:cNvSpPr/>
                <p:nvPr/>
              </p:nvSpPr>
              <p:spPr>
                <a:xfrm rot="395400">
                  <a:off x="6920640" y="478908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07" name="Freeform 353"/>
                <p:cNvSpPr/>
                <p:nvPr/>
              </p:nvSpPr>
              <p:spPr>
                <a:xfrm rot="395400">
                  <a:off x="6969240" y="479484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8" name="Group 354"/>
              <p:cNvGrpSpPr/>
              <p:nvPr/>
            </p:nvGrpSpPr>
            <p:grpSpPr>
              <a:xfrm>
                <a:off x="7042680" y="4798080"/>
                <a:ext cx="248040" cy="298080"/>
                <a:chOff x="7042680" y="4798080"/>
                <a:chExt cx="248040" cy="298080"/>
              </a:xfrm>
            </p:grpSpPr>
            <p:sp>
              <p:nvSpPr>
                <p:cNvPr id="509" name="Freeform 355"/>
                <p:cNvSpPr/>
                <p:nvPr/>
              </p:nvSpPr>
              <p:spPr>
                <a:xfrm rot="1501800">
                  <a:off x="7085880" y="482076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0" name="Freeform 356"/>
                <p:cNvSpPr/>
                <p:nvPr/>
              </p:nvSpPr>
              <p:spPr>
                <a:xfrm rot="1501800">
                  <a:off x="7129080" y="48322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11" name="Group 357"/>
          <p:cNvGrpSpPr/>
          <p:nvPr/>
        </p:nvGrpSpPr>
        <p:grpSpPr>
          <a:xfrm>
            <a:off x="2927520" y="5547240"/>
            <a:ext cx="978480" cy="447840"/>
            <a:chOff x="2927520" y="5547240"/>
            <a:chExt cx="978480" cy="447840"/>
          </a:xfrm>
        </p:grpSpPr>
        <p:grpSp>
          <p:nvGrpSpPr>
            <p:cNvPr id="512" name="Group 358"/>
            <p:cNvGrpSpPr/>
            <p:nvPr/>
          </p:nvGrpSpPr>
          <p:grpSpPr>
            <a:xfrm>
              <a:off x="2927520" y="5601600"/>
              <a:ext cx="492120" cy="393480"/>
              <a:chOff x="2927520" y="5601600"/>
              <a:chExt cx="492120" cy="393480"/>
            </a:xfrm>
          </p:grpSpPr>
          <p:grpSp>
            <p:nvGrpSpPr>
              <p:cNvPr id="513" name="Group 359"/>
              <p:cNvGrpSpPr/>
              <p:nvPr/>
            </p:nvGrpSpPr>
            <p:grpSpPr>
              <a:xfrm>
                <a:off x="3225240" y="5601600"/>
                <a:ext cx="194400" cy="277200"/>
                <a:chOff x="3225240" y="5601600"/>
                <a:chExt cx="194400" cy="277200"/>
              </a:xfrm>
            </p:grpSpPr>
            <p:sp>
              <p:nvSpPr>
                <p:cNvPr id="514" name="Freeform 360"/>
                <p:cNvSpPr/>
                <p:nvPr/>
              </p:nvSpPr>
              <p:spPr>
                <a:xfrm flipH="1" rot="21099600">
                  <a:off x="3241800" y="561168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Freeform 361"/>
                <p:cNvSpPr/>
                <p:nvPr/>
              </p:nvSpPr>
              <p:spPr>
                <a:xfrm flipH="1" rot="21099600">
                  <a:off x="3250440" y="561888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6" name="Group 362"/>
              <p:cNvGrpSpPr/>
              <p:nvPr/>
            </p:nvGrpSpPr>
            <p:grpSpPr>
              <a:xfrm>
                <a:off x="3109320" y="5644800"/>
                <a:ext cx="220680" cy="288720"/>
                <a:chOff x="3109320" y="5644800"/>
                <a:chExt cx="220680" cy="288720"/>
              </a:xfrm>
            </p:grpSpPr>
            <p:sp>
              <p:nvSpPr>
                <p:cNvPr id="517" name="Freeform 363"/>
                <p:cNvSpPr/>
                <p:nvPr/>
              </p:nvSpPr>
              <p:spPr>
                <a:xfrm flipH="1" rot="20649000">
                  <a:off x="3138480" y="566208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8" name="Freeform 364"/>
                <p:cNvSpPr/>
                <p:nvPr/>
              </p:nvSpPr>
              <p:spPr>
                <a:xfrm flipH="1" rot="20649000">
                  <a:off x="3148920" y="567108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19" name="Group 365"/>
              <p:cNvGrpSpPr/>
              <p:nvPr/>
            </p:nvGrpSpPr>
            <p:grpSpPr>
              <a:xfrm>
                <a:off x="2927520" y="5695560"/>
                <a:ext cx="268920" cy="299520"/>
                <a:chOff x="2927520" y="5695560"/>
                <a:chExt cx="268920" cy="299520"/>
              </a:xfrm>
            </p:grpSpPr>
            <p:sp>
              <p:nvSpPr>
                <p:cNvPr id="520" name="Freeform 366"/>
                <p:cNvSpPr/>
                <p:nvPr/>
              </p:nvSpPr>
              <p:spPr>
                <a:xfrm flipH="1" rot="19542600">
                  <a:off x="2980440" y="572004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1" name="Freeform 367"/>
                <p:cNvSpPr/>
                <p:nvPr/>
              </p:nvSpPr>
              <p:spPr>
                <a:xfrm flipH="1" rot="19542600">
                  <a:off x="2997720" y="57337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22" name="Group 368"/>
            <p:cNvGrpSpPr/>
            <p:nvPr/>
          </p:nvGrpSpPr>
          <p:grpSpPr>
            <a:xfrm>
              <a:off x="3424680" y="5547240"/>
              <a:ext cx="481320" cy="341280"/>
              <a:chOff x="3424680" y="5547240"/>
              <a:chExt cx="481320" cy="341280"/>
            </a:xfrm>
          </p:grpSpPr>
          <p:grpSp>
            <p:nvGrpSpPr>
              <p:cNvPr id="523" name="Group 369"/>
              <p:cNvGrpSpPr/>
              <p:nvPr/>
            </p:nvGrpSpPr>
            <p:grpSpPr>
              <a:xfrm>
                <a:off x="3424680" y="5547240"/>
                <a:ext cx="165600" cy="259200"/>
                <a:chOff x="3424680" y="5547240"/>
                <a:chExt cx="165600" cy="259200"/>
              </a:xfrm>
            </p:grpSpPr>
            <p:sp>
              <p:nvSpPr>
                <p:cNvPr id="524" name="Freeform 370"/>
                <p:cNvSpPr/>
                <p:nvPr/>
              </p:nvSpPr>
              <p:spPr>
                <a:xfrm rot="21544800">
                  <a:off x="3426480" y="554832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5" name="Freeform 371"/>
                <p:cNvSpPr/>
                <p:nvPr/>
              </p:nvSpPr>
              <p:spPr>
                <a:xfrm rot="21544800">
                  <a:off x="3476160" y="55519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26" name="Group 372"/>
              <p:cNvGrpSpPr/>
              <p:nvPr/>
            </p:nvGrpSpPr>
            <p:grpSpPr>
              <a:xfrm>
                <a:off x="3522960" y="5573160"/>
                <a:ext cx="187920" cy="272520"/>
                <a:chOff x="3522960" y="5573160"/>
                <a:chExt cx="187920" cy="272520"/>
              </a:xfrm>
            </p:grpSpPr>
            <p:sp>
              <p:nvSpPr>
                <p:cNvPr id="527" name="Freeform 373"/>
                <p:cNvSpPr/>
                <p:nvPr/>
              </p:nvSpPr>
              <p:spPr>
                <a:xfrm rot="395400">
                  <a:off x="3535920" y="558144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28" name="Freeform 374"/>
                <p:cNvSpPr/>
                <p:nvPr/>
              </p:nvSpPr>
              <p:spPr>
                <a:xfrm rot="395400">
                  <a:off x="3584520" y="558720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29" name="Group 375"/>
              <p:cNvGrpSpPr/>
              <p:nvPr/>
            </p:nvGrpSpPr>
            <p:grpSpPr>
              <a:xfrm>
                <a:off x="3657960" y="5590440"/>
                <a:ext cx="248040" cy="298080"/>
                <a:chOff x="3657960" y="5590440"/>
                <a:chExt cx="248040" cy="298080"/>
              </a:xfrm>
            </p:grpSpPr>
            <p:sp>
              <p:nvSpPr>
                <p:cNvPr id="530" name="Freeform 376"/>
                <p:cNvSpPr/>
                <p:nvPr/>
              </p:nvSpPr>
              <p:spPr>
                <a:xfrm rot="1501800">
                  <a:off x="3701160" y="561312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1" name="Freeform 377"/>
                <p:cNvSpPr/>
                <p:nvPr/>
              </p:nvSpPr>
              <p:spPr>
                <a:xfrm rot="1501800">
                  <a:off x="3744360" y="562464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32" name="Group 378"/>
          <p:cNvGrpSpPr/>
          <p:nvPr/>
        </p:nvGrpSpPr>
        <p:grpSpPr>
          <a:xfrm>
            <a:off x="1198800" y="4972320"/>
            <a:ext cx="978480" cy="447840"/>
            <a:chOff x="1198800" y="4972320"/>
            <a:chExt cx="978480" cy="447840"/>
          </a:xfrm>
        </p:grpSpPr>
        <p:grpSp>
          <p:nvGrpSpPr>
            <p:cNvPr id="533" name="Group 379"/>
            <p:cNvGrpSpPr/>
            <p:nvPr/>
          </p:nvGrpSpPr>
          <p:grpSpPr>
            <a:xfrm>
              <a:off x="1198800" y="5026680"/>
              <a:ext cx="492120" cy="393480"/>
              <a:chOff x="1198800" y="5026680"/>
              <a:chExt cx="492120" cy="393480"/>
            </a:xfrm>
          </p:grpSpPr>
          <p:grpSp>
            <p:nvGrpSpPr>
              <p:cNvPr id="534" name="Group 380"/>
              <p:cNvGrpSpPr/>
              <p:nvPr/>
            </p:nvGrpSpPr>
            <p:grpSpPr>
              <a:xfrm>
                <a:off x="1496520" y="5026680"/>
                <a:ext cx="194400" cy="277200"/>
                <a:chOff x="1496520" y="5026680"/>
                <a:chExt cx="194400" cy="277200"/>
              </a:xfrm>
            </p:grpSpPr>
            <p:sp>
              <p:nvSpPr>
                <p:cNvPr id="535" name="Freeform 381"/>
                <p:cNvSpPr/>
                <p:nvPr/>
              </p:nvSpPr>
              <p:spPr>
                <a:xfrm flipH="1" rot="21099600">
                  <a:off x="1513080" y="503676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6" name="Freeform 382"/>
                <p:cNvSpPr/>
                <p:nvPr/>
              </p:nvSpPr>
              <p:spPr>
                <a:xfrm flipH="1" rot="21099600">
                  <a:off x="1522080" y="504396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7" name="Group 383"/>
              <p:cNvGrpSpPr/>
              <p:nvPr/>
            </p:nvGrpSpPr>
            <p:grpSpPr>
              <a:xfrm>
                <a:off x="1380600" y="5069880"/>
                <a:ext cx="220680" cy="288720"/>
                <a:chOff x="1380600" y="5069880"/>
                <a:chExt cx="220680" cy="288720"/>
              </a:xfrm>
            </p:grpSpPr>
            <p:sp>
              <p:nvSpPr>
                <p:cNvPr id="538" name="Freeform 384"/>
                <p:cNvSpPr/>
                <p:nvPr/>
              </p:nvSpPr>
              <p:spPr>
                <a:xfrm flipH="1" rot="20649000">
                  <a:off x="1409760" y="5087160"/>
                  <a:ext cx="16128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39" name="Freeform 385"/>
                <p:cNvSpPr/>
                <p:nvPr/>
              </p:nvSpPr>
              <p:spPr>
                <a:xfrm flipH="1" rot="20649000">
                  <a:off x="1420200" y="5096160"/>
                  <a:ext cx="10440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40" name="Group 386"/>
              <p:cNvGrpSpPr/>
              <p:nvPr/>
            </p:nvGrpSpPr>
            <p:grpSpPr>
              <a:xfrm>
                <a:off x="1198800" y="5120640"/>
                <a:ext cx="268920" cy="299520"/>
                <a:chOff x="1198800" y="5120640"/>
                <a:chExt cx="268920" cy="299520"/>
              </a:xfrm>
            </p:grpSpPr>
            <p:sp>
              <p:nvSpPr>
                <p:cNvPr id="541" name="Freeform 387"/>
                <p:cNvSpPr/>
                <p:nvPr/>
              </p:nvSpPr>
              <p:spPr>
                <a:xfrm flipH="1" rot="19542600">
                  <a:off x="1251720" y="5145120"/>
                  <a:ext cx="16200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2" name="Freeform 388"/>
                <p:cNvSpPr/>
                <p:nvPr/>
              </p:nvSpPr>
              <p:spPr>
                <a:xfrm flipH="1" rot="19542600">
                  <a:off x="1269000" y="51588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43" name="Group 389"/>
            <p:cNvGrpSpPr/>
            <p:nvPr/>
          </p:nvGrpSpPr>
          <p:grpSpPr>
            <a:xfrm>
              <a:off x="1695960" y="4972320"/>
              <a:ext cx="481320" cy="341280"/>
              <a:chOff x="1695960" y="4972320"/>
              <a:chExt cx="481320" cy="341280"/>
            </a:xfrm>
          </p:grpSpPr>
          <p:grpSp>
            <p:nvGrpSpPr>
              <p:cNvPr id="544" name="Group 390"/>
              <p:cNvGrpSpPr/>
              <p:nvPr/>
            </p:nvGrpSpPr>
            <p:grpSpPr>
              <a:xfrm>
                <a:off x="1695960" y="4972320"/>
                <a:ext cx="165600" cy="259200"/>
                <a:chOff x="1695960" y="4972320"/>
                <a:chExt cx="165600" cy="259200"/>
              </a:xfrm>
            </p:grpSpPr>
            <p:sp>
              <p:nvSpPr>
                <p:cNvPr id="545" name="Freeform 391"/>
                <p:cNvSpPr/>
                <p:nvPr/>
              </p:nvSpPr>
              <p:spPr>
                <a:xfrm rot="21544800">
                  <a:off x="1697760" y="497340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6" name="Freeform 392"/>
                <p:cNvSpPr/>
                <p:nvPr/>
              </p:nvSpPr>
              <p:spPr>
                <a:xfrm rot="21544800">
                  <a:off x="1747440" y="497700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47" name="Group 393"/>
              <p:cNvGrpSpPr/>
              <p:nvPr/>
            </p:nvGrpSpPr>
            <p:grpSpPr>
              <a:xfrm>
                <a:off x="1794240" y="4998240"/>
                <a:ext cx="187920" cy="272520"/>
                <a:chOff x="1794240" y="4998240"/>
                <a:chExt cx="187920" cy="272520"/>
              </a:xfrm>
            </p:grpSpPr>
            <p:sp>
              <p:nvSpPr>
                <p:cNvPr id="548" name="Freeform 394"/>
                <p:cNvSpPr/>
                <p:nvPr/>
              </p:nvSpPr>
              <p:spPr>
                <a:xfrm rot="395400">
                  <a:off x="1807200" y="5006520"/>
                  <a:ext cx="161640" cy="23940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49" name="Freeform 395"/>
                <p:cNvSpPr/>
                <p:nvPr/>
              </p:nvSpPr>
              <p:spPr>
                <a:xfrm rot="395400">
                  <a:off x="1855800" y="5012280"/>
                  <a:ext cx="104760" cy="25308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50" name="Group 396"/>
              <p:cNvGrpSpPr/>
              <p:nvPr/>
            </p:nvGrpSpPr>
            <p:grpSpPr>
              <a:xfrm>
                <a:off x="1929240" y="5015520"/>
                <a:ext cx="248040" cy="298080"/>
                <a:chOff x="1929240" y="5015520"/>
                <a:chExt cx="248040" cy="298080"/>
              </a:xfrm>
            </p:grpSpPr>
            <p:sp>
              <p:nvSpPr>
                <p:cNvPr id="551" name="Freeform 397"/>
                <p:cNvSpPr/>
                <p:nvPr/>
              </p:nvSpPr>
              <p:spPr>
                <a:xfrm rot="1501800">
                  <a:off x="1972440" y="5038200"/>
                  <a:ext cx="161640" cy="239760"/>
                </a:xfrm>
                <a:custGeom>
                  <a:avLst/>
                  <a:gdLst/>
                  <a:ahLst/>
                  <a:rect l="l" t="t" r="r" b="b"/>
                  <a:pathLst>
                    <a:path w="136" h="318">
                      <a:moveTo>
                        <a:pt x="136" y="0"/>
                      </a:moveTo>
                      <a:cubicBezTo>
                        <a:pt x="102" y="42"/>
                        <a:pt x="69" y="84"/>
                        <a:pt x="46" y="137"/>
                      </a:cubicBezTo>
                      <a:cubicBezTo>
                        <a:pt x="23" y="190"/>
                        <a:pt x="11" y="254"/>
                        <a:pt x="0" y="318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52" name="Freeform 398"/>
                <p:cNvSpPr/>
                <p:nvPr/>
              </p:nvSpPr>
              <p:spPr>
                <a:xfrm rot="1501800">
                  <a:off x="2015640" y="5049720"/>
                  <a:ext cx="104760" cy="253440"/>
                </a:xfrm>
                <a:custGeom>
                  <a:avLst/>
                  <a:gdLst/>
                  <a:ahLst/>
                  <a:rect l="l" t="t" r="r" b="b"/>
                  <a:pathLst>
                    <a:path w="88" h="336">
                      <a:moveTo>
                        <a:pt x="88" y="0"/>
                      </a:moveTo>
                      <a:cubicBezTo>
                        <a:pt x="76" y="33"/>
                        <a:pt x="31" y="144"/>
                        <a:pt x="16" y="200"/>
                      </a:cubicBezTo>
                      <a:cubicBezTo>
                        <a:pt x="1" y="256"/>
                        <a:pt x="3" y="308"/>
                        <a:pt x="0" y="336"/>
                      </a:cubicBezTo>
                    </a:path>
                  </a:pathLst>
                </a:custGeom>
                <a:solidFill>
                  <a:srgbClr val="66ff66"/>
                </a:solidFill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6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553" name="Group 399"/>
          <p:cNvGrpSpPr/>
          <p:nvPr/>
        </p:nvGrpSpPr>
        <p:grpSpPr>
          <a:xfrm>
            <a:off x="4705920" y="5408640"/>
            <a:ext cx="729360" cy="597240"/>
            <a:chOff x="4705920" y="5408640"/>
            <a:chExt cx="729360" cy="597240"/>
          </a:xfrm>
        </p:grpSpPr>
        <p:sp>
          <p:nvSpPr>
            <p:cNvPr id="554" name="plant"/>
            <p:cNvSpPr/>
            <p:nvPr/>
          </p:nvSpPr>
          <p:spPr>
            <a:xfrm rot="17450400">
              <a:off x="4835520" y="5434200"/>
              <a:ext cx="410040" cy="560520"/>
            </a:xfrm>
            <a:custGeom>
              <a:avLst/>
              <a:gdLst>
                <a:gd name="textAreaLeft" fmla="*/ 135000 w 410040"/>
                <a:gd name="textAreaRight" fmla="*/ 276120 w 410040"/>
                <a:gd name="textAreaTop" fmla="*/ 262080 h 560520"/>
                <a:gd name="textAreaBottom" fmla="*/ 352440 h 56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50000">
                  <a:srgbClr val="008000"/>
                </a:gs>
                <a:gs pos="100000">
                  <a:srgbClr val="99cc00"/>
                </a:gs>
              </a:gsLst>
              <a:lin ang="1452000"/>
            </a:gra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5" name="Picture 401" descr="2f2[1]"/>
            <p:cNvPicPr/>
            <p:nvPr/>
          </p:nvPicPr>
          <p:blipFill>
            <a:blip r:embed="rId20"/>
            <a:stretch/>
          </p:blipFill>
          <p:spPr>
            <a:xfrm>
              <a:off x="4751280" y="5408640"/>
              <a:ext cx="68400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6" name="Group 402"/>
          <p:cNvGrpSpPr/>
          <p:nvPr/>
        </p:nvGrpSpPr>
        <p:grpSpPr>
          <a:xfrm>
            <a:off x="-45360" y="5049720"/>
            <a:ext cx="729360" cy="597240"/>
            <a:chOff x="-45360" y="5049720"/>
            <a:chExt cx="729360" cy="597240"/>
          </a:xfrm>
        </p:grpSpPr>
        <p:sp>
          <p:nvSpPr>
            <p:cNvPr id="557" name="plant"/>
            <p:cNvSpPr/>
            <p:nvPr/>
          </p:nvSpPr>
          <p:spPr>
            <a:xfrm rot="17450400">
              <a:off x="84240" y="5075280"/>
              <a:ext cx="410040" cy="560520"/>
            </a:xfrm>
            <a:custGeom>
              <a:avLst/>
              <a:gdLst>
                <a:gd name="textAreaLeft" fmla="*/ 135000 w 410040"/>
                <a:gd name="textAreaRight" fmla="*/ 276120 w 410040"/>
                <a:gd name="textAreaTop" fmla="*/ 262080 h 560520"/>
                <a:gd name="textAreaBottom" fmla="*/ 352440 h 56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50000">
                  <a:srgbClr val="008000"/>
                </a:gs>
                <a:gs pos="100000">
                  <a:srgbClr val="99cc00"/>
                </a:gs>
              </a:gsLst>
              <a:lin ang="1452000"/>
            </a:gra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58" name="Picture 404" descr="2f2[1]"/>
            <p:cNvPicPr/>
            <p:nvPr/>
          </p:nvPicPr>
          <p:blipFill>
            <a:blip r:embed="rId21"/>
            <a:stretch/>
          </p:blipFill>
          <p:spPr>
            <a:xfrm>
              <a:off x="0" y="5049720"/>
              <a:ext cx="684000" cy="387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Group 405"/>
          <p:cNvGrpSpPr/>
          <p:nvPr/>
        </p:nvGrpSpPr>
        <p:grpSpPr>
          <a:xfrm>
            <a:off x="7409880" y="6189840"/>
            <a:ext cx="1086120" cy="800640"/>
            <a:chOff x="7409880" y="6189840"/>
            <a:chExt cx="1086120" cy="800640"/>
          </a:xfrm>
        </p:grpSpPr>
        <p:sp>
          <p:nvSpPr>
            <p:cNvPr id="560" name="plant"/>
            <p:cNvSpPr/>
            <p:nvPr/>
          </p:nvSpPr>
          <p:spPr>
            <a:xfrm rot="17450400">
              <a:off x="7634160" y="6170040"/>
              <a:ext cx="529200" cy="845280"/>
            </a:xfrm>
            <a:custGeom>
              <a:avLst/>
              <a:gdLst>
                <a:gd name="textAreaLeft" fmla="*/ 173160 w 529200"/>
                <a:gd name="textAreaRight" fmla="*/ 356040 w 529200"/>
                <a:gd name="textAreaTop" fmla="*/ 394920 h 845280"/>
                <a:gd name="textAreaBottom" fmla="*/ 531720 h 8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50000">
                  <a:srgbClr val="008000"/>
                </a:gs>
                <a:gs pos="100000">
                  <a:srgbClr val="99cc00"/>
                </a:gs>
              </a:gsLst>
              <a:lin ang="1452000"/>
            </a:gra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61" name="Picture 407" descr="2f2[1]"/>
            <p:cNvPicPr/>
            <p:nvPr/>
          </p:nvPicPr>
          <p:blipFill>
            <a:blip r:embed="rId22"/>
            <a:stretch/>
          </p:blipFill>
          <p:spPr>
            <a:xfrm>
              <a:off x="7464600" y="6189840"/>
              <a:ext cx="1031400" cy="50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408"/>
          <p:cNvGrpSpPr/>
          <p:nvPr/>
        </p:nvGrpSpPr>
        <p:grpSpPr>
          <a:xfrm>
            <a:off x="3260880" y="5049720"/>
            <a:ext cx="734760" cy="595800"/>
            <a:chOff x="3260880" y="5049720"/>
            <a:chExt cx="734760" cy="595800"/>
          </a:xfrm>
        </p:grpSpPr>
        <p:sp>
          <p:nvSpPr>
            <p:cNvPr id="563" name="plant"/>
            <p:cNvSpPr/>
            <p:nvPr/>
          </p:nvSpPr>
          <p:spPr>
            <a:xfrm rot="17450400">
              <a:off x="3391200" y="5074920"/>
              <a:ext cx="407520" cy="560160"/>
            </a:xfrm>
            <a:custGeom>
              <a:avLst/>
              <a:gdLst>
                <a:gd name="textAreaLeft" fmla="*/ 133560 w 407520"/>
                <a:gd name="textAreaRight" fmla="*/ 273960 w 407520"/>
                <a:gd name="textAreaTop" fmla="*/ 261720 h 560160"/>
                <a:gd name="textAreaBottom" fmla="*/ 352440 h 56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8" y="9002"/>
                  </a:moveTo>
                  <a:lnTo>
                    <a:pt x="9254" y="8422"/>
                  </a:lnTo>
                  <a:lnTo>
                    <a:pt x="9139" y="7935"/>
                  </a:lnTo>
                  <a:lnTo>
                    <a:pt x="8819" y="7355"/>
                  </a:lnTo>
                  <a:lnTo>
                    <a:pt x="8475" y="6728"/>
                  </a:lnTo>
                  <a:lnTo>
                    <a:pt x="8040" y="6287"/>
                  </a:lnTo>
                  <a:lnTo>
                    <a:pt x="7421" y="5707"/>
                  </a:lnTo>
                  <a:lnTo>
                    <a:pt x="6574" y="5429"/>
                  </a:lnTo>
                  <a:lnTo>
                    <a:pt x="5452" y="5313"/>
                  </a:lnTo>
                  <a:lnTo>
                    <a:pt x="4856" y="5220"/>
                  </a:lnTo>
                  <a:lnTo>
                    <a:pt x="4169" y="5220"/>
                  </a:lnTo>
                  <a:lnTo>
                    <a:pt x="3665" y="5104"/>
                  </a:lnTo>
                  <a:lnTo>
                    <a:pt x="3001" y="4872"/>
                  </a:lnTo>
                  <a:lnTo>
                    <a:pt x="2497" y="4756"/>
                  </a:lnTo>
                  <a:lnTo>
                    <a:pt x="2062" y="4408"/>
                  </a:lnTo>
                  <a:lnTo>
                    <a:pt x="1603" y="4083"/>
                  </a:lnTo>
                  <a:lnTo>
                    <a:pt x="1283" y="3689"/>
                  </a:lnTo>
                  <a:lnTo>
                    <a:pt x="1283" y="4315"/>
                  </a:lnTo>
                  <a:lnTo>
                    <a:pt x="1489" y="5104"/>
                  </a:lnTo>
                  <a:lnTo>
                    <a:pt x="1832" y="6055"/>
                  </a:lnTo>
                  <a:lnTo>
                    <a:pt x="2382" y="6914"/>
                  </a:lnTo>
                  <a:lnTo>
                    <a:pt x="2680" y="7471"/>
                  </a:lnTo>
                  <a:lnTo>
                    <a:pt x="3115" y="7935"/>
                  </a:lnTo>
                  <a:lnTo>
                    <a:pt x="3573" y="8213"/>
                  </a:lnTo>
                  <a:lnTo>
                    <a:pt x="4077" y="8654"/>
                  </a:lnTo>
                  <a:lnTo>
                    <a:pt x="4627" y="9002"/>
                  </a:lnTo>
                  <a:lnTo>
                    <a:pt x="5245" y="9234"/>
                  </a:lnTo>
                  <a:lnTo>
                    <a:pt x="6024" y="9443"/>
                  </a:lnTo>
                  <a:lnTo>
                    <a:pt x="6757" y="9628"/>
                  </a:lnTo>
                  <a:lnTo>
                    <a:pt x="5177" y="10069"/>
                  </a:lnTo>
                  <a:lnTo>
                    <a:pt x="3963" y="10649"/>
                  </a:lnTo>
                  <a:lnTo>
                    <a:pt x="3344" y="11044"/>
                  </a:lnTo>
                  <a:lnTo>
                    <a:pt x="2886" y="11600"/>
                  </a:lnTo>
                  <a:lnTo>
                    <a:pt x="2497" y="12041"/>
                  </a:lnTo>
                  <a:lnTo>
                    <a:pt x="1947" y="12343"/>
                  </a:lnTo>
                  <a:lnTo>
                    <a:pt x="1168" y="12668"/>
                  </a:lnTo>
                  <a:lnTo>
                    <a:pt x="0" y="12900"/>
                  </a:lnTo>
                  <a:lnTo>
                    <a:pt x="435" y="13248"/>
                  </a:lnTo>
                  <a:lnTo>
                    <a:pt x="779" y="13456"/>
                  </a:lnTo>
                  <a:lnTo>
                    <a:pt x="1283" y="13642"/>
                  </a:lnTo>
                  <a:lnTo>
                    <a:pt x="1718" y="13758"/>
                  </a:lnTo>
                  <a:lnTo>
                    <a:pt x="2680" y="13851"/>
                  </a:lnTo>
                  <a:lnTo>
                    <a:pt x="3573" y="13758"/>
                  </a:lnTo>
                  <a:lnTo>
                    <a:pt x="4512" y="13526"/>
                  </a:lnTo>
                  <a:lnTo>
                    <a:pt x="5360" y="13248"/>
                  </a:lnTo>
                  <a:lnTo>
                    <a:pt x="6139" y="12900"/>
                  </a:lnTo>
                  <a:lnTo>
                    <a:pt x="6757" y="12552"/>
                  </a:lnTo>
                  <a:lnTo>
                    <a:pt x="6459" y="13132"/>
                  </a:lnTo>
                  <a:lnTo>
                    <a:pt x="6139" y="13642"/>
                  </a:lnTo>
                  <a:lnTo>
                    <a:pt x="5910" y="14199"/>
                  </a:lnTo>
                  <a:lnTo>
                    <a:pt x="5681" y="14663"/>
                  </a:lnTo>
                  <a:lnTo>
                    <a:pt x="5681" y="15150"/>
                  </a:lnTo>
                  <a:lnTo>
                    <a:pt x="5681" y="15730"/>
                  </a:lnTo>
                  <a:lnTo>
                    <a:pt x="5681" y="16241"/>
                  </a:lnTo>
                  <a:lnTo>
                    <a:pt x="5795" y="16913"/>
                  </a:lnTo>
                  <a:lnTo>
                    <a:pt x="5910" y="17586"/>
                  </a:lnTo>
                  <a:lnTo>
                    <a:pt x="5910" y="18213"/>
                  </a:lnTo>
                  <a:lnTo>
                    <a:pt x="5795" y="18885"/>
                  </a:lnTo>
                  <a:lnTo>
                    <a:pt x="5566" y="19396"/>
                  </a:lnTo>
                  <a:lnTo>
                    <a:pt x="5245" y="19976"/>
                  </a:lnTo>
                  <a:lnTo>
                    <a:pt x="4971" y="20370"/>
                  </a:lnTo>
                  <a:lnTo>
                    <a:pt x="4512" y="20811"/>
                  </a:lnTo>
                  <a:lnTo>
                    <a:pt x="4077" y="21043"/>
                  </a:lnTo>
                  <a:lnTo>
                    <a:pt x="5177" y="20927"/>
                  </a:lnTo>
                  <a:lnTo>
                    <a:pt x="6253" y="20486"/>
                  </a:lnTo>
                  <a:lnTo>
                    <a:pt x="7421" y="19976"/>
                  </a:lnTo>
                  <a:lnTo>
                    <a:pt x="8361" y="19187"/>
                  </a:lnTo>
                  <a:lnTo>
                    <a:pt x="8819" y="18769"/>
                  </a:lnTo>
                  <a:lnTo>
                    <a:pt x="9139" y="18213"/>
                  </a:lnTo>
                  <a:lnTo>
                    <a:pt x="9437" y="17772"/>
                  </a:lnTo>
                  <a:lnTo>
                    <a:pt x="9643" y="17261"/>
                  </a:lnTo>
                  <a:lnTo>
                    <a:pt x="9872" y="16681"/>
                  </a:lnTo>
                  <a:lnTo>
                    <a:pt x="9872" y="16171"/>
                  </a:lnTo>
                  <a:lnTo>
                    <a:pt x="9872" y="15614"/>
                  </a:lnTo>
                  <a:lnTo>
                    <a:pt x="9758" y="15057"/>
                  </a:lnTo>
                  <a:lnTo>
                    <a:pt x="10216" y="15498"/>
                  </a:lnTo>
                  <a:lnTo>
                    <a:pt x="10537" y="16241"/>
                  </a:lnTo>
                  <a:lnTo>
                    <a:pt x="10834" y="17145"/>
                  </a:lnTo>
                  <a:lnTo>
                    <a:pt x="11041" y="18213"/>
                  </a:lnTo>
                  <a:lnTo>
                    <a:pt x="11155" y="19187"/>
                  </a:lnTo>
                  <a:lnTo>
                    <a:pt x="11155" y="20185"/>
                  </a:lnTo>
                  <a:lnTo>
                    <a:pt x="11155" y="20579"/>
                  </a:lnTo>
                  <a:lnTo>
                    <a:pt x="11041" y="21043"/>
                  </a:lnTo>
                  <a:lnTo>
                    <a:pt x="10926" y="21391"/>
                  </a:lnTo>
                  <a:lnTo>
                    <a:pt x="10766" y="21600"/>
                  </a:lnTo>
                  <a:lnTo>
                    <a:pt x="11499" y="21484"/>
                  </a:lnTo>
                  <a:lnTo>
                    <a:pt x="12323" y="21043"/>
                  </a:lnTo>
                  <a:lnTo>
                    <a:pt x="13102" y="20370"/>
                  </a:lnTo>
                  <a:lnTo>
                    <a:pt x="13606" y="19628"/>
                  </a:lnTo>
                  <a:lnTo>
                    <a:pt x="13950" y="19071"/>
                  </a:lnTo>
                  <a:lnTo>
                    <a:pt x="14064" y="18677"/>
                  </a:lnTo>
                  <a:lnTo>
                    <a:pt x="14179" y="18097"/>
                  </a:lnTo>
                  <a:lnTo>
                    <a:pt x="14293" y="17586"/>
                  </a:lnTo>
                  <a:lnTo>
                    <a:pt x="14179" y="16913"/>
                  </a:lnTo>
                  <a:lnTo>
                    <a:pt x="14064" y="16241"/>
                  </a:lnTo>
                  <a:lnTo>
                    <a:pt x="13835" y="15614"/>
                  </a:lnTo>
                  <a:lnTo>
                    <a:pt x="13560" y="14872"/>
                  </a:lnTo>
                  <a:lnTo>
                    <a:pt x="13950" y="14941"/>
                  </a:lnTo>
                  <a:lnTo>
                    <a:pt x="14408" y="15150"/>
                  </a:lnTo>
                  <a:lnTo>
                    <a:pt x="14843" y="15266"/>
                  </a:lnTo>
                  <a:lnTo>
                    <a:pt x="15232" y="15614"/>
                  </a:lnTo>
                  <a:lnTo>
                    <a:pt x="15576" y="15846"/>
                  </a:lnTo>
                  <a:lnTo>
                    <a:pt x="15897" y="16171"/>
                  </a:lnTo>
                  <a:lnTo>
                    <a:pt x="16126" y="16473"/>
                  </a:lnTo>
                  <a:lnTo>
                    <a:pt x="16240" y="16913"/>
                  </a:lnTo>
                  <a:lnTo>
                    <a:pt x="16515" y="17261"/>
                  </a:lnTo>
                  <a:lnTo>
                    <a:pt x="17088" y="17586"/>
                  </a:lnTo>
                  <a:lnTo>
                    <a:pt x="17798" y="17865"/>
                  </a:lnTo>
                  <a:lnTo>
                    <a:pt x="18576" y="18097"/>
                  </a:lnTo>
                  <a:lnTo>
                    <a:pt x="19424" y="18213"/>
                  </a:lnTo>
                  <a:lnTo>
                    <a:pt x="20317" y="18213"/>
                  </a:lnTo>
                  <a:lnTo>
                    <a:pt x="21050" y="18213"/>
                  </a:lnTo>
                  <a:lnTo>
                    <a:pt x="21600" y="17865"/>
                  </a:lnTo>
                  <a:lnTo>
                    <a:pt x="21165" y="17656"/>
                  </a:lnTo>
                  <a:lnTo>
                    <a:pt x="20592" y="17470"/>
                  </a:lnTo>
                  <a:lnTo>
                    <a:pt x="20088" y="17029"/>
                  </a:lnTo>
                  <a:lnTo>
                    <a:pt x="19653" y="16681"/>
                  </a:lnTo>
                  <a:lnTo>
                    <a:pt x="19195" y="16241"/>
                  </a:lnTo>
                  <a:lnTo>
                    <a:pt x="18920" y="15962"/>
                  </a:lnTo>
                  <a:lnTo>
                    <a:pt x="18576" y="15498"/>
                  </a:lnTo>
                  <a:lnTo>
                    <a:pt x="18576" y="15057"/>
                  </a:lnTo>
                  <a:lnTo>
                    <a:pt x="18485" y="14756"/>
                  </a:lnTo>
                  <a:lnTo>
                    <a:pt x="18256" y="14199"/>
                  </a:lnTo>
                  <a:lnTo>
                    <a:pt x="17912" y="13526"/>
                  </a:lnTo>
                  <a:lnTo>
                    <a:pt x="17523" y="13016"/>
                  </a:lnTo>
                  <a:lnTo>
                    <a:pt x="16973" y="12436"/>
                  </a:lnTo>
                  <a:lnTo>
                    <a:pt x="16355" y="12041"/>
                  </a:lnTo>
                  <a:lnTo>
                    <a:pt x="16011" y="11832"/>
                  </a:lnTo>
                  <a:lnTo>
                    <a:pt x="15690" y="11716"/>
                  </a:lnTo>
                  <a:lnTo>
                    <a:pt x="15232" y="11716"/>
                  </a:lnTo>
                  <a:lnTo>
                    <a:pt x="14843" y="11716"/>
                  </a:lnTo>
                  <a:lnTo>
                    <a:pt x="15461" y="11252"/>
                  </a:lnTo>
                  <a:lnTo>
                    <a:pt x="16126" y="10858"/>
                  </a:lnTo>
                  <a:lnTo>
                    <a:pt x="16973" y="10649"/>
                  </a:lnTo>
                  <a:lnTo>
                    <a:pt x="17798" y="10417"/>
                  </a:lnTo>
                  <a:lnTo>
                    <a:pt x="18806" y="10301"/>
                  </a:lnTo>
                  <a:lnTo>
                    <a:pt x="19653" y="10301"/>
                  </a:lnTo>
                  <a:lnTo>
                    <a:pt x="20478" y="10417"/>
                  </a:lnTo>
                  <a:lnTo>
                    <a:pt x="21256" y="10533"/>
                  </a:lnTo>
                  <a:lnTo>
                    <a:pt x="20707" y="9837"/>
                  </a:lnTo>
                  <a:lnTo>
                    <a:pt x="19859" y="9234"/>
                  </a:lnTo>
                  <a:lnTo>
                    <a:pt x="18806" y="8538"/>
                  </a:lnTo>
                  <a:lnTo>
                    <a:pt x="17637" y="8144"/>
                  </a:lnTo>
                  <a:lnTo>
                    <a:pt x="16973" y="8027"/>
                  </a:lnTo>
                  <a:lnTo>
                    <a:pt x="16355" y="7935"/>
                  </a:lnTo>
                  <a:lnTo>
                    <a:pt x="15805" y="7935"/>
                  </a:lnTo>
                  <a:lnTo>
                    <a:pt x="15118" y="8027"/>
                  </a:lnTo>
                  <a:lnTo>
                    <a:pt x="14614" y="8144"/>
                  </a:lnTo>
                  <a:lnTo>
                    <a:pt x="14064" y="8422"/>
                  </a:lnTo>
                  <a:lnTo>
                    <a:pt x="13606" y="8886"/>
                  </a:lnTo>
                  <a:lnTo>
                    <a:pt x="13217" y="9327"/>
                  </a:lnTo>
                  <a:lnTo>
                    <a:pt x="13606" y="8538"/>
                  </a:lnTo>
                  <a:lnTo>
                    <a:pt x="13950" y="7935"/>
                  </a:lnTo>
                  <a:lnTo>
                    <a:pt x="14293" y="7123"/>
                  </a:lnTo>
                  <a:lnTo>
                    <a:pt x="14499" y="6519"/>
                  </a:lnTo>
                  <a:lnTo>
                    <a:pt x="14614" y="5823"/>
                  </a:lnTo>
                  <a:lnTo>
                    <a:pt x="14614" y="5220"/>
                  </a:lnTo>
                  <a:lnTo>
                    <a:pt x="14408" y="4524"/>
                  </a:lnTo>
                  <a:lnTo>
                    <a:pt x="14064" y="3898"/>
                  </a:lnTo>
                  <a:lnTo>
                    <a:pt x="13606" y="3225"/>
                  </a:lnTo>
                  <a:lnTo>
                    <a:pt x="13331" y="2598"/>
                  </a:lnTo>
                  <a:lnTo>
                    <a:pt x="13102" y="2042"/>
                  </a:lnTo>
                  <a:lnTo>
                    <a:pt x="12896" y="1485"/>
                  </a:lnTo>
                  <a:lnTo>
                    <a:pt x="12781" y="1090"/>
                  </a:lnTo>
                  <a:lnTo>
                    <a:pt x="12667" y="626"/>
                  </a:lnTo>
                  <a:lnTo>
                    <a:pt x="12667" y="278"/>
                  </a:lnTo>
                  <a:lnTo>
                    <a:pt x="12667" y="0"/>
                  </a:lnTo>
                  <a:lnTo>
                    <a:pt x="12163" y="394"/>
                  </a:lnTo>
                  <a:lnTo>
                    <a:pt x="11728" y="974"/>
                  </a:lnTo>
                  <a:lnTo>
                    <a:pt x="11155" y="1601"/>
                  </a:lnTo>
                  <a:lnTo>
                    <a:pt x="10766" y="2390"/>
                  </a:lnTo>
                  <a:lnTo>
                    <a:pt x="10330" y="3109"/>
                  </a:lnTo>
                  <a:lnTo>
                    <a:pt x="10101" y="3898"/>
                  </a:lnTo>
                  <a:lnTo>
                    <a:pt x="9987" y="4524"/>
                  </a:lnTo>
                  <a:lnTo>
                    <a:pt x="10101" y="5220"/>
                  </a:lnTo>
                  <a:lnTo>
                    <a:pt x="10216" y="5823"/>
                  </a:lnTo>
                  <a:lnTo>
                    <a:pt x="10330" y="6403"/>
                  </a:lnTo>
                  <a:lnTo>
                    <a:pt x="10330" y="6914"/>
                  </a:lnTo>
                  <a:lnTo>
                    <a:pt x="10216" y="7471"/>
                  </a:lnTo>
                  <a:lnTo>
                    <a:pt x="10101" y="7935"/>
                  </a:lnTo>
                  <a:lnTo>
                    <a:pt x="9872" y="8329"/>
                  </a:lnTo>
                  <a:lnTo>
                    <a:pt x="9643" y="8654"/>
                  </a:lnTo>
                  <a:lnTo>
                    <a:pt x="9368" y="9002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50000">
                  <a:srgbClr val="008000"/>
                </a:gs>
                <a:gs pos="100000">
                  <a:srgbClr val="99cc00"/>
                </a:gs>
              </a:gsLst>
              <a:lin ang="1452000"/>
            </a:gradFill>
            <a:ln w="93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564" name="Picture 410" descr="2f2[1]"/>
            <p:cNvPicPr/>
            <p:nvPr/>
          </p:nvPicPr>
          <p:blipFill>
            <a:blip r:embed="rId23"/>
            <a:stretch/>
          </p:blipFill>
          <p:spPr>
            <a:xfrm>
              <a:off x="3311640" y="5049720"/>
              <a:ext cx="684000" cy="38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411" descr="j0283572"/>
          <p:cNvPicPr/>
          <p:nvPr/>
        </p:nvPicPr>
        <p:blipFill>
          <a:blip r:embed="rId24"/>
          <a:stretch/>
        </p:blipFill>
        <p:spPr>
          <a:xfrm rot="2269200">
            <a:off x="5148000" y="4822920"/>
            <a:ext cx="1252440" cy="9889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12" descr="j0283572"/>
          <p:cNvPicPr/>
          <p:nvPr/>
        </p:nvPicPr>
        <p:blipFill>
          <a:blip r:embed="rId25"/>
          <a:stretch/>
        </p:blipFill>
        <p:spPr>
          <a:xfrm rot="2787600">
            <a:off x="491760" y="4169880"/>
            <a:ext cx="1190520" cy="114948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2" descr="daisy02.gif"/>
          <p:cNvPicPr/>
          <p:nvPr/>
        </p:nvPicPr>
        <p:blipFill>
          <a:blip r:embed="rId26"/>
          <a:stretch/>
        </p:blipFill>
        <p:spPr>
          <a:xfrm>
            <a:off x="6012000" y="2349360"/>
            <a:ext cx="333360" cy="39240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2" descr="daisy02.gif"/>
          <p:cNvPicPr/>
          <p:nvPr/>
        </p:nvPicPr>
        <p:blipFill>
          <a:blip r:embed="rId27"/>
          <a:stretch/>
        </p:blipFill>
        <p:spPr>
          <a:xfrm>
            <a:off x="7093080" y="1089000"/>
            <a:ext cx="331560" cy="39204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2" descr="daisy02.gif"/>
          <p:cNvPicPr/>
          <p:nvPr/>
        </p:nvPicPr>
        <p:blipFill>
          <a:blip r:embed="rId28"/>
          <a:stretch/>
        </p:blipFill>
        <p:spPr>
          <a:xfrm>
            <a:off x="6732720" y="2708280"/>
            <a:ext cx="333360" cy="3920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2" descr="daisy02.gif"/>
          <p:cNvPicPr/>
          <p:nvPr/>
        </p:nvPicPr>
        <p:blipFill>
          <a:blip r:embed="rId29"/>
          <a:stretch/>
        </p:blipFill>
        <p:spPr>
          <a:xfrm>
            <a:off x="6372360" y="1449360"/>
            <a:ext cx="331560" cy="39204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2" descr="daisy02.gif"/>
          <p:cNvPicPr/>
          <p:nvPr/>
        </p:nvPicPr>
        <p:blipFill>
          <a:blip r:embed="rId30"/>
          <a:stretch/>
        </p:blipFill>
        <p:spPr>
          <a:xfrm>
            <a:off x="7093080" y="1989000"/>
            <a:ext cx="331560" cy="39240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2" descr="daisy02.gif"/>
          <p:cNvPicPr/>
          <p:nvPr/>
        </p:nvPicPr>
        <p:blipFill>
          <a:blip r:embed="rId31"/>
          <a:stretch/>
        </p:blipFill>
        <p:spPr>
          <a:xfrm>
            <a:off x="5651640" y="1268280"/>
            <a:ext cx="331560" cy="392400"/>
          </a:xfrm>
          <a:prstGeom prst="rect">
            <a:avLst/>
          </a:prstGeom>
          <a:ln w="0">
            <a:noFill/>
          </a:ln>
        </p:spPr>
      </p:pic>
      <p:sp>
        <p:nvSpPr>
          <p:cNvPr id="573" name="Freeform 421"/>
          <p:cNvSpPr/>
          <p:nvPr/>
        </p:nvSpPr>
        <p:spPr>
          <a:xfrm rot="3357000">
            <a:off x="7891920" y="2269080"/>
            <a:ext cx="406440" cy="56700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Freeform 422"/>
          <p:cNvSpPr/>
          <p:nvPr/>
        </p:nvSpPr>
        <p:spPr>
          <a:xfrm rot="16679400">
            <a:off x="5470920" y="1628640"/>
            <a:ext cx="406440" cy="56700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Freeform 423"/>
          <p:cNvSpPr/>
          <p:nvPr/>
        </p:nvSpPr>
        <p:spPr>
          <a:xfrm rot="16679400">
            <a:off x="6631560" y="2988000"/>
            <a:ext cx="406440" cy="56664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Freeform 424"/>
          <p:cNvSpPr/>
          <p:nvPr/>
        </p:nvSpPr>
        <p:spPr>
          <a:xfrm rot="16679400">
            <a:off x="5912280" y="826920"/>
            <a:ext cx="406440" cy="567000"/>
          </a:xfrm>
          <a:custGeom>
            <a:avLst/>
            <a:gdLst/>
            <a:ahLst/>
            <a:rect l="l" t="t" r="r" b="b"/>
            <a:pathLst>
              <a:path w="463" h="641">
                <a:moveTo>
                  <a:pt x="22" y="390"/>
                </a:moveTo>
                <a:cubicBezTo>
                  <a:pt x="43" y="307"/>
                  <a:pt x="110" y="185"/>
                  <a:pt x="175" y="132"/>
                </a:cubicBezTo>
                <a:cubicBezTo>
                  <a:pt x="231" y="101"/>
                  <a:pt x="363" y="0"/>
                  <a:pt x="430" y="0"/>
                </a:cubicBezTo>
                <a:cubicBezTo>
                  <a:pt x="463" y="35"/>
                  <a:pt x="406" y="250"/>
                  <a:pt x="373" y="345"/>
                </a:cubicBezTo>
                <a:cubicBezTo>
                  <a:pt x="340" y="440"/>
                  <a:pt x="283" y="526"/>
                  <a:pt x="229" y="573"/>
                </a:cubicBezTo>
                <a:cubicBezTo>
                  <a:pt x="150" y="626"/>
                  <a:pt x="161" y="641"/>
                  <a:pt x="49" y="630"/>
                </a:cubicBezTo>
                <a:cubicBezTo>
                  <a:pt x="14" y="627"/>
                  <a:pt x="8" y="601"/>
                  <a:pt x="4" y="561"/>
                </a:cubicBezTo>
                <a:cubicBezTo>
                  <a:pt x="0" y="521"/>
                  <a:pt x="18" y="426"/>
                  <a:pt x="22" y="390"/>
                </a:cubicBez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7" name="Рисунок 2" descr="daisy02.gif"/>
          <p:cNvPicPr/>
          <p:nvPr/>
        </p:nvPicPr>
        <p:blipFill>
          <a:blip r:embed="rId36"/>
          <a:stretch/>
        </p:blipFill>
        <p:spPr>
          <a:xfrm>
            <a:off x="7812000" y="2708280"/>
            <a:ext cx="333360" cy="3920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26" descr="j0283572"/>
          <p:cNvPicPr/>
          <p:nvPr/>
        </p:nvPicPr>
        <p:blipFill>
          <a:blip r:embed="rId37"/>
          <a:stretch/>
        </p:blipFill>
        <p:spPr>
          <a:xfrm rot="3527400">
            <a:off x="6586560" y="765720"/>
            <a:ext cx="1151280" cy="11494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14" descr="j0283572"/>
          <p:cNvPicPr/>
          <p:nvPr/>
        </p:nvPicPr>
        <p:blipFill>
          <a:blip r:embed="rId38"/>
          <a:stretch/>
        </p:blipFill>
        <p:spPr>
          <a:xfrm rot="2968800">
            <a:off x="2086560" y="2205720"/>
            <a:ext cx="1420920" cy="10922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13" descr="j0283572"/>
          <p:cNvPicPr/>
          <p:nvPr/>
        </p:nvPicPr>
        <p:blipFill>
          <a:blip r:embed="rId39"/>
          <a:stretch/>
        </p:blipFill>
        <p:spPr>
          <a:xfrm rot="3527400">
            <a:off x="3923280" y="3213720"/>
            <a:ext cx="1187640" cy="11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28871 -0.19537 E">
                                      <p:cBhvr>
                                        <p:cTn id="218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85185E-006 L 0.25504 -0.10787 E">
                                      <p:cBhvr>
                                        <p:cTn id="220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L 0.28959 -0.22315 E">
                                      <p:cBhvr>
                                        <p:cTn id="222" dur="5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7:20:22Z</dcterms:created>
  <dc:creator>Ирина</dc:creator>
  <dc:description/>
  <dc:language>en-US</dc:language>
  <cp:lastModifiedBy>User</cp:lastModifiedBy>
  <dcterms:modified xsi:type="dcterms:W3CDTF">2014-01-15T14:42:25Z</dcterms:modified>
  <cp:revision>115</cp:revision>
  <dc:subject/>
  <dc:title>Слайд 1</dc:title>
</cp:coreProperties>
</file>