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5F0-7F5A-4B8F-8CBE-62779CCF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19E-4E82-445D-8820-8FE15023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BB3-2C9D-4885-B094-93D5BB4D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208E-A7DD-44CD-ABDC-99D0B893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40018-27B5-4AA2-B9F2-3A260B62EC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0887C-3DC9-467B-914C-57538693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25BFB-6917-4043-9C51-672BA56C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F0CB0-F627-47FA-8DDE-5974D909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34F34-CF71-4AC6-A13D-97E133FC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AB4A4-743A-4A54-AE04-C56CE17F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2B169-D50C-4B0C-B72D-B0A69A9E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84D-D6EC-4D33-AE20-A7EA8787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A6E8F-8B12-47FB-A799-08B22BDD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86A04-C29B-4D36-9FD5-4632B587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A1995-54CD-4232-A1C9-657053FA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0391F-1D06-4DB0-B37C-44449045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3F341-3ABC-47EB-94BD-9C8185B553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91ADA-D0AB-40E2-976C-DD3610F4E7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ED388E-69BD-4AAE-B7AD-469038E1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1B8E78-A111-474D-A684-B34AB766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1A3941-D66E-46A9-997C-9BD1573A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1766B5-1C90-4A29-AAEA-EB448CC9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638-979A-48F7-AD24-033EAEA7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77CC52-2E9E-472B-A993-637F8B05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1758E5-ADBB-456A-89B7-048E12BB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A84533-E753-45C5-B040-22B96716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2484D4-DD55-42CF-A05C-DC5A3FD5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4720FC-1D2F-40A5-9D16-752BA50B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5D1A5B-CDDF-4D07-81E0-1D2A1BF3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EB73AB-7D74-40D8-9731-888A20A974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EA9-91EA-42F7-9243-F752B987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DDB-7783-408A-B7D8-D8E80FF0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05EC-84ED-4A15-AEF8-932924A4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CE7-8A19-4C93-B957-82AC3012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329-DE9D-44E4-93DB-6A5BDE8C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ACD-BAA9-492E-A0E2-4FCACE17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C09DC-CA48-4D98-9BD9-A27AD06E574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8267760" y="-473040"/>
            <a:ext cx="1811160" cy="1811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236520"/>
            <a:ext cx="2598840" cy="2284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-693720" y="-384120"/>
            <a:ext cx="3672000" cy="2955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140760"/>
            <a:ext cx="906624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662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02920" y="7007400"/>
            <a:ext cx="23461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43400" y="7007400"/>
            <a:ext cx="319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7223040" y="7007400"/>
            <a:ext cx="23464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9368C-323B-41FB-AC06-43258C6DC481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6920" y="208080"/>
            <a:ext cx="573120" cy="150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19160" y="1635120"/>
            <a:ext cx="573120" cy="150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19160" y="2984400"/>
            <a:ext cx="573120" cy="1506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9160" y="5923080"/>
            <a:ext cx="573120" cy="150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19160" y="4414680"/>
            <a:ext cx="573120" cy="1505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3400" y="208080"/>
            <a:ext cx="9048960" cy="71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560" y="7310520"/>
            <a:ext cx="12337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6"/>
          </p:nvPr>
        </p:nvSpPr>
        <p:spPr>
          <a:xfrm>
            <a:off x="502920" y="7007040"/>
            <a:ext cx="2344680" cy="4093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7.1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43400" y="7007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7"/>
          </p:nvPr>
        </p:nvSpPr>
        <p:spPr>
          <a:xfrm>
            <a:off x="7222680" y="7007400"/>
            <a:ext cx="2344680" cy="4140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4ADFF-86A1-4EDB-A93A-7F2D382C7878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657520" y="1160640"/>
            <a:ext cx="642924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0200" y="2984400"/>
            <a:ext cx="70567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18920" y="139680"/>
            <a:ext cx="648036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3366"/>
                </a:solidFill>
                <a:latin typeface="Calibri"/>
              </a:rPr>
              <a:t>Презентация по развитию устной речи в 3 классе коррекционной школы 8 вид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4b1f6f"/>
                </a:solidFill>
                <a:latin typeface="Calibri"/>
              </a:rPr>
              <a:t>выполнила учитель Фаррухшина Л.Р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Посуда:виды посуд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79640" y="360360"/>
            <a:ext cx="7920000" cy="66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46320" y="360360"/>
            <a:ext cx="577368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Из чего делают посуду?» «Какая посуда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я вилка из ......... – Она 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й нож из ........ – Он 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я тарелка из ........ – Она 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я чашка из ..... – Она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360360"/>
            <a:ext cx="8820360" cy="54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одбери сло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о какую посуду можно сказать «стеклянный», «стеклянная», «стеклянно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еклянный – .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еклянная – ..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еклянное – ...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о какую посуду можно сказать «металлический», «металлическая», «металлическо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аллический – ...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аллическая – ...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аллическое – .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же с другими словами – призна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95560" y="720720"/>
            <a:ext cx="8883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Я назову большую посуду, а ты маленьку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шка – чаше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ка – ..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овник – ..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юдце – ..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стрюля – ...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ж  - ....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73160" y="539640"/>
            <a:ext cx="9366120" cy="70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Один – несколько» (с использованием парных предметов или картинок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кажи, где кастрюля. – Вот кастрю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кажи, где кастрюли. – Вот кастрю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ажи, что это? – Это тарел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ажи, что это? – Это тарел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Один – много» «Договори слов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мотри, на столе одна ложка, а на полке много … ложе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мотри, на столе одна вилка, а на полке много… вил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мотри, на столе один нож, а на полке много…. нож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33360" y="900000"/>
            <a:ext cx="74059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читай от 1 до 10 и обратн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чайник, 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 глиняная ваза,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рят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нож? – Нож в 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суп? – Суп в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чайник? – Чайник  в 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14680" y="790560"/>
            <a:ext cx="3035520" cy="59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я пуста быва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 тебя я забыв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когда несу е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мо рта я не прой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....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ноги, два ух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нос да брю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....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пыхтит как парово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 держит кверху 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шумит, остепенится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гласит чайку нап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......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горячего коло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нос водица ль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............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897280" y="1555920"/>
            <a:ext cx="432756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янная темн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 ней хлеб все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н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..........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еланы они все из сте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ы для чая, сока, мол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..........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я макушка в дырках мелки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ечь горькая в тарел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.........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ая посу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ся в дыр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......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9280" y="899640"/>
            <a:ext cx="8708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кончи предложение:</a:t>
            </a:r>
            <a:br>
              <a:rPr sz="2600"/>
            </a:br>
            <a:br>
              <a:rPr sz="26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ша держал за руку маленькую.....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уках у мамы была грязная...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душка взял чашку за.....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ручку можно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512640"/>
            <a:ext cx="792000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звать предмет во множественном числе: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людце, тарелка, бокал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кан, чайник, кружка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ломка, селедочница, салатница, сковоро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40360" y="4859280"/>
            <a:ext cx="2880000" cy="25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313920"/>
            <a:ext cx="80992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называются приборы,которыми мы пользуемся при еде?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й посудой пользуются для приготовления пищи?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называется эта посуда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 какая бывает еще посуда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Как можно назвать глубокую супницу,салатницу,солон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80360" y="5580000"/>
            <a:ext cx="1619280" cy="180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00000" y="5759280"/>
            <a:ext cx="2160720" cy="1619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060720" y="61196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140360" y="5759280"/>
            <a:ext cx="236844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-117360"/>
            <a:ext cx="9066240" cy="75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обрать глаголы к предметам: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йник                стои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наливают(в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выливают(из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доливают (в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чашка                  пьют(из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наливают(в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выпивают(из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разливают(из)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кастрюля            стои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мо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чистя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нал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закрывают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сахарница           кладут(в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высыпают (из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берут(из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насыпают (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43440" y="1800360"/>
            <a:ext cx="235728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40000" y="1800360"/>
            <a:ext cx="10796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9640" y="-539640"/>
            <a:ext cx="849312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зови  посуду:</a:t>
            </a:r>
            <a:br>
              <a:rPr sz="26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хонная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ловая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й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59280" y="90000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580000" y="4140360"/>
            <a:ext cx="4500720" cy="3240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222200" y="2700360"/>
            <a:ext cx="399744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99640" y="293760"/>
            <a:ext cx="867276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крываем на стол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ую посуду поставишь на стол, если будем пить чай?Какую посуду поставим на стол, если будем обеда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79800" y="1619280"/>
            <a:ext cx="2104920" cy="1440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480000" y="1751040"/>
            <a:ext cx="3060720" cy="2928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079640" y="4319640"/>
            <a:ext cx="3240000" cy="3060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959280" y="3060720"/>
            <a:ext cx="2519280" cy="1800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6840360" y="431964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3959280" y="5580000"/>
            <a:ext cx="234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280" y="334440"/>
            <a:ext cx="8280360" cy="699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 есть у чайника?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Что есть у кастрюли?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Что есть у чаш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300720" y="2879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260360" y="4319640"/>
            <a:ext cx="3060720" cy="234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979640" y="900000"/>
            <a:ext cx="2879640" cy="25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52520" y="111240"/>
            <a:ext cx="5667480" cy="7448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0:38:45Z</dcterms:created>
  <dc:creator/>
  <dc:description/>
  <dc:language>en-US</dc:language>
  <cp:lastModifiedBy/>
  <cp:revision>1</cp:revision>
  <dc:subject/>
  <dc:title/>
</cp:coreProperties>
</file>