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4BABE-AE5A-402B-B8CB-AA0A7CD7EE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8240" anchor="b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3AC9C-BC0F-44E3-9F37-DF91E716B0DB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fld id="{65C43754-4A08-475F-9C83-FE5F314BD7EF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3ACE-7466-4B43-BC9C-41CE6C62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DE04-467D-41D4-8C01-86433BDC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C5C1-18F0-4893-81F6-213CBAF4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AD75-AC72-4D02-8DD2-27BCFD1B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B49C-2D67-4052-A6C8-E11DEEDD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C3FA-832F-4F4F-8001-72E49CFE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AC0F-1EFB-486D-8043-3DC79274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8A26-5F33-42B2-9A61-EBECFD04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E7E7-944A-462B-BF97-ACC817B6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10BB-8A54-421C-B00E-51D43B29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F7C7-375E-4F55-9048-26E8ECBB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45EF-DDA6-47C9-B596-4E50E425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FCB7-1864-454F-8614-1D863B89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3FF1-B862-41FA-8F69-D3E8F596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43D6-3589-4641-A4CD-7BE0B85C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C5CC-8504-4195-91BA-1A6F44B44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0134-81B0-4595-9C1C-4F099C43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FC7D-0837-4913-9024-E7AD4808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135E-DD1B-49E7-9654-A43F1B87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6AB6-D800-4C2A-A866-05EC0DC2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71DE-F51B-44F5-A336-239885A8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741F-73F6-42EC-BA15-A894BC93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BC2F-845E-416E-AE90-378C8884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A458-2066-4A49-A636-4C890E1C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280"/>
            <a:ext cx="212868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1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1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Lucida Sans Unicode"/>
              </a:rPr>
              <a:t>&lt;date/time&gt;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Lucida Sans Unicode"/>
              </a:rPr>
              <a:t>13.1.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280"/>
            <a:ext cx="2890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57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1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1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1A5DD-411B-4BD9-87D8-F43AAA4E951F}" type="slidenum">
              <a:rPr b="0" lang="ru-RU" sz="1800" spc="-1" strike="noStrike">
                <a:solidFill>
                  <a:srgbClr val="000000"/>
                </a:solidFill>
                <a:latin typeface="Book Antiqua"/>
                <a:ea typeface="Lucida Sans Unicode"/>
              </a:rPr>
              <a:t>&lt;number&gt;</a:t>
            </a:fld>
            <a:fld id="{42C8DE59-5F4D-4A20-B8AE-C4F466EA835D}" type="slidenum">
              <a:rPr b="0" lang="ru-RU" sz="1800" spc="-1" strike="noStrike">
                <a:solidFill>
                  <a:srgbClr val="000000"/>
                </a:solidFill>
                <a:latin typeface="Book Antiqua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1920" y="1371240"/>
            <a:ext cx="8224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16280"/>
            <a:ext cx="21286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Lucida Sans Unicode"/>
              </a:rPr>
              <a:t>&lt;date/time&gt;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Lucida Sans Unicode"/>
              </a:rPr>
              <a:t>13.1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16280"/>
            <a:ext cx="28908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924680" y="6416280"/>
            <a:ext cx="75744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1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400" spc="-1" strike="noStrike">
                <a:solidFill>
                  <a:srgbClr val="000000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1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1D64B8F-B2C8-42AE-822F-D6880F24082E}" type="slidenum">
              <a:rPr b="0" lang="ru-RU" sz="2400" spc="-1" strike="noStrike">
                <a:solidFill>
                  <a:srgbClr val="000000"/>
                </a:solidFill>
                <a:latin typeface="Book Antiqua"/>
                <a:ea typeface="Lucida Sans Unicode"/>
              </a:rPr>
              <a:t>&lt;number&gt;</a:t>
            </a:fld>
            <a:fld id="{FEB9EC64-9994-416A-B2AB-78A9A0262F97}" type="slidenum">
              <a:rPr b="0" lang="ru-RU" sz="2400" spc="-1" strike="noStrike">
                <a:solidFill>
                  <a:srgbClr val="000000"/>
                </a:solidFill>
                <a:latin typeface="Book Antiqua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Lucida Sans Unicode"/>
              </a:rPr>
              <a:t>Образец подзаго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343080" indent="-34308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57760" y="294840"/>
            <a:ext cx="49291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0332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6600"/>
            </a:br>
            <a:r>
              <a:rPr b="1" lang="ru-RU" sz="7200" spc="-1" strike="noStrike">
                <a:solidFill>
                  <a:srgbClr val="375bb0"/>
                </a:solidFill>
                <a:latin typeface="Book Antiqua"/>
              </a:rPr>
              <a:t>Урок 2.</a:t>
            </a:r>
            <a:r>
              <a:rPr b="1" lang="ru-RU" sz="72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"/>
          <p:cNvSpPr/>
          <p:nvPr/>
        </p:nvSpPr>
        <p:spPr>
          <a:xfrm>
            <a:off x="500040" y="142920"/>
            <a:ext cx="8229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14680" y="428760"/>
            <a:ext cx="664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Lucida Sans Unicode"/>
              </a:rPr>
              <a:t>Образовательная система «Школа 2100»                      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28760" y="2571840"/>
            <a:ext cx="3373200" cy="3778200"/>
          </a:xfrm>
          <a:prstGeom prst="rect">
            <a:avLst/>
          </a:prstGeom>
          <a:ln w="57240">
            <a:solidFill>
              <a:srgbClr val="756525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4071960" y="2714760"/>
            <a:ext cx="471492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  <a:ea typeface="Lucida Sans Unicode"/>
              </a:rPr>
              <a:t>Россия: хозяйство и сослови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solidFill>
            <a:srgbClr val="808080"/>
          </a:solidFill>
          <a:ln w="57240">
            <a:solidFill>
              <a:srgbClr val="756525"/>
            </a:solidFill>
            <a:round/>
          </a:ln>
        </p:spPr>
        <p:txBody>
          <a:bodyPr lIns="90000" rIns="90000" tIns="9792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Lucida Sans"/>
              </a:rPr>
              <a:t>Экономика</a:t>
            </a: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6" name=""/>
          <p:cNvSpPr/>
          <p:nvPr/>
        </p:nvSpPr>
        <p:spPr>
          <a:xfrm>
            <a:off x="500040" y="1785960"/>
            <a:ext cx="8229600" cy="4708440"/>
          </a:xfrm>
          <a:prstGeom prst="rect">
            <a:avLst/>
          </a:prstGeom>
          <a:noFill/>
          <a:ln w="57240">
            <a:solidFill>
              <a:srgbClr val="3e8e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4680" indent="-408240"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Сохранение натурального хозяйства, появление казенных мануфактур, главная ценность - земля, натуральное хозяйство, слабо развита торговля. Сохраняется аграрное общество, но появляются элементы новог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4680" indent="-408240"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0040" y="142920"/>
            <a:ext cx="8229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solidFill>
            <a:srgbClr val="808080"/>
          </a:solidFill>
          <a:ln w="57240">
            <a:solidFill>
              <a:srgbClr val="756525"/>
            </a:solidFill>
            <a:round/>
          </a:ln>
        </p:spPr>
        <p:txBody>
          <a:bodyPr lIns="90000" rIns="90000" tIns="9792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Lucida Sans"/>
              </a:rPr>
              <a:t>Общественные слои</a:t>
            </a: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"/>
          <p:cNvSpPr/>
          <p:nvPr/>
        </p:nvSpPr>
        <p:spPr>
          <a:xfrm>
            <a:off x="500040" y="1857240"/>
            <a:ext cx="8229600" cy="4708800"/>
          </a:xfrm>
          <a:prstGeom prst="rect">
            <a:avLst/>
          </a:prstGeom>
          <a:noFill/>
          <a:ln w="57240">
            <a:solidFill>
              <a:srgbClr val="3e8e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4680" indent="-408240"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Сохранение сословий (основная масса - крестьяне), знатность определяли количеством земли с работающими на ней людьми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44680" indent="-408240"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0040" y="0"/>
            <a:ext cx="8229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solidFill>
            <a:srgbClr val="808080"/>
          </a:solidFill>
          <a:ln w="57240">
            <a:solidFill>
              <a:srgbClr val="756525"/>
            </a:solidFill>
            <a:round/>
          </a:ln>
        </p:spPr>
        <p:txBody>
          <a:bodyPr lIns="90000" rIns="90000" tIns="9792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Lucida Sans"/>
              </a:rPr>
              <a:t>Культура</a:t>
            </a: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2" name=""/>
          <p:cNvSpPr/>
          <p:nvPr/>
        </p:nvSpPr>
        <p:spPr>
          <a:xfrm>
            <a:off x="500040" y="2286000"/>
            <a:ext cx="8229600" cy="3328920"/>
          </a:xfrm>
          <a:prstGeom prst="rect">
            <a:avLst/>
          </a:prstGeom>
          <a:noFill/>
          <a:ln w="57240">
            <a:solidFill>
              <a:srgbClr val="3e8e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4680" indent="-408240"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Ценность обычаев и церковных правил. «Домострой»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44680" indent="-408240"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0040" y="142920"/>
            <a:ext cx="8229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85840" y="1571760"/>
            <a:ext cx="8572320" cy="2400120"/>
          </a:xfrm>
          <a:prstGeom prst="rect">
            <a:avLst/>
          </a:prstGeom>
          <a:solidFill>
            <a:srgbClr val="808080"/>
          </a:solidFill>
          <a:ln w="57240">
            <a:solidFill>
              <a:srgbClr val="756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В России ХУI века начало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разрушение аграрного об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или нет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5840" y="-960480"/>
            <a:ext cx="8572320" cy="3635280"/>
          </a:xfrm>
          <a:prstGeom prst="rect">
            <a:avLst/>
          </a:prstGeom>
          <a:solidFill>
            <a:srgbClr val="3e8ea9"/>
          </a:solidFill>
          <a:ln w="57240">
            <a:solidFill>
              <a:srgbClr val="756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3320" bIns="45000" anchor="ctr">
            <a:noAutofit/>
          </a:bodyPr>
          <a:p>
            <a:pPr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В России ХУI века начало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разрушение аграрного об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или нет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5840" y="4143240"/>
            <a:ext cx="8572320" cy="2554560"/>
          </a:xfrm>
          <a:prstGeom prst="rect">
            <a:avLst/>
          </a:prstGeom>
          <a:solidFill>
            <a:srgbClr val="ffffff"/>
          </a:solidFill>
          <a:ln w="57240">
            <a:solidFill>
              <a:srgbClr val="3e8e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 Antiqua"/>
                <a:ea typeface="Lucida Sans Unicode"/>
              </a:rPr>
              <a:t>В хозяйстве России преобладали признаки аграрного общества, но стали появляться приметы его разруш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0040" y="0"/>
            <a:ext cx="8229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dur="indefinite" fill="hold">
                      <p:stCondLst>
                        <p:cond delay="0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11120" y="720720"/>
            <a:ext cx="8229600" cy="5788080"/>
          </a:xfrm>
          <a:prstGeom prst="rect">
            <a:avLst/>
          </a:prstGeom>
          <a:solidFill>
            <a:srgbClr val="3e8ea9"/>
          </a:solidFill>
          <a:ln w="57240">
            <a:solidFill>
              <a:srgbClr val="756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1. §2 и ответить на вопросы перед ни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2. Заполнить таблицу 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стр. 32 (расширение территори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используя пункт 4 (стр. 39-40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040" y="0"/>
            <a:ext cx="8229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dur="indefinite" fill="hold">
                      <p:stCondLst>
                        <p:cond delay="0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00040" y="571680"/>
            <a:ext cx="8072640" cy="3232080"/>
          </a:xfrm>
          <a:prstGeom prst="rect">
            <a:avLst/>
          </a:prstGeom>
          <a:solidFill>
            <a:srgbClr val="808080"/>
          </a:solidFill>
          <a:ln w="57240">
            <a:solidFill>
              <a:srgbClr val="756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Ричард Ченсле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Торговля в России была развита хорошо: в Новгороде голландские купцы имели свой складочный дом. Вологда торговала льном, воском и салом, Холмогоры - солью и рыб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8760" y="4143240"/>
            <a:ext cx="8072280" cy="2062440"/>
          </a:xfrm>
          <a:prstGeom prst="rect">
            <a:avLst/>
          </a:prstGeom>
          <a:solidFill>
            <a:srgbClr val="3e8ea9"/>
          </a:solidFill>
          <a:ln w="57240">
            <a:solidFill>
              <a:srgbClr val="756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Развитие торговли в России свидетельствует о разрушении аграрного общества, о замене натурального хозяйства рыноч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0040" y="142920"/>
            <a:ext cx="8229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63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"/>
          <p:cNvSpPr/>
          <p:nvPr/>
        </p:nvSpPr>
        <p:spPr>
          <a:xfrm>
            <a:off x="2143080" y="5929200"/>
            <a:ext cx="4749840" cy="646200"/>
          </a:xfrm>
          <a:prstGeom prst="rect">
            <a:avLst/>
          </a:prstGeom>
          <a:solidFill>
            <a:srgbClr val="808080"/>
          </a:solidFill>
          <a:ln w="57240">
            <a:solidFill>
              <a:srgbClr val="756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Book Antiqua"/>
                <a:ea typeface="Lucida Sans Unicode"/>
              </a:rPr>
              <a:t>.</a:t>
            </a:r>
            <a:r>
              <a:rPr b="0" i="1" lang="ru-RU" sz="3600" spc="-1" strike="noStrike">
                <a:solidFill>
                  <a:srgbClr val="ffff00"/>
                </a:solidFill>
                <a:latin typeface="Book Antiqua"/>
                <a:ea typeface="Lucida Sans Unicode"/>
              </a:rPr>
              <a:t>Новгородская ярма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00040" y="428760"/>
            <a:ext cx="8358120" cy="5133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00040" y="571680"/>
            <a:ext cx="8358120" cy="5143320"/>
          </a:xfrm>
          <a:prstGeom prst="rect">
            <a:avLst/>
          </a:prstGeom>
          <a:noFill/>
          <a:ln w="57240">
            <a:solidFill>
              <a:srgbClr val="756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040" y="142920"/>
            <a:ext cx="8229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0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57120" y="571680"/>
            <a:ext cx="8372520" cy="4071600"/>
          </a:xfrm>
          <a:prstGeom prst="rect">
            <a:avLst/>
          </a:prstGeom>
          <a:solidFill>
            <a:srgbClr val="808080"/>
          </a:solidFill>
          <a:ln w="57240">
            <a:solidFill>
              <a:srgbClr val="756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Book Antiqua"/>
              </a:rPr>
              <a:t>Франческо Тьепол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Lucida Sans"/>
              </a:rPr>
              <a:t>России во многих областях совсем н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Lucida Sans"/>
              </a:rPr>
              <a:t>денег, а там, где они есть, передаются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Lucida Sans"/>
              </a:rPr>
              <a:t>пользу государя. Торговля состоит 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Lucida Sans"/>
              </a:rPr>
              <a:t>обмена това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7120" y="5000760"/>
            <a:ext cx="8286840" cy="1446120"/>
          </a:xfrm>
          <a:prstGeom prst="rect">
            <a:avLst/>
          </a:prstGeom>
          <a:solidFill>
            <a:srgbClr val="3e8ea9"/>
          </a:solidFill>
          <a:ln w="57240">
            <a:solidFill>
              <a:srgbClr val="756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В России сохранялось аграрное общест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040" y="142920"/>
            <a:ext cx="8229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0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solidFill>
            <a:srgbClr val="3e8ea9"/>
          </a:solidFill>
          <a:ln w="57240">
            <a:solidFill>
              <a:srgbClr val="756525"/>
            </a:solidFill>
            <a:round/>
          </a:ln>
        </p:spPr>
        <p:txBody>
          <a:bodyPr lIns="90000" rIns="90000" tIns="10332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Lucida Sans"/>
              </a:rPr>
              <a:t>Проблема: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"/>
          <p:cNvSpPr/>
          <p:nvPr/>
        </p:nvSpPr>
        <p:spPr>
          <a:xfrm>
            <a:off x="500040" y="2357280"/>
            <a:ext cx="8358120" cy="3857760"/>
          </a:xfrm>
          <a:prstGeom prst="rect">
            <a:avLst/>
          </a:prstGeom>
          <a:solidFill>
            <a:srgbClr val="808080"/>
          </a:solidFill>
          <a:ln w="57240">
            <a:solidFill>
              <a:srgbClr val="756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Book Antiqua"/>
              </a:rPr>
              <a:t>В России XVI ве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Book Antiqua"/>
              </a:rPr>
              <a:t>началось разруш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Book Antiqua"/>
              </a:rPr>
              <a:t>аграрного общества ил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Book Antiqua"/>
              </a:rPr>
              <a:t>нет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040" y="142920"/>
            <a:ext cx="8229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dur="indefinite" fill="hold">
                      <p:stCondLst>
                        <p:cond delay="0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28760" y="1571760"/>
            <a:ext cx="7143480" cy="5072040"/>
          </a:xfrm>
          <a:prstGeom prst="rect">
            <a:avLst/>
          </a:prstGeom>
          <a:solidFill>
            <a:srgbClr val="3e8ea9"/>
          </a:solidFill>
          <a:ln w="57240">
            <a:solidFill>
              <a:srgbClr val="756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1</a:t>
            </a:r>
            <a:r>
              <a:rPr b="1" lang="ru-RU" sz="32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. Главное занятие - земледел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2. Появление рыночного хозяй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3. Большая роль землевладельческой знати в управл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4. Разрушение сослов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5. Ценность традиций и религ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6. Распространение грамотности и образов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01000" y="1571760"/>
            <a:ext cx="785880" cy="57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9888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01000" y="2428920"/>
            <a:ext cx="785880" cy="57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af973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01000" y="3214800"/>
            <a:ext cx="785880" cy="57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af973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01000" y="4143240"/>
            <a:ext cx="785880" cy="571680"/>
          </a:xfrm>
          <a:prstGeom prst="rect">
            <a:avLst/>
          </a:prstGeom>
          <a:solidFill>
            <a:srgbClr val="ffffff"/>
          </a:solidFill>
          <a:ln w="57240">
            <a:solidFill>
              <a:srgbClr val="af973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01000" y="5000760"/>
            <a:ext cx="785880" cy="57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9888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01000" y="6000840"/>
            <a:ext cx="785880" cy="57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af973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9140000">
            <a:off x="8204040" y="1598400"/>
            <a:ext cx="428760" cy="357120"/>
          </a:xfrm>
          <a:prstGeom prst="roundRect">
            <a:avLst>
              <a:gd name="adj" fmla="val 444"/>
            </a:avLst>
          </a:prstGeom>
          <a:solidFill>
            <a:srgbClr val="ff0000"/>
          </a:solidFill>
          <a:ln w="25560">
            <a:solidFill>
              <a:srgbClr val="9888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9140000">
            <a:off x="8204040" y="3241440"/>
            <a:ext cx="428760" cy="357120"/>
          </a:xfrm>
          <a:prstGeom prst="roundRect">
            <a:avLst>
              <a:gd name="adj" fmla="val 444"/>
            </a:avLst>
          </a:prstGeom>
          <a:solidFill>
            <a:srgbClr val="ff0000"/>
          </a:solidFill>
          <a:ln w="25560">
            <a:solidFill>
              <a:srgbClr val="9888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140000">
            <a:off x="8204040" y="5027400"/>
            <a:ext cx="428760" cy="357120"/>
          </a:xfrm>
          <a:prstGeom prst="roundRect">
            <a:avLst>
              <a:gd name="adj" fmla="val 444"/>
            </a:avLst>
          </a:prstGeom>
          <a:solidFill>
            <a:srgbClr val="ff0000"/>
          </a:solidFill>
          <a:ln w="25560">
            <a:solidFill>
              <a:srgbClr val="9888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dur="indefinite" fill="hold">
                      <p:stCondLst>
                        <p:cond delay="0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572320" cy="1143000"/>
          </a:xfrm>
          <a:prstGeom prst="rect">
            <a:avLst/>
          </a:prstGeom>
          <a:solidFill>
            <a:srgbClr val="808080"/>
          </a:solidFill>
          <a:ln w="57240">
            <a:solidFill>
              <a:srgbClr val="756525"/>
            </a:solidFill>
            <a:round/>
          </a:ln>
        </p:spPr>
        <p:txBody>
          <a:bodyPr lIns="90000" rIns="90000" tIns="874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Lucida Sans"/>
              </a:rPr>
              <a:t>Критерии оценивания</a:t>
            </a:r>
            <a:r>
              <a:rPr b="1" lang="ru-RU" sz="48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"/>
          <p:cNvSpPr/>
          <p:nvPr/>
        </p:nvSpPr>
        <p:spPr>
          <a:xfrm>
            <a:off x="285840" y="1571760"/>
            <a:ext cx="8572320" cy="2143080"/>
          </a:xfrm>
          <a:prstGeom prst="rect">
            <a:avLst/>
          </a:prstGeom>
          <a:solidFill>
            <a:srgbClr val="3e8ea9"/>
          </a:solidFill>
          <a:ln w="57240">
            <a:solidFill>
              <a:srgbClr val="756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4680" indent="-408240"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4680" indent="-408240"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Book Antiqua"/>
              </a:rPr>
              <a:t>1 ошибка- «3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544680" indent="-408240"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4200" spc="-1" strike="noStrike">
                <a:solidFill>
                  <a:srgbClr val="ffffff"/>
                </a:solidFill>
                <a:latin typeface="Book Antiqua"/>
              </a:rPr>
              <a:t>все признаки выделены правильно- «4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544680" indent="-408240"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4200" spc="-1" strike="noStrike">
                <a:solidFill>
                  <a:srgbClr val="ffffff"/>
                </a:solidFill>
                <a:latin typeface="Book Antiqua"/>
              </a:rPr>
              <a:t>дописаны недостающие признаки – «5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544680" indent="-408240"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4200" y="4786200"/>
            <a:ext cx="3929040" cy="1876680"/>
          </a:xfrm>
          <a:prstGeom prst="rect">
            <a:avLst/>
          </a:prstGeom>
          <a:solidFill>
            <a:srgbClr val="808080"/>
          </a:solidFill>
          <a:ln w="57240">
            <a:solidFill>
              <a:srgbClr val="756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  <a:ea typeface="Lucida Sans Unicode"/>
              </a:rPr>
              <a:t>           </a:t>
            </a:r>
            <a:r>
              <a:rPr b="1" lang="ru-RU" sz="3200" spc="-1" strike="noStrike">
                <a:solidFill>
                  <a:srgbClr val="ffff00"/>
                </a:solidFill>
                <a:latin typeface="Book Antiqua"/>
                <a:ea typeface="Lucida Sans Unicode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сохра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натурального хозяй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сословный ст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57800" y="4786200"/>
            <a:ext cx="4572000" cy="1876680"/>
          </a:xfrm>
          <a:prstGeom prst="rect">
            <a:avLst/>
          </a:prstGeom>
          <a:solidFill>
            <a:srgbClr val="808080"/>
          </a:solidFill>
          <a:ln w="57240">
            <a:solidFill>
              <a:srgbClr val="756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 Antiqua"/>
                <a:ea typeface="Lucida Sans Unicode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уменьшение роли религии, появление демократических выборов и парла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43040" y="3857760"/>
            <a:ext cx="6143760" cy="707760"/>
          </a:xfrm>
          <a:prstGeom prst="rect">
            <a:avLst/>
          </a:prstGeom>
          <a:noFill/>
          <a:ln w="57240">
            <a:solidFill>
              <a:srgbClr val="3e8e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  <a:ea typeface="Lucida Sans Unicode"/>
              </a:rPr>
              <a:t>недостающие призна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760" y="0"/>
            <a:ext cx="8229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2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  <a:ea typeface="Lucida Sans Unicode"/>
              </a:rPr>
              <a:t>Урунова Н.М. г.Лангепас ХМАО МОУ СОШ №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0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63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14200" y="642960"/>
          <a:ext cx="8643600" cy="5715000"/>
        </p:xfrm>
        <a:graphic>
          <a:graphicData uri="http://schemas.openxmlformats.org/drawingml/2006/table">
            <a:tbl>
              <a:tblPr/>
              <a:tblGrid>
                <a:gridCol w="1693800"/>
                <a:gridCol w="1805400"/>
                <a:gridCol w="1583280"/>
                <a:gridCol w="1694160"/>
                <a:gridCol w="1866960"/>
              </a:tblGrid>
              <a:tr h="2136600">
                <a:tc>
                  <a:txBody>
                    <a:bodyPr lIns="68400" rIns="68400" tIns="14616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од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 gridSpan="4">
                  <a:txBody>
                    <a:bodyPr lIns="68400" rIns="68400" tIns="14616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охраняется или разрушается аграрное обществ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4240">
                <a:tc>
                  <a:txBody>
                    <a:bodyPr lIns="68400" rIns="68400" tIns="117000" bIns="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05-153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e8ea9"/>
                    </a:solidFill>
                  </a:tcPr>
                </a:tc>
                <a:tc>
                  <a:txBody>
                    <a:bodyPr lIns="68400" rIns="68400" tIns="8784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оном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e8ea9"/>
                    </a:solidFill>
                  </a:tcPr>
                </a:tc>
                <a:tc>
                  <a:txBody>
                    <a:bodyPr lIns="68400" rIns="68400" tIns="8784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e8ea9"/>
                    </a:solidFill>
                  </a:tcPr>
                </a:tc>
                <a:tc>
                  <a:txBody>
                    <a:bodyPr lIns="68400" rIns="68400" tIns="8784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и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e8ea9"/>
                    </a:solidFill>
                  </a:tcPr>
                </a:tc>
                <a:tc>
                  <a:txBody>
                    <a:bodyPr lIns="68400" rIns="68400" tIns="87840" bIns="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e8ea9"/>
                    </a:solidFill>
                  </a:tcPr>
                </a:tc>
              </a:tr>
              <a:tr h="142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500040" y="142920"/>
            <a:ext cx="8229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63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"/>
          <p:cNvSpPr/>
          <p:nvPr/>
        </p:nvSpPr>
        <p:spPr>
          <a:xfrm>
            <a:off x="285840" y="285840"/>
            <a:ext cx="2928960" cy="6357960"/>
          </a:xfrm>
          <a:prstGeom prst="rect">
            <a:avLst/>
          </a:prstGeom>
          <a:solidFill>
            <a:srgbClr val="808080"/>
          </a:solidFill>
          <a:ln w="57240">
            <a:solidFill>
              <a:srgbClr val="756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Book Antiqua"/>
              </a:rPr>
              <a:t>1 ря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Book Antiqua"/>
              </a:rPr>
              <a:t>Прочит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Book Antiqua"/>
              </a:rPr>
              <a:t>текст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Book Antiqua"/>
              </a:rPr>
              <a:t>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Book Antiqua"/>
              </a:rPr>
              <a:t>с.23- 25, 2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Book Antiqua"/>
              </a:rPr>
              <a:t>Выполн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Book Antiqua"/>
              </a:rPr>
              <a:t>задание 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Book Antiqua"/>
              </a:rPr>
              <a:t>иллюстрации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1" lang="ru-RU" sz="3600" spc="-1" strike="noStrike" u="sng">
                <a:solidFill>
                  <a:srgbClr val="ffff00"/>
                </a:solidFill>
                <a:uFillTx/>
                <a:latin typeface="Book Antiqua"/>
              </a:rPr>
              <a:t>с. 2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57720" y="285840"/>
            <a:ext cx="2714400" cy="6357960"/>
          </a:xfrm>
          <a:prstGeom prst="rect">
            <a:avLst/>
          </a:prstGeom>
          <a:solidFill>
            <a:srgbClr val="e2d5a3"/>
          </a:solidFill>
          <a:ln w="57240">
            <a:solidFill>
              <a:srgbClr val="756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253d75"/>
                </a:solidFill>
                <a:uFillTx/>
                <a:latin typeface="Book Antiqua"/>
                <a:ea typeface="Lucida Sans Unicode"/>
              </a:rPr>
              <a:t>2ряд- </a:t>
            </a:r>
            <a:r>
              <a:rPr b="1" lang="ru-RU" sz="2800" spc="-1" strike="noStrike">
                <a:solidFill>
                  <a:srgbClr val="253d75"/>
                </a:solidFill>
                <a:latin typeface="Book Antiqua"/>
                <a:ea typeface="Lucida Sans Unicode"/>
              </a:rPr>
              <a:t>Прочит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53d75"/>
                </a:solidFill>
                <a:latin typeface="Book Antiqua"/>
                <a:ea typeface="Lucida Sans Unicode"/>
              </a:rPr>
              <a:t>текст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253d75"/>
                </a:solidFill>
                <a:uFillTx/>
                <a:latin typeface="Book Antiqua"/>
                <a:ea typeface="Lucida Sans Unicode"/>
              </a:rPr>
              <a:t>с. 25- 28 </a:t>
            </a:r>
            <a:r>
              <a:rPr b="1" lang="ru-RU" sz="2800" spc="-1" strike="noStrike">
                <a:solidFill>
                  <a:srgbClr val="253d75"/>
                </a:solidFill>
                <a:latin typeface="Book Antiqua"/>
                <a:ea typeface="Lucida Sans Unicode"/>
              </a:rPr>
              <a:t>(русские села и их владельцы). Задание к иллюстрации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253d75"/>
                </a:solidFill>
                <a:uFillTx/>
                <a:latin typeface="Book Antiqua"/>
                <a:ea typeface="Lucida Sans Unicode"/>
              </a:rPr>
              <a:t>с. 27</a:t>
            </a:r>
            <a:r>
              <a:rPr b="1" lang="ru-RU" sz="2800" spc="-1" strike="noStrike" u="sng">
                <a:solidFill>
                  <a:srgbClr val="253d75"/>
                </a:solidFill>
                <a:uFillTx/>
                <a:latin typeface="Book Antiqua"/>
                <a:ea typeface="Lucida Sans Unicod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15040" y="285840"/>
            <a:ext cx="2714760" cy="6379920"/>
          </a:xfrm>
          <a:prstGeom prst="rect">
            <a:avLst/>
          </a:prstGeom>
          <a:solidFill>
            <a:srgbClr val="a5a3a8"/>
          </a:solidFill>
          <a:ln w="57240">
            <a:solidFill>
              <a:srgbClr val="7565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2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  <a:ea typeface="Lucida Sans Unicode"/>
              </a:rPr>
              <a:t>3 ряд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300" spc="-1" strike="noStrike" u="sng">
                <a:solidFill>
                  <a:srgbClr val="000000"/>
                </a:solidFill>
                <a:uFillTx/>
                <a:latin typeface="Book Antiqua"/>
                <a:ea typeface="Lucida Sans Unicode"/>
              </a:rPr>
              <a:t>с. 29-31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ook Antiqua"/>
                <a:ea typeface="Lucida Sans Unicode"/>
              </a:rPr>
              <a:t>Сравни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ook Antiqua"/>
                <a:ea typeface="Lucida Sans Unicode"/>
              </a:rPr>
              <a:t>российский 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ook Antiqua"/>
                <a:ea typeface="Lucida Sans Unicode"/>
              </a:rPr>
              <a:t>европейск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ook Antiqua"/>
                <a:ea typeface="Lucida Sans Unicode"/>
              </a:rPr>
              <a:t>города ХV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ook Antiqua"/>
                <a:ea typeface="Lucida Sans Unicode"/>
              </a:rPr>
              <a:t>век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ook Antiqua"/>
                <a:ea typeface="Lucida Sans Unicode"/>
              </a:rPr>
              <a:t>внешний вид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ook Antiqua"/>
                <a:ea typeface="Lucida Sans Unicode"/>
              </a:rPr>
              <a:t>образ жизни 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ook Antiqua"/>
                <a:ea typeface="Lucida Sans Unicode"/>
              </a:rPr>
              <a:t>занят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ook Antiqua"/>
                <a:ea typeface="Lucida Sans Unicode"/>
              </a:rPr>
              <a:t>жителе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040" y="0"/>
            <a:ext cx="8229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dur="indefinite" fill="hold">
                      <p:stCondLst>
                        <p:cond delay="0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